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4A7E0-1AE2-4E46-B973-AA7E48013B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1E07-452D-443A-A176-776DEC5BD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5096-DC1C-4DAC-B92C-BC310A3502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4BF8-350A-4A0C-8F53-BDBBC991BC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3BF6-42C3-4D15-81F5-10EFAC34DC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B8D8-F368-4748-B2F8-3513F30471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D58C-8A4D-44DC-A352-9B0EA827D5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4039-6278-4846-BD72-269E5340A0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AD7C-12C1-4E04-93B6-948769FFAF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1207-6217-42F5-B36F-89B8814644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11FC-11B7-4DFF-B858-35996DC126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2140-C931-4769-AD71-49034DA072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3D28A-125F-4989-BBC8-62FDCC52C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F4E1-052E-4976-8EC8-E30AE4FCA47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E6661-699A-442A-9FD3-33AE356881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4E852-28FF-4DFE-8DED-D863E6897D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C513F-682A-4240-AD0E-89A14563E11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9B775-82CA-44BF-BF28-873F18CC81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5E271-4D36-4FCF-A465-DBAB39EFAEB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69DD6-9948-4B71-8FE3-DD410C3E8D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4DD6D-BF99-4054-AB6B-864616AF094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FAE37-4194-42A4-8352-D83B9F693F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4EA3F-FB48-4285-AC36-3EDD7E78B1D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4FCE6-E58D-45E2-A087-7110EEBAC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9D8D-287C-4A32-85D1-51B373E569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B1C06-4EB2-46B5-A4A0-0224FD24A7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D47CD-AB59-4FC4-AE06-E832E44610B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E30D2-CDB6-4018-BA76-24A65F494D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978DF-9026-471A-BE36-D2AA3D2011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D5B87-DFC1-4528-9366-AB4223BB42C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94BCB-53A2-4052-A28E-03C3BF64DDD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DEADE-868B-491A-B56B-8D6D9E95CA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D8818-FEF7-48F1-B15F-62D6B52DB7C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1DCF3-B5C4-41B4-A2C3-A9C4298C22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C137C-3D5E-4ECD-95B1-71281C160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9AAC-B9A5-4888-AD96-4F88D2CD47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84C40-D737-4E5A-95C7-A9E5AC3053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9172E-9F20-4CB8-8A89-F7743FA700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F60C1-FF25-4598-9839-314A64FE3A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9C3B-E438-47E5-98B4-C2721618B3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538F-686E-46C3-9818-A364AF45FA6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6B4B-536D-45F0-A4B5-24C7C7EDEED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B849-EEAB-4514-BE87-5AF5027AD6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DEDF-42B6-4265-8A1A-8A7C991571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BA39-0EAE-47B8-ACB0-A2BF7C101C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5A9F-1F7B-4003-BBB0-2A2F199BD2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0FA3-5C1F-44F3-83B0-FC5697586A5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373F-21E7-4E5D-84E2-AA8C5128F06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63B6-2B9B-42BA-BE80-9DF105F79C0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DC45-460B-4061-9485-DD302C08B76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7459-766F-4DFD-B604-82ABF1D8F8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0765-5A53-497C-990D-5900C2D167E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E7225-4097-48D8-9ED0-9563700318A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BFF5B0-D76B-4781-B2A8-1E4CCA840FA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F5DD9-2D19-402C-A8D3-3B1A78039F1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9D3743-5A62-4726-AB05-A9D3FD8DEB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1C05F-E2F2-4461-A77D-96BDE5E6CD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2B4D-F495-4A3F-A4D1-BF2B70D9231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B1243-E0A8-46F3-AEBA-B0A7B79231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EB600-929E-433E-B4A1-EFD28015F92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2327C-593F-40BF-8C0D-EAD87F3C5CE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12B51E-D3F6-4DF2-B26D-B7737F5B11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853305-A045-4051-8D60-D4A44E8CD4F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80BB4-9CDE-42A4-9A15-D83D18F776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8A2A90-2E69-4DC5-9023-682CAD8267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3BE95-0BF9-4D71-8D85-628A40F362E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9FAA9-673C-4F1E-867D-7A6CF232E9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01E40-63B5-4168-93BE-746DB075D3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5E41-3FF2-4D74-91E3-C0DF9B84EED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0730B-5200-490C-846A-62F412C790C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4E635-6D9D-4274-8F4B-2D6329E0285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20039-14B8-4CE1-88AE-77964C4BA9A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F7F43-5D7A-4F59-9ACD-4B8E98C17EA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DA337-69E6-4C3B-8635-8A5C2A71A3F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1B682-2491-4A9E-A7D0-E7A483A18B5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E413A-2A4C-4AF7-AB8A-D46304589A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31F37-5E6E-4F64-94B8-0331A871C86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6F715-2A58-4555-99FF-CFD2005615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DCDE-C820-4D7C-8DB8-3154D17F5B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6ED2-9778-4508-8BF4-B7643531310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9D20E-3A45-47C2-98C7-EBCAB5A21C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F679-6637-4C28-8B4A-C99C81E0A97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CF16-4C10-4320-AFC6-7C62481A8AB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9E36-97A3-4AE2-A2A0-D0F45497A28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5E5B-D9FE-4842-80FA-BB599EFE4D5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C266-843A-4A4F-AFDA-C8F2C40826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D25C0-DCFF-4750-98AB-F02C527EC00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3B83-2BFC-4E67-ADA6-024893894E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08E1-ACDF-47D4-8162-3AA04975886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58BD-9E8E-4661-9103-3C8C6A27D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6F0B-F8EE-474F-8881-9AB69C2A3C8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20D8-2D93-4AC3-8169-385F428FC3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AE3985-0771-4914-85D7-38C6BBAA43F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D3C1A-F180-41DE-B97D-DD1ACDB7ADB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84E42-3867-4D42-AB30-8742DB2D2E8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B34EE5-9DFE-4CA1-8BE8-8119CE0DD88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6F47DD-FE14-46D0-B24A-FC871D3268A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7EE8AF-CB52-49AA-9C8D-FF9A20A9987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E743F-F483-448E-BDF7-2D5131370AC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2A21D3-003F-4EBE-BF8B-57395B4357B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72CE7-1BC5-450B-9E48-514F6C8201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E99F-E247-44D7-A6E9-DADBD1F16FF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3DCDB-7B93-4583-8D27-DFB4D37ED78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F17DC-0506-4538-B816-8C4FFABB506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BBF2B-85D9-49BC-BCEE-62021557B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9D6A-F63D-458D-BD60-20DC2A67A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E2FB-8D0D-4EC0-BB6E-414FB12DE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0344-A3B9-4904-B189-C08CAEE0EA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D794-5683-4791-BF57-F8EBB65F45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DCF7-7BE5-4E38-B54D-2E1868BCE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C215-0636-41F6-B95C-5B2EAFBFE0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AF3-47C8-4BB8-9D02-1345A26BAC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925-6978-4730-9056-EA4AE54029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F53-93FB-4659-8464-96FBEB9519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233-075D-4D2F-A7AF-5A8F6CD72A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0F6-182F-4681-9E29-1EEF6E81D1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BB6B-3C8E-43D9-A57C-5E5050DB23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042-4C56-46DC-AA4C-2509D08346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E62-BEB1-4AC9-A3DB-59B1C12448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DD7-167D-4F88-88AA-96E6C282C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5BA-0C13-46A4-A99C-5AC036E7CD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25E-A321-48F0-B3BA-AF36C3999D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33C-AD51-4E15-BB9E-D1E78A7BDF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3B1-7076-4A0D-A5BE-234C8F7B64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EA803-A91E-469A-A064-A1FA5A706A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8890A-2C90-488E-8117-5CBCE1A122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C86B5-9AD6-40F4-991D-5BB1F351B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E6C4-0097-4B0D-BBDA-06E96200D8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4EA54-45BD-43DE-A560-20BA9DDC12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30B63-B007-413A-A8F3-6CF0DEF194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1DC81-51B7-401B-87D9-C8A6311EF5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3757-E223-4ADE-A7F7-95A7947F68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6AA3F-EC9D-42D7-BFAD-231A6D39F6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7D1AD-0BC5-4346-B235-41A5B82175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9DF4D-09C2-40DE-B60D-759E44F909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1709B-4592-4DFF-9E3C-C3C95D3960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1360C-55EB-497D-BDD0-F43DA405A8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06974-B6BF-44C3-BEF3-454A46ACB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72A7-A194-43DB-BD96-7A2CAD5A12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48F78-A9DD-48EC-8B90-32F141759A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71F9C-5958-43F6-BE82-FA73CD064F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C4BEA-C578-459A-8501-0D5E3A4D1F0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92B15-546C-41B7-9454-389076CFD4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EDABB-2B78-4497-814E-AA27187709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2C5D-D727-436E-B9DE-3F24BB9D75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E7E4A-DB99-4A1E-BB54-CD9B54A00C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31B32-1CC2-4EDE-9EAF-0FA9F4F083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041A7-A3E0-4D73-9F52-C85F13F34A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98FB-BCB8-43C4-887A-94E976CF7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0DBE-485D-46BD-BF91-9EDB822B41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1C6BC-71F3-4A24-8320-8E4642B203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253-443D-4465-9708-2A22F4B25C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589A-D502-4B64-985D-0A4AAE410B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7CD-AEC4-40B9-BC76-70A38F55C1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D89A-A8B6-4978-BD9F-B69674CFDB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A4C7-8AE5-4AF7-AF68-03FE277475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FD8F-516B-4D48-8B94-95201BE669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56FF-F4AD-4C37-BA40-2722CA50F9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9937-A3F4-4D0A-8677-9CA4B0E0C2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7DDE-E536-40CE-B463-9AF4EE19E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9731-695C-48A8-B354-68640E9CFA4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6EB-CE12-4663-9960-42250A41B7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37E7-1579-45E2-8CC1-DCC1702029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FEF-4F4A-49EA-8C21-FB9B5D4228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F8AE8-6ED9-4207-B693-56F747039E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6EF86-8C86-4731-A1FF-B8351E2318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ADB5A-D045-4EDC-985D-81236F4822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0F1F0-7F19-47B7-A17F-D77DCBED8F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1D02A-94E6-46A6-A145-FC8D27F0AA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30409-4E05-4193-B57E-70692791A4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A5FBB-E154-48EE-A030-F0646D972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1FBC-AA4B-4A66-BFDB-90C6D2775E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74830-90FA-49FE-B6FD-01887B77D7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A7746-D334-42A1-A46E-A1F85D1374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F58B9-F249-4088-BE11-8520172367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00BEE-43B4-46A8-BF18-FE9559B73E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6DAD9-58F7-4F3E-9A03-6FCB043D4E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E66C4-B28C-42EB-ABFC-BCED5572E01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E78EB-BD1D-4628-BFA0-F990118DB6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25B69-145D-4E45-B084-93C313EB3C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57D6A-61BD-4A77-B6F4-418E0D2814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D939E-8468-48FB-BF42-5C22FBF46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DCAA-3B2E-44FF-9ADA-554BCF8836C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FE96B-B501-4907-9DA5-54D2217361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AEE84-F621-4A23-AE4A-E3DB60023A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4E750-FCC2-491A-8D68-AFBE878E48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FEE95-3BF8-4F78-99C4-5CD5766FFA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D979C-727D-4E8F-85B0-FB74D2744B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B2904-79E9-4822-94B2-6F45FA254D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30C7B-66A4-4E00-9696-767A2DEC51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26AF-23D4-4C29-9550-1B4A41ED77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A418-6E7D-47AF-8385-0515AD1DF4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E6CF-A26B-424E-8FDF-76EC72681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1E5098-4D31-4543-AAD2-ADAD778DC3A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2C81D9-B35A-4B95-836E-8137C62E5D1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0F6B9A-1105-406E-8F4D-4327C995762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599164-BAEF-464C-B707-8CBE76DC576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4F4319-8C47-43E8-A54D-4905D9020BD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077617-7616-4869-B9E0-3A53799D75D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18BEB6-9C19-4F2F-B312-75528A4E262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8815E8-2C75-4297-80AE-144AA2F4C44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943B93-804C-412E-BB48-B281B6BBD49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EBD81F-EE82-4425-A2E8-E7F398A0342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2D3F72-DCF8-4A77-B462-80F4F4AE2FC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B500F3-018F-456B-9F03-93F94F9356D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ABD233-8A0C-41C8-91E9-14A4D6C258B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B343E1-DA1A-4550-A47E-32671D46DDA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F13ED0-88F9-4D62-83B5-47EA2BAB628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01FF85-ECFF-4105-A019-5383394EABC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http://www.nauticexpo.com.mx/prod/barcos-cientificos-45639.html?&amp;idvisite=97816&amp;RefCat=PA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nauticexpo.com.mx/prod/barcos-cientificos-45639.html?&amp;idvisite=97816&amp;RefCat=PA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5B899-FA64-4208-91E2-187F5374527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00000" y="395280"/>
            <a:ext cx="775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774720" y="1988640"/>
            <a:ext cx="7939800" cy="865440"/>
            <a:chOff x="774720" y="1988640"/>
            <a:chExt cx="7939800" cy="865440"/>
          </a:xfrm>
        </p:grpSpPr>
        <p:grpSp>
          <p:nvGrpSpPr>
            <p:cNvPr id="1141" name=""/>
            <p:cNvGrpSpPr/>
            <p:nvPr/>
          </p:nvGrpSpPr>
          <p:grpSpPr>
            <a:xfrm>
              <a:off x="1805040" y="2205000"/>
              <a:ext cx="6909480" cy="649080"/>
              <a:chOff x="1805040" y="2205000"/>
              <a:chExt cx="6909480" cy="649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1805040" y="2205000"/>
                <a:ext cx="6909480" cy="64908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56160" y="2351520"/>
                <a:ext cx="68072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LA MAYORÍAIA EN PARAI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74720" y="1988280"/>
              <a:ext cx="1030320" cy="7052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705240"/>
                <a:gd name="textAreaBottom" fmla="*/ 705240 h 7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74720" y="2062080"/>
            <a:ext cx="7920720" cy="1510920"/>
            <a:chOff x="774720" y="2062080"/>
            <a:chExt cx="7920720" cy="1510920"/>
          </a:xfrm>
        </p:grpSpPr>
        <p:grpSp>
          <p:nvGrpSpPr>
            <p:cNvPr id="1146" name=""/>
            <p:cNvGrpSpPr/>
            <p:nvPr/>
          </p:nvGrpSpPr>
          <p:grpSpPr>
            <a:xfrm>
              <a:off x="1805040" y="2933280"/>
              <a:ext cx="6890400" cy="639720"/>
              <a:chOff x="1805040" y="2933280"/>
              <a:chExt cx="6890400" cy="639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1805040" y="2933280"/>
                <a:ext cx="6890400" cy="639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55800" y="3079080"/>
                <a:ext cx="67885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SIN PATRIMONIO ACORDE AL VOLUMEN OPERA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74720" y="2062080"/>
              <a:ext cx="1029960" cy="1395360"/>
              <a:chOff x="774720" y="2062080"/>
              <a:chExt cx="1029960" cy="1395360"/>
            </a:xfrm>
          </p:grpSpPr>
          <p:sp>
            <p:nvSpPr>
              <p:cNvPr id="1150" name=""/>
              <p:cNvSpPr/>
              <p:nvPr/>
            </p:nvSpPr>
            <p:spPr>
              <a:xfrm flipV="1">
                <a:off x="774720" y="2701440"/>
                <a:ext cx="1029960" cy="7560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74720" y="2062080"/>
                <a:ext cx="315720" cy="75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2" name=""/>
          <p:cNvGrpSpPr/>
          <p:nvPr/>
        </p:nvGrpSpPr>
        <p:grpSpPr>
          <a:xfrm>
            <a:off x="755640" y="2997360"/>
            <a:ext cx="7921080" cy="1296720"/>
            <a:chOff x="755640" y="2997360"/>
            <a:chExt cx="7921080" cy="1296720"/>
          </a:xfrm>
        </p:grpSpPr>
        <p:grpSp>
          <p:nvGrpSpPr>
            <p:cNvPr id="1153" name=""/>
            <p:cNvGrpSpPr/>
            <p:nvPr/>
          </p:nvGrpSpPr>
          <p:grpSpPr>
            <a:xfrm>
              <a:off x="1785960" y="3670920"/>
              <a:ext cx="6890760" cy="623160"/>
              <a:chOff x="1785960" y="3670920"/>
              <a:chExt cx="6890760" cy="623160"/>
            </a:xfrm>
          </p:grpSpPr>
          <p:sp>
            <p:nvSpPr>
              <p:cNvPr id="1154" name=""/>
              <p:cNvSpPr/>
              <p:nvPr/>
            </p:nvSpPr>
            <p:spPr>
              <a:xfrm>
                <a:off x="1785960" y="3670920"/>
                <a:ext cx="6890760" cy="6231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836720" y="3811320"/>
                <a:ext cx="67888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EN ALGUNOS CASOS SIN EMPLEA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755640" y="2997360"/>
              <a:ext cx="1029960" cy="1140840"/>
              <a:chOff x="755640" y="2997360"/>
              <a:chExt cx="1029960" cy="114084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755640" y="3463560"/>
                <a:ext cx="1029960" cy="6746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4640"/>
                  <a:gd name="textAreaBottom" fmla="*/ 675360 h 6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5640" y="2997360"/>
                <a:ext cx="315720" cy="67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9" name=""/>
          <p:cNvGrpSpPr/>
          <p:nvPr/>
        </p:nvGrpSpPr>
        <p:grpSpPr>
          <a:xfrm>
            <a:off x="755640" y="3716280"/>
            <a:ext cx="7921080" cy="1297080"/>
            <a:chOff x="755640" y="3716280"/>
            <a:chExt cx="7921080" cy="1297080"/>
          </a:xfrm>
        </p:grpSpPr>
        <p:grpSp>
          <p:nvGrpSpPr>
            <p:cNvPr id="1160" name=""/>
            <p:cNvGrpSpPr/>
            <p:nvPr/>
          </p:nvGrpSpPr>
          <p:grpSpPr>
            <a:xfrm>
              <a:off x="1785960" y="4390560"/>
              <a:ext cx="6890760" cy="622800"/>
              <a:chOff x="1785960" y="4390560"/>
              <a:chExt cx="6890760" cy="622800"/>
            </a:xfrm>
          </p:grpSpPr>
          <p:sp>
            <p:nvSpPr>
              <p:cNvPr id="1161" name=""/>
              <p:cNvSpPr/>
              <p:nvPr/>
            </p:nvSpPr>
            <p:spPr>
              <a:xfrm>
                <a:off x="1785960" y="4390560"/>
                <a:ext cx="6890760" cy="622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36720" y="4532400"/>
                <a:ext cx="67888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NO AGREGABAN VALOR A LA CADENA COMER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755640" y="3716280"/>
              <a:ext cx="1029960" cy="1140120"/>
              <a:chOff x="755640" y="3716280"/>
              <a:chExt cx="1029960" cy="114012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755640" y="4181760"/>
                <a:ext cx="1029960" cy="6742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5640" y="3716280"/>
                <a:ext cx="315720" cy="67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6" name=""/>
          <p:cNvGrpSpPr/>
          <p:nvPr/>
        </p:nvGrpSpPr>
        <p:grpSpPr>
          <a:xfrm>
            <a:off x="774720" y="4438800"/>
            <a:ext cx="7920720" cy="1287360"/>
            <a:chOff x="774720" y="4438800"/>
            <a:chExt cx="7920720" cy="1287360"/>
          </a:xfrm>
        </p:grpSpPr>
        <p:grpSp>
          <p:nvGrpSpPr>
            <p:cNvPr id="1167" name=""/>
            <p:cNvGrpSpPr/>
            <p:nvPr/>
          </p:nvGrpSpPr>
          <p:grpSpPr>
            <a:xfrm>
              <a:off x="1805040" y="5108040"/>
              <a:ext cx="6890400" cy="618120"/>
              <a:chOff x="1805040" y="5108040"/>
              <a:chExt cx="6890400" cy="618120"/>
            </a:xfrm>
          </p:grpSpPr>
          <p:sp>
            <p:nvSpPr>
              <p:cNvPr id="1168" name=""/>
              <p:cNvSpPr/>
              <p:nvPr/>
            </p:nvSpPr>
            <p:spPr>
              <a:xfrm>
                <a:off x="1805040" y="5108040"/>
                <a:ext cx="6890400" cy="61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55800" y="5243040"/>
                <a:ext cx="678852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NO LOCALIZABAN  CLIENTES NUE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774720" y="4438800"/>
              <a:ext cx="1029960" cy="1131480"/>
              <a:chOff x="774720" y="4438800"/>
              <a:chExt cx="1029960" cy="1131480"/>
            </a:xfrm>
          </p:grpSpPr>
          <p:sp>
            <p:nvSpPr>
              <p:cNvPr id="1171" name=""/>
              <p:cNvSpPr/>
              <p:nvPr/>
            </p:nvSpPr>
            <p:spPr>
              <a:xfrm flipV="1">
                <a:off x="774720" y="4901400"/>
                <a:ext cx="1029960" cy="6688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68880"/>
                  <a:gd name="textAreaBottom" fmla="*/ 669600 h 66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4720" y="4438800"/>
                <a:ext cx="315720" cy="66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250920" y="1268280"/>
            <a:ext cx="8476560" cy="733320"/>
            <a:chOff x="250920" y="1268280"/>
            <a:chExt cx="8476560" cy="733320"/>
          </a:xfrm>
        </p:grpSpPr>
        <p:sp>
          <p:nvSpPr>
            <p:cNvPr id="1174" name=""/>
            <p:cNvSpPr/>
            <p:nvPr/>
          </p:nvSpPr>
          <p:spPr>
            <a:xfrm>
              <a:off x="250920" y="1268280"/>
              <a:ext cx="847656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920" y="1405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5- CARACTERÍSTICAS DE LOS INTERMEDI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55640" y="5157720"/>
            <a:ext cx="7921080" cy="1295640"/>
            <a:chOff x="755640" y="5157720"/>
            <a:chExt cx="7921080" cy="1295640"/>
          </a:xfrm>
        </p:grpSpPr>
        <p:grpSp>
          <p:nvGrpSpPr>
            <p:cNvPr id="1177" name=""/>
            <p:cNvGrpSpPr/>
            <p:nvPr/>
          </p:nvGrpSpPr>
          <p:grpSpPr>
            <a:xfrm>
              <a:off x="1785960" y="5831280"/>
              <a:ext cx="6890760" cy="622080"/>
              <a:chOff x="1785960" y="5831280"/>
              <a:chExt cx="6890760" cy="622080"/>
            </a:xfrm>
          </p:grpSpPr>
          <p:sp>
            <p:nvSpPr>
              <p:cNvPr id="1178" name=""/>
              <p:cNvSpPr/>
              <p:nvPr/>
            </p:nvSpPr>
            <p:spPr>
              <a:xfrm>
                <a:off x="1785960" y="5831280"/>
                <a:ext cx="6890760" cy="622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836720" y="5842440"/>
                <a:ext cx="67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NO REALIZABAN UNA VERDADERA FUNCION DE COMERCIALIZAC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755640" y="5157720"/>
              <a:ext cx="1029960" cy="1138680"/>
              <a:chOff x="755640" y="5157720"/>
              <a:chExt cx="1029960" cy="1138680"/>
            </a:xfrm>
          </p:grpSpPr>
          <p:sp>
            <p:nvSpPr>
              <p:cNvPr id="1181" name=""/>
              <p:cNvSpPr/>
              <p:nvPr/>
            </p:nvSpPr>
            <p:spPr>
              <a:xfrm flipV="1">
                <a:off x="755640" y="5623200"/>
                <a:ext cx="1029960" cy="6732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55640" y="5157720"/>
                <a:ext cx="315720" cy="67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774720" y="2160360"/>
            <a:ext cx="7939800" cy="1512360"/>
            <a:chOff x="774720" y="2160360"/>
            <a:chExt cx="7939800" cy="1512360"/>
          </a:xfrm>
        </p:grpSpPr>
        <p:grpSp>
          <p:nvGrpSpPr>
            <p:cNvPr id="1185" name=""/>
            <p:cNvGrpSpPr/>
            <p:nvPr/>
          </p:nvGrpSpPr>
          <p:grpSpPr>
            <a:xfrm>
              <a:off x="1805040" y="2538720"/>
              <a:ext cx="6909480" cy="1134000"/>
              <a:chOff x="1805040" y="2538720"/>
              <a:chExt cx="6909480" cy="1134000"/>
            </a:xfrm>
          </p:grpSpPr>
          <p:sp>
            <p:nvSpPr>
              <p:cNvPr id="1186" name=""/>
              <p:cNvSpPr/>
              <p:nvPr/>
            </p:nvSpPr>
            <p:spPr>
              <a:xfrm>
                <a:off x="1805040" y="2538720"/>
                <a:ext cx="6909480" cy="113400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56160" y="2796840"/>
                <a:ext cx="680724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CIBÍAN ANTICIPOS DE EXPORTACIONES Y PRÉSTAMOS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Frutiger-Bold"/>
                  </a:rPr>
                  <a:t>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ESPROPORCIONADOS EN RELACIÓN A SU PATRIMON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774720" y="2160000"/>
              <a:ext cx="1030320" cy="12322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1232280"/>
                <a:gd name="textAreaBottom" fmla="*/ 1232280 h 12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774720" y="2374920"/>
            <a:ext cx="7920720" cy="2736000"/>
            <a:chOff x="774720" y="2374920"/>
            <a:chExt cx="7920720" cy="2736000"/>
          </a:xfrm>
        </p:grpSpPr>
        <p:grpSp>
          <p:nvGrpSpPr>
            <p:cNvPr id="1190" name=""/>
            <p:cNvGrpSpPr/>
            <p:nvPr/>
          </p:nvGrpSpPr>
          <p:grpSpPr>
            <a:xfrm>
              <a:off x="1805040" y="3952800"/>
              <a:ext cx="6890400" cy="1158120"/>
              <a:chOff x="1805040" y="3952800"/>
              <a:chExt cx="6890400" cy="11581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805040" y="3952800"/>
                <a:ext cx="6890400" cy="115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855800" y="4101480"/>
                <a:ext cx="6788520" cy="8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LAS VENTAS LAS REALIZABAN EN SU MAYORIA A SUJETOS VINCULADOS DEL EXPORTADOR ARGENTINO O A OTROS INTERMEDIARIOS EN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4720" y="2374920"/>
              <a:ext cx="1029960" cy="2527200"/>
              <a:chOff x="774720" y="2374920"/>
              <a:chExt cx="1029960" cy="2527200"/>
            </a:xfrm>
          </p:grpSpPr>
          <p:sp>
            <p:nvSpPr>
              <p:cNvPr id="1194" name=""/>
              <p:cNvSpPr/>
              <p:nvPr/>
            </p:nvSpPr>
            <p:spPr>
              <a:xfrm flipV="1">
                <a:off x="774720" y="3532680"/>
                <a:ext cx="1029960" cy="13694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369440"/>
                  <a:gd name="textAreaBottom" fmla="*/ 1370160 h 13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4720" y="2374920"/>
                <a:ext cx="315720" cy="13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"/>
          <p:cNvGrpSpPr/>
          <p:nvPr/>
        </p:nvGrpSpPr>
        <p:grpSpPr>
          <a:xfrm>
            <a:off x="271440" y="1484280"/>
            <a:ext cx="8476560" cy="732960"/>
            <a:chOff x="271440" y="1484280"/>
            <a:chExt cx="8476560" cy="732960"/>
          </a:xfrm>
        </p:grpSpPr>
        <p:sp>
          <p:nvSpPr>
            <p:cNvPr id="1197" name=""/>
            <p:cNvSpPr/>
            <p:nvPr/>
          </p:nvSpPr>
          <p:spPr>
            <a:xfrm>
              <a:off x="271440" y="1484280"/>
              <a:ext cx="8476560" cy="7329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440" y="1621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5- CARACTERÍSTICAS DE LOS INTERMEDIARIOS (cont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2195640" y="404640"/>
            <a:ext cx="5976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754200" y="2133360"/>
            <a:ext cx="7939800" cy="1294920"/>
            <a:chOff x="754200" y="2133360"/>
            <a:chExt cx="7939800" cy="1294920"/>
          </a:xfrm>
        </p:grpSpPr>
        <p:grpSp>
          <p:nvGrpSpPr>
            <p:cNvPr id="1202" name=""/>
            <p:cNvGrpSpPr/>
            <p:nvPr/>
          </p:nvGrpSpPr>
          <p:grpSpPr>
            <a:xfrm>
              <a:off x="1784520" y="2457360"/>
              <a:ext cx="6909480" cy="970920"/>
              <a:chOff x="1784520" y="2457360"/>
              <a:chExt cx="6909480" cy="970920"/>
            </a:xfrm>
          </p:grpSpPr>
          <p:sp>
            <p:nvSpPr>
              <p:cNvPr id="1203" name=""/>
              <p:cNvSpPr/>
              <p:nvPr/>
            </p:nvSpPr>
            <p:spPr>
              <a:xfrm>
                <a:off x="1784520" y="2457360"/>
                <a:ext cx="6909480" cy="97092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35640" y="2635200"/>
                <a:ext cx="680724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NO REALIZABAN CONTRATOS DE EXPORTACIÓN CON TANTA ANTICIPACION  A LA FECHA DE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 flipV="1">
              <a:off x="754200" y="2133000"/>
              <a:ext cx="1030320" cy="1055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1055160"/>
                <a:gd name="textAreaBottom" fmla="*/ 1055160 h 105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55640" y="2205000"/>
            <a:ext cx="7921080" cy="2302560"/>
            <a:chOff x="755640" y="2205000"/>
            <a:chExt cx="7921080" cy="2302560"/>
          </a:xfrm>
        </p:grpSpPr>
        <p:grpSp>
          <p:nvGrpSpPr>
            <p:cNvPr id="1207" name=""/>
            <p:cNvGrpSpPr/>
            <p:nvPr/>
          </p:nvGrpSpPr>
          <p:grpSpPr>
            <a:xfrm>
              <a:off x="1785960" y="3533040"/>
              <a:ext cx="6890760" cy="974520"/>
              <a:chOff x="1785960" y="3533040"/>
              <a:chExt cx="6890760" cy="974520"/>
            </a:xfrm>
          </p:grpSpPr>
          <p:sp>
            <p:nvSpPr>
              <p:cNvPr id="1208" name=""/>
              <p:cNvSpPr/>
              <p:nvPr/>
            </p:nvSpPr>
            <p:spPr>
              <a:xfrm>
                <a:off x="1785960" y="3533040"/>
                <a:ext cx="6890760" cy="9745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36720" y="3716640"/>
                <a:ext cx="67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EL PRECIO SE PACTABA A FECHA CERCANA A LA DE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55640" y="2205000"/>
              <a:ext cx="1029960" cy="2127240"/>
              <a:chOff x="755640" y="2205000"/>
              <a:chExt cx="1029960" cy="2127240"/>
            </a:xfrm>
          </p:grpSpPr>
          <p:sp>
            <p:nvSpPr>
              <p:cNvPr id="1211" name=""/>
              <p:cNvSpPr/>
              <p:nvPr/>
            </p:nvSpPr>
            <p:spPr>
              <a:xfrm flipV="1">
                <a:off x="755640" y="3179520"/>
                <a:ext cx="1029960" cy="115272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152720"/>
                  <a:gd name="textAreaBottom" fmla="*/ 11534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5640" y="2205000"/>
                <a:ext cx="315720" cy="115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250920" y="1340280"/>
            <a:ext cx="8476560" cy="824040"/>
            <a:chOff x="250920" y="1340280"/>
            <a:chExt cx="8476560" cy="824040"/>
          </a:xfrm>
        </p:grpSpPr>
        <p:sp>
          <p:nvSpPr>
            <p:cNvPr id="1214" name=""/>
            <p:cNvSpPr/>
            <p:nvPr/>
          </p:nvSpPr>
          <p:spPr>
            <a:xfrm>
              <a:off x="250920" y="1384920"/>
              <a:ext cx="8476560" cy="73404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31920" y="1340280"/>
              <a:ext cx="832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6- COMPARABI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¿CÓMO OPERABAN LOS INDEPENDIENTE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54200" y="3284640"/>
            <a:ext cx="7920720" cy="2304360"/>
            <a:chOff x="754200" y="3284640"/>
            <a:chExt cx="7920720" cy="2304360"/>
          </a:xfrm>
        </p:grpSpPr>
        <p:grpSp>
          <p:nvGrpSpPr>
            <p:cNvPr id="1217" name=""/>
            <p:cNvGrpSpPr/>
            <p:nvPr/>
          </p:nvGrpSpPr>
          <p:grpSpPr>
            <a:xfrm>
              <a:off x="1784520" y="4613760"/>
              <a:ext cx="6890400" cy="975240"/>
              <a:chOff x="1784520" y="4613760"/>
              <a:chExt cx="6890400" cy="975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1784520" y="4613760"/>
                <a:ext cx="6890400" cy="9752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35280" y="4674600"/>
                <a:ext cx="6788520" cy="85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SE COMPROBÓ QUE LOS INDEPENDIENTES OBTENÍAN POR SIMILARES EXPORTACIONES EL PRECIO DE MERCADO A FECHA DE EMBARQUE O SUPERI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754200" y="3284640"/>
              <a:ext cx="1029960" cy="2127600"/>
              <a:chOff x="754200" y="3284640"/>
              <a:chExt cx="1029960" cy="2127600"/>
            </a:xfrm>
          </p:grpSpPr>
          <p:sp>
            <p:nvSpPr>
              <p:cNvPr id="1221" name=""/>
              <p:cNvSpPr/>
              <p:nvPr/>
            </p:nvSpPr>
            <p:spPr>
              <a:xfrm flipV="1">
                <a:off x="754200" y="4258800"/>
                <a:ext cx="1029960" cy="11530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1153080"/>
                  <a:gd name="textAreaBottom" fmla="*/ 1153080 h 11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200" y="3284640"/>
                <a:ext cx="315720" cy="115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3" name=""/>
          <p:cNvSpPr/>
          <p:nvPr/>
        </p:nvSpPr>
        <p:spPr>
          <a:xfrm>
            <a:off x="2195640" y="404640"/>
            <a:ext cx="5976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9000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733320" y="1898640"/>
            <a:ext cx="7416720" cy="2565720"/>
            <a:chOff x="733320" y="1898640"/>
            <a:chExt cx="7416720" cy="2565720"/>
          </a:xfrm>
        </p:grpSpPr>
        <p:pic>
          <p:nvPicPr>
            <p:cNvPr id="1228" name="" descr=""/>
            <p:cNvPicPr/>
            <p:nvPr/>
          </p:nvPicPr>
          <p:blipFill>
            <a:blip r:embed="rId1"/>
            <a:stretch/>
          </p:blipFill>
          <p:spPr>
            <a:xfrm>
              <a:off x="733320" y="1898640"/>
              <a:ext cx="74167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1020600" y="2332080"/>
              <a:ext cx="684072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ORMA ANTIELUSION. INTRODUCE UN NUEVO METODO DE PRECIOS DE TRANS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N TODAS LAS OPERACIONES DE EXPORTACION EN LAS QUE INTERVENGA UN INTERMEDIARIO “PANTALLA” SE CONSIDERARA QUE NO SE ENCUENTRAN CELEBRADAS COMO ENTRE PARTES INDEPEND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050920" y="333360"/>
            <a:ext cx="51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733320" y="4923000"/>
            <a:ext cx="7416720" cy="1674000"/>
            <a:chOff x="733320" y="4923000"/>
            <a:chExt cx="7416720" cy="1674000"/>
          </a:xfrm>
        </p:grpSpPr>
        <p:pic>
          <p:nvPicPr>
            <p:cNvPr id="1232" name="" descr=""/>
            <p:cNvPicPr/>
            <p:nvPr/>
          </p:nvPicPr>
          <p:blipFill>
            <a:blip r:embed="rId2"/>
            <a:stretch/>
          </p:blipFill>
          <p:spPr>
            <a:xfrm>
              <a:off x="733320" y="4923000"/>
              <a:ext cx="74167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1020600" y="5356440"/>
              <a:ext cx="684072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VITAR Y DESALENTAR LA REALIZACION DE MANIOBRAS QUE PROVOCAN EL AHUECAMIENTO DE LA BASE IMPONIBLE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12600" y="1324080"/>
            <a:ext cx="5689440" cy="987120"/>
            <a:chOff x="12600" y="1324080"/>
            <a:chExt cx="5689440" cy="987120"/>
          </a:xfrm>
        </p:grpSpPr>
        <p:grpSp>
          <p:nvGrpSpPr>
            <p:cNvPr id="1235" name=""/>
            <p:cNvGrpSpPr/>
            <p:nvPr/>
          </p:nvGrpSpPr>
          <p:grpSpPr>
            <a:xfrm>
              <a:off x="12600" y="1324080"/>
              <a:ext cx="5689440" cy="987120"/>
              <a:chOff x="12600" y="1324080"/>
              <a:chExt cx="5689440" cy="987120"/>
            </a:xfrm>
          </p:grpSpPr>
          <p:pic>
            <p:nvPicPr>
              <p:cNvPr id="12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00" y="132408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"/>
              <p:cNvSpPr/>
              <p:nvPr/>
            </p:nvSpPr>
            <p:spPr>
              <a:xfrm>
                <a:off x="372960" y="149688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388800" y="163512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TURALEZA DE LA N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2600" y="4346640"/>
            <a:ext cx="5689440" cy="987480"/>
            <a:chOff x="12600" y="4346640"/>
            <a:chExt cx="5689440" cy="987480"/>
          </a:xfrm>
        </p:grpSpPr>
        <p:grpSp>
          <p:nvGrpSpPr>
            <p:cNvPr id="1240" name=""/>
            <p:cNvGrpSpPr/>
            <p:nvPr/>
          </p:nvGrpSpPr>
          <p:grpSpPr>
            <a:xfrm>
              <a:off x="12600" y="4346640"/>
              <a:ext cx="5689440" cy="987480"/>
              <a:chOff x="12600" y="4346640"/>
              <a:chExt cx="5689440" cy="98748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4346640"/>
                <a:ext cx="568944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"/>
              <p:cNvSpPr/>
              <p:nvPr/>
            </p:nvSpPr>
            <p:spPr>
              <a:xfrm>
                <a:off x="372960" y="4519800"/>
                <a:ext cx="478152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388800" y="465768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411280" y="409680"/>
            <a:ext cx="5310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6720" cy="439272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1020600" y="2206800"/>
            <a:ext cx="6840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LCANZA EXCLUSIVAMENTE A LOS SUJETOS QUE EXPORTAN TRIANGULANDO OPERACIONES A TRAVÉS DE SUJETOS DEL EXTERIOR SIN SUSTANCIA ECONÓMICA (FANTASMAS O PANTA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 TRATA DE EXPORTACIONES EN LAS QUE INTERVENGA UN INTERMEDIARIO INTERNACIONAL QUE NO SEA EL DESTINATARIO EFECTIVO DE LOS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ALCANZA A LAS EXPORTACIONES REALIZADAS A TRAVES DE INTERMEDIARIOS GENUINOS EFECTU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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UJETO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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UJETOS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2600" y="1198440"/>
            <a:ext cx="5689440" cy="987120"/>
            <a:chOff x="12600" y="1198440"/>
            <a:chExt cx="5689440" cy="987120"/>
          </a:xfrm>
        </p:grpSpPr>
        <p:grpSp>
          <p:nvGrpSpPr>
            <p:cNvPr id="1249" name=""/>
            <p:cNvGrpSpPr/>
            <p:nvPr/>
          </p:nvGrpSpPr>
          <p:grpSpPr>
            <a:xfrm>
              <a:off x="12600" y="1198440"/>
              <a:ext cx="5689440" cy="987120"/>
              <a:chOff x="12600" y="1198440"/>
              <a:chExt cx="5689440" cy="98712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19844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>
                <a:off x="372960" y="137124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388800" y="150948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PL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1"/>
          <a:stretch/>
        </p:blipFill>
        <p:spPr>
          <a:xfrm>
            <a:off x="733320" y="2008080"/>
            <a:ext cx="7417080" cy="273708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/>
          <p:nvPr/>
        </p:nvSpPr>
        <p:spPr>
          <a:xfrm>
            <a:off x="1020600" y="2441520"/>
            <a:ext cx="684072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CEREALES, OLEAGIN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MÁS PRODUCTOS DE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HIDROCARBUROS Y SUS DERIVA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BIENES CON COTIZACIÓN CONOCIDA EN MERCADOS TRANSPA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2600" y="1433520"/>
            <a:ext cx="5689440" cy="987120"/>
            <a:chOff x="12600" y="1433520"/>
            <a:chExt cx="5689440" cy="987120"/>
          </a:xfrm>
        </p:grpSpPr>
        <p:grpSp>
          <p:nvGrpSpPr>
            <p:cNvPr id="1258" name=""/>
            <p:cNvGrpSpPr/>
            <p:nvPr/>
          </p:nvGrpSpPr>
          <p:grpSpPr>
            <a:xfrm>
              <a:off x="12600" y="1433520"/>
              <a:ext cx="5689440" cy="987120"/>
              <a:chOff x="12600" y="1433520"/>
              <a:chExt cx="5689440" cy="98712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37296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38880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ENES ALCANZ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2592360" y="476280"/>
            <a:ext cx="49323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193840" y="40464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804960" y="2008080"/>
            <a:ext cx="7416720" cy="381636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1092240" y="2441520"/>
            <a:ext cx="6840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NTE LA UTILIZACIÓN DE INTERMEDIARIOS INTERNACIONALES SIN SUSTANCIA ECONÓMICA (PANTALLAS O FANTAS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 DEBERÁ TOMAR COMO PRECIO DE LA EXPORTACIÓN EL VALOR DE COTIZACIÓN DEL BIEN EN EL MERCADO TRANSPARENTE DEL DÍA DE LA CARGA DE LA MERCA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I EL PRECIO CONVENIDO CON EL INTERMEDIARIO DEL EXTERIOR SIN SUSTANCIA ECONÓMICA FUERA MAYOR AL PRECIO DE COTIZACIÓN VIGENTE A LA FECHA DE CARGA, SE TOMAR´S EL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-612720" y="260280"/>
            <a:ext cx="7923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84240" y="1433520"/>
            <a:ext cx="5689440" cy="987120"/>
            <a:chOff x="84240" y="1433520"/>
            <a:chExt cx="5689440" cy="987120"/>
          </a:xfrm>
        </p:grpSpPr>
        <p:grpSp>
          <p:nvGrpSpPr>
            <p:cNvPr id="1269" name=""/>
            <p:cNvGrpSpPr/>
            <p:nvPr/>
          </p:nvGrpSpPr>
          <p:grpSpPr>
            <a:xfrm>
              <a:off x="84240" y="1433520"/>
              <a:ext cx="5689440" cy="987120"/>
              <a:chOff x="84240" y="1433520"/>
              <a:chExt cx="5689440" cy="987120"/>
            </a:xfrm>
          </p:grpSpPr>
          <p:pic>
            <p:nvPicPr>
              <p:cNvPr id="12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"/>
              <p:cNvSpPr/>
              <p:nvPr/>
            </p:nvSpPr>
            <p:spPr>
              <a:xfrm>
                <a:off x="44460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46044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SQUEMA DEL NUEVO MÉT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417080" cy="338436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84360" y="2852640"/>
            <a:ext cx="68403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POSEA REAL PRESENCIA EN EL TERRITORIO DE RESI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CUMPLA CON LOS REQUISITOS LEGALES DE CONSTITUCIÓN, INSCRIPCIÓN Y PRESENTACIÓN DE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OS ACTIVOS, RIESGOS Y FUNCIONES DE LA INTERMEDIARIA INTERNACIONAL NO RESULTEN ACORDES CON EL VOLUMEN DE LAS OPERACIONES QUE SE LE ASIG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-36360" y="1341360"/>
            <a:ext cx="7344720" cy="1582200"/>
            <a:chOff x="-36360" y="1341360"/>
            <a:chExt cx="7344720" cy="1582200"/>
          </a:xfrm>
        </p:grpSpPr>
        <p:grpSp>
          <p:nvGrpSpPr>
            <p:cNvPr id="1278" name=""/>
            <p:cNvGrpSpPr/>
            <p:nvPr/>
          </p:nvGrpSpPr>
          <p:grpSpPr>
            <a:xfrm>
              <a:off x="-36360" y="1341360"/>
              <a:ext cx="7344720" cy="1582200"/>
              <a:chOff x="-36360" y="1341360"/>
              <a:chExt cx="7344720" cy="1582200"/>
            </a:xfrm>
          </p:grpSpPr>
          <p:pic>
            <p:nvPicPr>
              <p:cNvPr id="1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36360" y="1341360"/>
                <a:ext cx="7344720" cy="15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"/>
              <p:cNvSpPr/>
              <p:nvPr/>
            </p:nvSpPr>
            <p:spPr>
              <a:xfrm>
                <a:off x="428760" y="1618560"/>
                <a:ext cx="6172560" cy="10173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466560" y="1555560"/>
              <a:ext cx="648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¿CUÁNDO UN INTERMEDIARIO INTERNACIONAL CARECE DE SUSTANCIA ECONÓ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ES FANTASMA O PANTALLA)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2286000" y="333360"/>
            <a:ext cx="5094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416720" cy="338436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971640" y="2924280"/>
            <a:ext cx="68403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U ACTIVIDAD PRINCIPAL CONSISTA EN LA OBTENCIÓN DE RENTAS PA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U ACTIVIDAD PRINCIPAL CONSISTA EN LA INTERMEDIACION EN LA COMERCIALIZACIÓN DE BIENES DESDE O HACIA ARGENTINA, O CON INTERMEDIARIOS DEL GRUPO ECONÓMICAMENTE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AS OPERACIONES DE COMERCIO INTERNACIONAL CON OTROS INTEGRANTES DEL GRUPO ECONOMICO SUPEREN EL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95640" y="333360"/>
            <a:ext cx="5933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0" y="1413000"/>
            <a:ext cx="7345080" cy="1582200"/>
            <a:chOff x="0" y="1413000"/>
            <a:chExt cx="7345080" cy="1582200"/>
          </a:xfrm>
        </p:grpSpPr>
        <p:grpSp>
          <p:nvGrpSpPr>
            <p:cNvPr id="1290" name=""/>
            <p:cNvGrpSpPr/>
            <p:nvPr/>
          </p:nvGrpSpPr>
          <p:grpSpPr>
            <a:xfrm>
              <a:off x="0" y="1413000"/>
              <a:ext cx="7345080" cy="1582200"/>
              <a:chOff x="0" y="1413000"/>
              <a:chExt cx="7345080" cy="1582200"/>
            </a:xfrm>
          </p:grpSpPr>
          <p:pic>
            <p:nvPicPr>
              <p:cNvPr id="12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413000"/>
                <a:ext cx="7345080" cy="15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465120" y="1690200"/>
                <a:ext cx="6172920" cy="10173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503280" y="1627200"/>
              <a:ext cx="6481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¿CUÁNDO UN INTERMEDIARIO INTERNACIONAL CARECE DE SUSTANCIA ECONO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ES FANTASMA O PANTALLA)? (CONT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9000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733320" y="2008080"/>
            <a:ext cx="7417080" cy="237672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1020600" y="2441520"/>
            <a:ext cx="6840720" cy="17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LIMITAR LA APLICACIÓN DEL MÉTODO CUANDO HUBIEREN CESADO LAS CAUSAS QUE LO ORIG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PLICAR EL MÉTODO A OTRAS EXPORTACIONES DE BIENES CUANDO LA NATURALEZA Y CARACTERÍSTICAS DE LAS OPERACIONES INTERNACIONALES ASÍ LO JUSTIFIQ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2600" y="1433520"/>
            <a:ext cx="5689440" cy="987120"/>
            <a:chOff x="12600" y="1433520"/>
            <a:chExt cx="5689440" cy="987120"/>
          </a:xfrm>
        </p:grpSpPr>
        <p:grpSp>
          <p:nvGrpSpPr>
            <p:cNvPr id="1300" name=""/>
            <p:cNvGrpSpPr/>
            <p:nvPr/>
          </p:nvGrpSpPr>
          <p:grpSpPr>
            <a:xfrm>
              <a:off x="12600" y="1433520"/>
              <a:ext cx="5689440" cy="987120"/>
              <a:chOff x="12600" y="1433520"/>
              <a:chExt cx="5689440" cy="98712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2" name=""/>
              <p:cNvSpPr/>
              <p:nvPr/>
            </p:nvSpPr>
            <p:spPr>
              <a:xfrm>
                <a:off x="37296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38880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CULTADES DE LA AF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411280" y="476280"/>
            <a:ext cx="5040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68360" y="1915920"/>
            <a:ext cx="7939800" cy="1007640"/>
            <a:chOff x="468360" y="1915920"/>
            <a:chExt cx="7939800" cy="1007640"/>
          </a:xfrm>
        </p:grpSpPr>
        <p:grpSp>
          <p:nvGrpSpPr>
            <p:cNvPr id="861" name=""/>
            <p:cNvGrpSpPr/>
            <p:nvPr/>
          </p:nvGrpSpPr>
          <p:grpSpPr>
            <a:xfrm>
              <a:off x="1498680" y="2167920"/>
              <a:ext cx="6909480" cy="755640"/>
              <a:chOff x="1498680" y="2167920"/>
              <a:chExt cx="6909480" cy="755640"/>
            </a:xfrm>
          </p:grpSpPr>
          <p:sp>
            <p:nvSpPr>
              <p:cNvPr id="862" name=""/>
              <p:cNvSpPr/>
              <p:nvPr/>
            </p:nvSpPr>
            <p:spPr>
              <a:xfrm>
                <a:off x="1498680" y="2167920"/>
                <a:ext cx="6909480" cy="7556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549800" y="2367000"/>
                <a:ext cx="680724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7 EMPRESAS DURANTE 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V="1">
              <a:off x="468360" y="1915560"/>
              <a:ext cx="1030320" cy="821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95280" y="1989000"/>
            <a:ext cx="7921080" cy="1726560"/>
            <a:chOff x="395280" y="1989000"/>
            <a:chExt cx="7921080" cy="1726560"/>
          </a:xfrm>
        </p:grpSpPr>
        <p:grpSp>
          <p:nvGrpSpPr>
            <p:cNvPr id="866" name=""/>
            <p:cNvGrpSpPr/>
            <p:nvPr/>
          </p:nvGrpSpPr>
          <p:grpSpPr>
            <a:xfrm>
              <a:off x="1425600" y="2984760"/>
              <a:ext cx="6890760" cy="730800"/>
              <a:chOff x="1425600" y="2984760"/>
              <a:chExt cx="6890760" cy="730800"/>
            </a:xfrm>
          </p:grpSpPr>
          <p:sp>
            <p:nvSpPr>
              <p:cNvPr id="867" name=""/>
              <p:cNvSpPr/>
              <p:nvPr/>
            </p:nvSpPr>
            <p:spPr>
              <a:xfrm>
                <a:off x="1425600" y="2984760"/>
                <a:ext cx="6890760" cy="730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476360" y="317520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VENDIERON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       U$S 22.5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395280" y="1989000"/>
              <a:ext cx="1029960" cy="1594800"/>
              <a:chOff x="395280" y="1989000"/>
              <a:chExt cx="1029960" cy="1594800"/>
            </a:xfrm>
          </p:grpSpPr>
          <p:sp>
            <p:nvSpPr>
              <p:cNvPr id="870" name=""/>
              <p:cNvSpPr/>
              <p:nvPr/>
            </p:nvSpPr>
            <p:spPr>
              <a:xfrm flipV="1">
                <a:off x="395280" y="2719080"/>
                <a:ext cx="1029960" cy="86436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864360"/>
                  <a:gd name="textAreaBottom" fmla="*/ 86436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95280" y="1989000"/>
                <a:ext cx="31572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395280" y="3070080"/>
            <a:ext cx="7921080" cy="1510560"/>
            <a:chOff x="395280" y="3070080"/>
            <a:chExt cx="7921080" cy="1510560"/>
          </a:xfrm>
        </p:grpSpPr>
        <p:grpSp>
          <p:nvGrpSpPr>
            <p:cNvPr id="873" name=""/>
            <p:cNvGrpSpPr/>
            <p:nvPr/>
          </p:nvGrpSpPr>
          <p:grpSpPr>
            <a:xfrm>
              <a:off x="1425600" y="3854880"/>
              <a:ext cx="6890760" cy="725760"/>
              <a:chOff x="1425600" y="3854880"/>
              <a:chExt cx="6890760" cy="725760"/>
            </a:xfrm>
          </p:grpSpPr>
          <p:sp>
            <p:nvSpPr>
              <p:cNvPr id="874" name=""/>
              <p:cNvSpPr/>
              <p:nvPr/>
            </p:nvSpPr>
            <p:spPr>
              <a:xfrm>
                <a:off x="1425600" y="3854880"/>
                <a:ext cx="6890760" cy="7257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476360" y="4047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PAGARON IMP. A LAS GANANCIAS         U$S          1.9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95280" y="3070080"/>
              <a:ext cx="1029960" cy="1329840"/>
              <a:chOff x="395280" y="3070080"/>
              <a:chExt cx="1029960" cy="132984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5280" y="361368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280" y="307008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395280" y="3933720"/>
            <a:ext cx="7921080" cy="1512720"/>
            <a:chOff x="395280" y="3933720"/>
            <a:chExt cx="7921080" cy="1512720"/>
          </a:xfrm>
        </p:grpSpPr>
        <p:grpSp>
          <p:nvGrpSpPr>
            <p:cNvPr id="880" name=""/>
            <p:cNvGrpSpPr/>
            <p:nvPr/>
          </p:nvGrpSpPr>
          <p:grpSpPr>
            <a:xfrm>
              <a:off x="1425600" y="4720320"/>
              <a:ext cx="6890760" cy="726120"/>
              <a:chOff x="1425600" y="4720320"/>
              <a:chExt cx="6890760" cy="726120"/>
            </a:xfrm>
          </p:grpSpPr>
          <p:sp>
            <p:nvSpPr>
              <p:cNvPr id="881" name=""/>
              <p:cNvSpPr/>
              <p:nvPr/>
            </p:nvSpPr>
            <p:spPr>
              <a:xfrm>
                <a:off x="1425600" y="472032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476360" y="4911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   0,00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95280" y="3933720"/>
              <a:ext cx="1029960" cy="1329840"/>
              <a:chOff x="395280" y="3933720"/>
              <a:chExt cx="1029960" cy="132984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395280" y="447732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5280" y="393372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395280" y="4797360"/>
            <a:ext cx="7921080" cy="1512720"/>
            <a:chOff x="395280" y="4797360"/>
            <a:chExt cx="7921080" cy="1512720"/>
          </a:xfrm>
        </p:grpSpPr>
        <p:grpSp>
          <p:nvGrpSpPr>
            <p:cNvPr id="887" name=""/>
            <p:cNvGrpSpPr/>
            <p:nvPr/>
          </p:nvGrpSpPr>
          <p:grpSpPr>
            <a:xfrm>
              <a:off x="1425600" y="5583960"/>
              <a:ext cx="6890760" cy="726120"/>
              <a:chOff x="1425600" y="5583960"/>
              <a:chExt cx="6890760" cy="726120"/>
            </a:xfrm>
          </p:grpSpPr>
          <p:sp>
            <p:nvSpPr>
              <p:cNvPr id="888" name=""/>
              <p:cNvSpPr/>
              <p:nvPr/>
            </p:nvSpPr>
            <p:spPr>
              <a:xfrm>
                <a:off x="1425600" y="558396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76360" y="564732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1,6% RESTO DE LA ECONOM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395280" y="4797360"/>
              <a:ext cx="1029960" cy="1329840"/>
              <a:chOff x="395280" y="4797360"/>
              <a:chExt cx="1029960" cy="1329840"/>
            </a:xfrm>
          </p:grpSpPr>
          <p:sp>
            <p:nvSpPr>
              <p:cNvPr id="891" name=""/>
              <p:cNvSpPr/>
              <p:nvPr/>
            </p:nvSpPr>
            <p:spPr>
              <a:xfrm flipV="1">
                <a:off x="395280" y="534096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5280" y="479736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324000" y="1341360"/>
            <a:ext cx="8424000" cy="733320"/>
            <a:chOff x="324000" y="1341360"/>
            <a:chExt cx="8424000" cy="733320"/>
          </a:xfrm>
        </p:grpSpPr>
        <p:sp>
          <p:nvSpPr>
            <p:cNvPr id="894" name=""/>
            <p:cNvSpPr/>
            <p:nvPr/>
          </p:nvSpPr>
          <p:spPr>
            <a:xfrm>
              <a:off x="324000" y="1341360"/>
              <a:ext cx="842400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4280" y="1478880"/>
              <a:ext cx="827064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Frutiger-Bold"/>
                </a:rPr>
                <a:t>1- DESCRIPCION DEL 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660240" y="2009880"/>
            <a:ext cx="7417080" cy="180000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1020600" y="2368440"/>
            <a:ext cx="68407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L DÍA DE FINALIZACION DE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A AFIP PODRÁ FIJAR PAUTAS PARA SITUACIONES ESPECIALES DE TRANSPORTR POR MEDIOS NO CONVE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2600" y="1362240"/>
            <a:ext cx="6840360" cy="1005840"/>
            <a:chOff x="12600" y="1362240"/>
            <a:chExt cx="6840360" cy="1005840"/>
          </a:xfrm>
        </p:grpSpPr>
        <p:grpSp>
          <p:nvGrpSpPr>
            <p:cNvPr id="1310" name=""/>
            <p:cNvGrpSpPr/>
            <p:nvPr/>
          </p:nvGrpSpPr>
          <p:grpSpPr>
            <a:xfrm>
              <a:off x="12600" y="1362240"/>
              <a:ext cx="6840360" cy="1005840"/>
              <a:chOff x="12600" y="1362240"/>
              <a:chExt cx="6840360" cy="1005840"/>
            </a:xfrm>
          </p:grpSpPr>
          <p:pic>
            <p:nvPicPr>
              <p:cNvPr id="13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362240"/>
                <a:ext cx="68403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"/>
              <p:cNvSpPr/>
              <p:nvPr/>
            </p:nvSpPr>
            <p:spPr>
              <a:xfrm>
                <a:off x="445680" y="1538640"/>
                <a:ext cx="5748840" cy="64692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480960" y="1498320"/>
              <a:ext cx="603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IJACIÓN DEL VALOR DE COTIZACIÓN DEL BIÉN EN EL MERCADO TRANSPA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660240" y="4529160"/>
            <a:ext cx="7417080" cy="165564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1020600" y="4888080"/>
            <a:ext cx="6840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BERA FUNDARSE EN COMPROBANTES FEHACIENTES Y CONCRETOS, CARECIENDO DE VIRTUALIDAD TODA APRECIACIÓN O FUNDAMENTACIÓN DE CARÁCTER GENERAL O BASADAS EN HECHO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2600" y="3881520"/>
            <a:ext cx="6840360" cy="1006200"/>
            <a:chOff x="12600" y="3881520"/>
            <a:chExt cx="6840360" cy="1006200"/>
          </a:xfrm>
        </p:grpSpPr>
        <p:grpSp>
          <p:nvGrpSpPr>
            <p:cNvPr id="1317" name=""/>
            <p:cNvGrpSpPr/>
            <p:nvPr/>
          </p:nvGrpSpPr>
          <p:grpSpPr>
            <a:xfrm>
              <a:off x="12600" y="3881520"/>
              <a:ext cx="6840360" cy="1006200"/>
              <a:chOff x="12600" y="3881520"/>
              <a:chExt cx="6840360" cy="1006200"/>
            </a:xfrm>
          </p:grpSpPr>
          <p:pic>
            <p:nvPicPr>
              <p:cNvPr id="13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3881520"/>
                <a:ext cx="684036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9" name=""/>
              <p:cNvSpPr/>
              <p:nvPr/>
            </p:nvSpPr>
            <p:spPr>
              <a:xfrm>
                <a:off x="445680" y="4057920"/>
                <a:ext cx="5748840" cy="6472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480960" y="4017600"/>
              <a:ext cx="603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BANZA DE LOS REQUISITOS DEL INAPLICABILIDAD DEL MÉT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2286000" y="476280"/>
            <a:ext cx="4878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660240" y="2008080"/>
            <a:ext cx="7416720" cy="1225440"/>
            <a:chOff x="660240" y="2008080"/>
            <a:chExt cx="7416720" cy="1225440"/>
          </a:xfrm>
        </p:grpSpPr>
        <p:pic>
          <p:nvPicPr>
            <p:cNvPr id="1324" name="" descr=""/>
            <p:cNvPicPr/>
            <p:nvPr/>
          </p:nvPicPr>
          <p:blipFill>
            <a:blip r:embed="rId1"/>
            <a:stretch/>
          </p:blipFill>
          <p:spPr>
            <a:xfrm>
              <a:off x="660240" y="2008080"/>
              <a:ext cx="74167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947520" y="2441520"/>
              <a:ext cx="68407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Arial"/>
                </a:rPr>
                <a:t>LAS DEFINIDAS POR LA LEY DEL IMPUESTO A LAS GANANCIAS Y SU DECRETO REGLAMENTAR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240" y="4097160"/>
            <a:ext cx="7416720" cy="1440000"/>
            <a:chOff x="660240" y="4097160"/>
            <a:chExt cx="7416720" cy="1440000"/>
          </a:xfrm>
        </p:grpSpPr>
        <p:pic>
          <p:nvPicPr>
            <p:cNvPr id="1327" name="" descr=""/>
            <p:cNvPicPr/>
            <p:nvPr/>
          </p:nvPicPr>
          <p:blipFill>
            <a:blip r:embed="rId2"/>
            <a:stretch/>
          </p:blipFill>
          <p:spPr>
            <a:xfrm>
              <a:off x="660240" y="4097160"/>
              <a:ext cx="7416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947520" y="4530600"/>
              <a:ext cx="6840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Arial"/>
                </a:rPr>
                <a:t>DEBERÁN RELACIONARSE LAS COMPRAS Y LAS VENTAS REALIZADAS CON ARGENTINA, CON LAS COMPRAS Y VENTAS TOTALES DEL INTERMEDI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-60480" y="1433520"/>
            <a:ext cx="7200360" cy="987120"/>
            <a:chOff x="-60480" y="1433520"/>
            <a:chExt cx="7200360" cy="987120"/>
          </a:xfrm>
        </p:grpSpPr>
        <p:grpSp>
          <p:nvGrpSpPr>
            <p:cNvPr id="1330" name=""/>
            <p:cNvGrpSpPr/>
            <p:nvPr/>
          </p:nvGrpSpPr>
          <p:grpSpPr>
            <a:xfrm>
              <a:off x="-60480" y="1433520"/>
              <a:ext cx="7200360" cy="987120"/>
              <a:chOff x="-60480" y="1433520"/>
              <a:chExt cx="7200360" cy="987120"/>
            </a:xfrm>
          </p:grpSpPr>
          <p:pic>
            <p:nvPicPr>
              <p:cNvPr id="13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60480" y="1433520"/>
                <a:ext cx="720036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>
                <a:off x="395280" y="1606320"/>
                <a:ext cx="605124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415440" y="1744560"/>
              <a:ext cx="57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NTAS PASI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-60480" y="3522600"/>
            <a:ext cx="7200360" cy="987480"/>
            <a:chOff x="-60480" y="3522600"/>
            <a:chExt cx="7200360" cy="987480"/>
          </a:xfrm>
        </p:grpSpPr>
        <p:grpSp>
          <p:nvGrpSpPr>
            <p:cNvPr id="1335" name=""/>
            <p:cNvGrpSpPr/>
            <p:nvPr/>
          </p:nvGrpSpPr>
          <p:grpSpPr>
            <a:xfrm>
              <a:off x="-60480" y="3522600"/>
              <a:ext cx="7200360" cy="987480"/>
              <a:chOff x="-60480" y="3522600"/>
              <a:chExt cx="7200360" cy="987480"/>
            </a:xfrm>
          </p:grpSpPr>
          <p:pic>
            <p:nvPicPr>
              <p:cNvPr id="13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60480" y="3522600"/>
                <a:ext cx="720036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"/>
              <p:cNvSpPr/>
              <p:nvPr/>
            </p:nvSpPr>
            <p:spPr>
              <a:xfrm>
                <a:off x="395280" y="3695760"/>
                <a:ext cx="605124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415440" y="3833640"/>
              <a:ext cx="57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 PRINCIPAL DEL INTERMEDIA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2286000" y="404640"/>
            <a:ext cx="5022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468360" y="1915920"/>
            <a:ext cx="7939800" cy="1007640"/>
            <a:chOff x="468360" y="1915920"/>
            <a:chExt cx="7939800" cy="1007640"/>
          </a:xfrm>
        </p:grpSpPr>
        <p:grpSp>
          <p:nvGrpSpPr>
            <p:cNvPr id="898" name=""/>
            <p:cNvGrpSpPr/>
            <p:nvPr/>
          </p:nvGrpSpPr>
          <p:grpSpPr>
            <a:xfrm>
              <a:off x="1498680" y="2167920"/>
              <a:ext cx="6909480" cy="755640"/>
              <a:chOff x="1498680" y="2167920"/>
              <a:chExt cx="6909480" cy="755640"/>
            </a:xfrm>
          </p:grpSpPr>
          <p:sp>
            <p:nvSpPr>
              <p:cNvPr id="899" name=""/>
              <p:cNvSpPr/>
              <p:nvPr/>
            </p:nvSpPr>
            <p:spPr>
              <a:xfrm>
                <a:off x="1498680" y="2167920"/>
                <a:ext cx="6909480" cy="7556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49800" y="2367000"/>
                <a:ext cx="680724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7 EMPRESAS DURANTE 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 flipV="1">
              <a:off x="468360" y="1915560"/>
              <a:ext cx="1030320" cy="821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95280" y="1989000"/>
            <a:ext cx="7921080" cy="1726560"/>
            <a:chOff x="395280" y="1989000"/>
            <a:chExt cx="7921080" cy="1726560"/>
          </a:xfrm>
        </p:grpSpPr>
        <p:grpSp>
          <p:nvGrpSpPr>
            <p:cNvPr id="903" name=""/>
            <p:cNvGrpSpPr/>
            <p:nvPr/>
          </p:nvGrpSpPr>
          <p:grpSpPr>
            <a:xfrm>
              <a:off x="1425600" y="2984760"/>
              <a:ext cx="6890760" cy="730800"/>
              <a:chOff x="1425600" y="2984760"/>
              <a:chExt cx="6890760" cy="730800"/>
            </a:xfrm>
          </p:grpSpPr>
          <p:sp>
            <p:nvSpPr>
              <p:cNvPr id="904" name=""/>
              <p:cNvSpPr/>
              <p:nvPr/>
            </p:nvSpPr>
            <p:spPr>
              <a:xfrm>
                <a:off x="1425600" y="2984760"/>
                <a:ext cx="6890760" cy="730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76360" y="317520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VENDIERON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       U$S 22.5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95280" y="1989000"/>
              <a:ext cx="1029960" cy="1594800"/>
              <a:chOff x="395280" y="1989000"/>
              <a:chExt cx="1029960" cy="1594800"/>
            </a:xfrm>
          </p:grpSpPr>
          <p:sp>
            <p:nvSpPr>
              <p:cNvPr id="907" name=""/>
              <p:cNvSpPr/>
              <p:nvPr/>
            </p:nvSpPr>
            <p:spPr>
              <a:xfrm flipV="1">
                <a:off x="395280" y="2719080"/>
                <a:ext cx="1029960" cy="86436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864360"/>
                  <a:gd name="textAreaBottom" fmla="*/ 86436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95280" y="1989000"/>
                <a:ext cx="31572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395280" y="3070080"/>
            <a:ext cx="7921080" cy="1510560"/>
            <a:chOff x="395280" y="3070080"/>
            <a:chExt cx="7921080" cy="1510560"/>
          </a:xfrm>
        </p:grpSpPr>
        <p:grpSp>
          <p:nvGrpSpPr>
            <p:cNvPr id="910" name=""/>
            <p:cNvGrpSpPr/>
            <p:nvPr/>
          </p:nvGrpSpPr>
          <p:grpSpPr>
            <a:xfrm>
              <a:off x="1425600" y="3854880"/>
              <a:ext cx="6890760" cy="725760"/>
              <a:chOff x="1425600" y="3854880"/>
              <a:chExt cx="6890760" cy="725760"/>
            </a:xfrm>
          </p:grpSpPr>
          <p:sp>
            <p:nvSpPr>
              <p:cNvPr id="911" name=""/>
              <p:cNvSpPr/>
              <p:nvPr/>
            </p:nvSpPr>
            <p:spPr>
              <a:xfrm>
                <a:off x="1425600" y="3854880"/>
                <a:ext cx="6890760" cy="7257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76360" y="4047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PAGARON IMP. A LAS GANANCIAS         U$S          1.9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395280" y="3070080"/>
              <a:ext cx="1029960" cy="1329840"/>
              <a:chOff x="395280" y="3070080"/>
              <a:chExt cx="1029960" cy="13298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395280" y="361368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280" y="307008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395280" y="3933720"/>
            <a:ext cx="7921080" cy="1512720"/>
            <a:chOff x="395280" y="3933720"/>
            <a:chExt cx="7921080" cy="1512720"/>
          </a:xfrm>
        </p:grpSpPr>
        <p:grpSp>
          <p:nvGrpSpPr>
            <p:cNvPr id="917" name=""/>
            <p:cNvGrpSpPr/>
            <p:nvPr/>
          </p:nvGrpSpPr>
          <p:grpSpPr>
            <a:xfrm>
              <a:off x="1425600" y="4720320"/>
              <a:ext cx="6890760" cy="726120"/>
              <a:chOff x="1425600" y="4720320"/>
              <a:chExt cx="6890760" cy="726120"/>
            </a:xfrm>
          </p:grpSpPr>
          <p:sp>
            <p:nvSpPr>
              <p:cNvPr id="918" name=""/>
              <p:cNvSpPr/>
              <p:nvPr/>
            </p:nvSpPr>
            <p:spPr>
              <a:xfrm>
                <a:off x="1425600" y="472032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76360" y="4911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   0,00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95280" y="3933720"/>
              <a:ext cx="1029960" cy="1329840"/>
              <a:chOff x="395280" y="3933720"/>
              <a:chExt cx="1029960" cy="1329840"/>
            </a:xfrm>
          </p:grpSpPr>
          <p:sp>
            <p:nvSpPr>
              <p:cNvPr id="921" name=""/>
              <p:cNvSpPr/>
              <p:nvPr/>
            </p:nvSpPr>
            <p:spPr>
              <a:xfrm flipV="1">
                <a:off x="395280" y="447732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95280" y="393372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395280" y="4797360"/>
            <a:ext cx="7921080" cy="1512720"/>
            <a:chOff x="395280" y="4797360"/>
            <a:chExt cx="7921080" cy="1512720"/>
          </a:xfrm>
        </p:grpSpPr>
        <p:grpSp>
          <p:nvGrpSpPr>
            <p:cNvPr id="924" name=""/>
            <p:cNvGrpSpPr/>
            <p:nvPr/>
          </p:nvGrpSpPr>
          <p:grpSpPr>
            <a:xfrm>
              <a:off x="1425600" y="5583960"/>
              <a:ext cx="6890760" cy="726120"/>
              <a:chOff x="1425600" y="5583960"/>
              <a:chExt cx="6890760" cy="726120"/>
            </a:xfrm>
          </p:grpSpPr>
          <p:sp>
            <p:nvSpPr>
              <p:cNvPr id="925" name=""/>
              <p:cNvSpPr/>
              <p:nvPr/>
            </p:nvSpPr>
            <p:spPr>
              <a:xfrm>
                <a:off x="1425600" y="558396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476360" y="564732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1,6% RESTO DE LA ECONOM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395280" y="4797360"/>
              <a:ext cx="1029960" cy="1329840"/>
              <a:chOff x="395280" y="4797360"/>
              <a:chExt cx="1029960" cy="132984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95280" y="534096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5280" y="479736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324000" y="1341360"/>
            <a:ext cx="8424000" cy="733320"/>
            <a:chOff x="324000" y="1341360"/>
            <a:chExt cx="8424000" cy="733320"/>
          </a:xfrm>
        </p:grpSpPr>
        <p:sp>
          <p:nvSpPr>
            <p:cNvPr id="931" name=""/>
            <p:cNvSpPr/>
            <p:nvPr/>
          </p:nvSpPr>
          <p:spPr>
            <a:xfrm>
              <a:off x="324000" y="1341360"/>
              <a:ext cx="842400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4280" y="1478880"/>
              <a:ext cx="827064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Frutiger-Bold"/>
                </a:rPr>
                <a:t>1- DESCRIPCION DEL 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611280" y="1916280"/>
            <a:ext cx="7939800" cy="864720"/>
            <a:chOff x="611280" y="1916280"/>
            <a:chExt cx="7939800" cy="864720"/>
          </a:xfrm>
        </p:grpSpPr>
        <p:grpSp>
          <p:nvGrpSpPr>
            <p:cNvPr id="934" name=""/>
            <p:cNvGrpSpPr/>
            <p:nvPr/>
          </p:nvGrpSpPr>
          <p:grpSpPr>
            <a:xfrm>
              <a:off x="1641600" y="2132280"/>
              <a:ext cx="6909480" cy="648720"/>
              <a:chOff x="1641600" y="2132280"/>
              <a:chExt cx="6909480" cy="648720"/>
            </a:xfrm>
          </p:grpSpPr>
          <p:sp>
            <p:nvSpPr>
              <p:cNvPr id="935" name=""/>
              <p:cNvSpPr/>
              <p:nvPr/>
            </p:nvSpPr>
            <p:spPr>
              <a:xfrm>
                <a:off x="1641600" y="2132280"/>
                <a:ext cx="6909480" cy="64872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692720" y="2278440"/>
                <a:ext cx="68072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A TRAVÉS DE INTERMEDIARIO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V="1">
              <a:off x="611280" y="1916280"/>
              <a:ext cx="1030320" cy="7048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704880"/>
                <a:gd name="textAreaBottom" fmla="*/ 70488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539640" y="1989000"/>
            <a:ext cx="7921080" cy="1510920"/>
            <a:chOff x="539640" y="1989000"/>
            <a:chExt cx="7921080" cy="1510920"/>
          </a:xfrm>
        </p:grpSpPr>
        <p:grpSp>
          <p:nvGrpSpPr>
            <p:cNvPr id="939" name=""/>
            <p:cNvGrpSpPr/>
            <p:nvPr/>
          </p:nvGrpSpPr>
          <p:grpSpPr>
            <a:xfrm>
              <a:off x="1569960" y="2860200"/>
              <a:ext cx="6890760" cy="639720"/>
              <a:chOff x="1569960" y="2860200"/>
              <a:chExt cx="6890760" cy="639720"/>
            </a:xfrm>
          </p:grpSpPr>
          <p:sp>
            <p:nvSpPr>
              <p:cNvPr id="940" name=""/>
              <p:cNvSpPr/>
              <p:nvPr/>
            </p:nvSpPr>
            <p:spPr>
              <a:xfrm>
                <a:off x="1569960" y="2860200"/>
                <a:ext cx="6890760" cy="639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20720" y="287928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FECHA DE CONTRATO DE LA OPERACIÓN: 180 A 500 DÍAS ANTES DEL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39640" y="1989000"/>
              <a:ext cx="1029960" cy="1395360"/>
              <a:chOff x="539640" y="1989000"/>
              <a:chExt cx="1029960" cy="1395360"/>
            </a:xfrm>
          </p:grpSpPr>
          <p:sp>
            <p:nvSpPr>
              <p:cNvPr id="943" name=""/>
              <p:cNvSpPr/>
              <p:nvPr/>
            </p:nvSpPr>
            <p:spPr>
              <a:xfrm flipV="1">
                <a:off x="539640" y="2628360"/>
                <a:ext cx="1029960" cy="7560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9640" y="1989000"/>
                <a:ext cx="315720" cy="75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539640" y="2924280"/>
            <a:ext cx="7921080" cy="1296720"/>
            <a:chOff x="539640" y="2924280"/>
            <a:chExt cx="7921080" cy="1296720"/>
          </a:xfrm>
        </p:grpSpPr>
        <p:grpSp>
          <p:nvGrpSpPr>
            <p:cNvPr id="946" name=""/>
            <p:cNvGrpSpPr/>
            <p:nvPr/>
          </p:nvGrpSpPr>
          <p:grpSpPr>
            <a:xfrm>
              <a:off x="1569960" y="3597840"/>
              <a:ext cx="6890760" cy="623160"/>
              <a:chOff x="1569960" y="3597840"/>
              <a:chExt cx="6890760" cy="623160"/>
            </a:xfrm>
          </p:grpSpPr>
          <p:sp>
            <p:nvSpPr>
              <p:cNvPr id="947" name=""/>
              <p:cNvSpPr/>
              <p:nvPr/>
            </p:nvSpPr>
            <p:spPr>
              <a:xfrm>
                <a:off x="1569960" y="3597840"/>
                <a:ext cx="6890760" cy="6231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20720" y="37382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FIJACIÓN DEL PRECIO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539640" y="2924280"/>
              <a:ext cx="1029960" cy="1140840"/>
              <a:chOff x="539640" y="2924280"/>
              <a:chExt cx="1029960" cy="1140840"/>
            </a:xfrm>
          </p:grpSpPr>
          <p:sp>
            <p:nvSpPr>
              <p:cNvPr id="950" name=""/>
              <p:cNvSpPr/>
              <p:nvPr/>
            </p:nvSpPr>
            <p:spPr>
              <a:xfrm flipV="1">
                <a:off x="539640" y="3390480"/>
                <a:ext cx="1029960" cy="6746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4640"/>
                  <a:gd name="textAreaBottom" fmla="*/ 675360 h 6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39640" y="2924280"/>
                <a:ext cx="315720" cy="67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539640" y="3645000"/>
            <a:ext cx="7921080" cy="1296360"/>
            <a:chOff x="539640" y="3645000"/>
            <a:chExt cx="7921080" cy="1296360"/>
          </a:xfrm>
        </p:grpSpPr>
        <p:grpSp>
          <p:nvGrpSpPr>
            <p:cNvPr id="953" name=""/>
            <p:cNvGrpSpPr/>
            <p:nvPr/>
          </p:nvGrpSpPr>
          <p:grpSpPr>
            <a:xfrm>
              <a:off x="1569960" y="4318920"/>
              <a:ext cx="6890760" cy="622440"/>
              <a:chOff x="1569960" y="4318920"/>
              <a:chExt cx="6890760" cy="622440"/>
            </a:xfrm>
          </p:grpSpPr>
          <p:sp>
            <p:nvSpPr>
              <p:cNvPr id="954" name=""/>
              <p:cNvSpPr/>
              <p:nvPr/>
            </p:nvSpPr>
            <p:spPr>
              <a:xfrm>
                <a:off x="1569960" y="4318920"/>
                <a:ext cx="6890760" cy="6224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20720" y="44600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INTERMEDIARIOS: LA MAYORIA EN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539640" y="3645000"/>
              <a:ext cx="1029960" cy="1139760"/>
              <a:chOff x="539640" y="3645000"/>
              <a:chExt cx="1029960" cy="1139760"/>
            </a:xfrm>
          </p:grpSpPr>
          <p:sp>
            <p:nvSpPr>
              <p:cNvPr id="957" name=""/>
              <p:cNvSpPr/>
              <p:nvPr/>
            </p:nvSpPr>
            <p:spPr>
              <a:xfrm flipV="1">
                <a:off x="539640" y="4110840"/>
                <a:ext cx="1029960" cy="67392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920"/>
                  <a:gd name="textAreaBottom" fmla="*/ 674640 h 67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39640" y="3645000"/>
                <a:ext cx="315720" cy="67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539640" y="4365720"/>
            <a:ext cx="7921080" cy="1287360"/>
            <a:chOff x="539640" y="4365720"/>
            <a:chExt cx="7921080" cy="1287360"/>
          </a:xfrm>
        </p:grpSpPr>
        <p:grpSp>
          <p:nvGrpSpPr>
            <p:cNvPr id="960" name=""/>
            <p:cNvGrpSpPr/>
            <p:nvPr/>
          </p:nvGrpSpPr>
          <p:grpSpPr>
            <a:xfrm>
              <a:off x="1569960" y="5034960"/>
              <a:ext cx="6890760" cy="618120"/>
              <a:chOff x="1569960" y="5034960"/>
              <a:chExt cx="6890760" cy="618120"/>
            </a:xfrm>
          </p:grpSpPr>
          <p:sp>
            <p:nvSpPr>
              <p:cNvPr id="961" name=""/>
              <p:cNvSpPr/>
              <p:nvPr/>
            </p:nvSpPr>
            <p:spPr>
              <a:xfrm>
                <a:off x="1569960" y="5034960"/>
                <a:ext cx="6890760" cy="61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20720" y="504324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OCUMENTACIÓN DE LA EXPORTACIÓN: FACTURA AL INTERMEDI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539640" y="4365720"/>
              <a:ext cx="1029960" cy="1131480"/>
              <a:chOff x="539640" y="4365720"/>
              <a:chExt cx="1029960" cy="113148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539640" y="4828320"/>
                <a:ext cx="1029960" cy="6688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68880"/>
                  <a:gd name="textAreaBottom" fmla="*/ 669600 h 66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39640" y="4365720"/>
                <a:ext cx="315720" cy="66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250920" y="1341360"/>
            <a:ext cx="8476560" cy="733320"/>
            <a:chOff x="250920" y="1341360"/>
            <a:chExt cx="8476560" cy="733320"/>
          </a:xfrm>
        </p:grpSpPr>
        <p:sp>
          <p:nvSpPr>
            <p:cNvPr id="967" name=""/>
            <p:cNvSpPr/>
            <p:nvPr/>
          </p:nvSpPr>
          <p:spPr>
            <a:xfrm>
              <a:off x="250920" y="1341360"/>
              <a:ext cx="847656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1920" y="1478880"/>
              <a:ext cx="832212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2- MODALIDAD COMERCIAL DE LA EXPOR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39640" y="5084640"/>
            <a:ext cx="7921080" cy="1295640"/>
            <a:chOff x="539640" y="5084640"/>
            <a:chExt cx="7921080" cy="1295640"/>
          </a:xfrm>
        </p:grpSpPr>
        <p:grpSp>
          <p:nvGrpSpPr>
            <p:cNvPr id="970" name=""/>
            <p:cNvGrpSpPr/>
            <p:nvPr/>
          </p:nvGrpSpPr>
          <p:grpSpPr>
            <a:xfrm>
              <a:off x="1569960" y="5758200"/>
              <a:ext cx="6890760" cy="622080"/>
              <a:chOff x="1569960" y="5758200"/>
              <a:chExt cx="6890760" cy="622080"/>
            </a:xfrm>
          </p:grpSpPr>
          <p:sp>
            <p:nvSpPr>
              <p:cNvPr id="971" name=""/>
              <p:cNvSpPr/>
              <p:nvPr/>
            </p:nvSpPr>
            <p:spPr>
              <a:xfrm>
                <a:off x="1569960" y="5758200"/>
                <a:ext cx="6890760" cy="622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20720" y="577008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ESTINO DE LA MERCADERIA: PAÍS DISTINTO AL DEL INTERMEDI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539640" y="5084640"/>
              <a:ext cx="1029960" cy="1138680"/>
              <a:chOff x="539640" y="5084640"/>
              <a:chExt cx="1029960" cy="1138680"/>
            </a:xfrm>
          </p:grpSpPr>
          <p:sp>
            <p:nvSpPr>
              <p:cNvPr id="974" name=""/>
              <p:cNvSpPr/>
              <p:nvPr/>
            </p:nvSpPr>
            <p:spPr>
              <a:xfrm flipV="1">
                <a:off x="539640" y="5550120"/>
                <a:ext cx="1029960" cy="6732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39640" y="5084640"/>
                <a:ext cx="315720" cy="67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ETODO – FECHA DE EMBAR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79280" y="1411920"/>
            <a:ext cx="8640000" cy="824040"/>
            <a:chOff x="179280" y="1411920"/>
            <a:chExt cx="8640000" cy="824040"/>
          </a:xfrm>
        </p:grpSpPr>
        <p:sp>
          <p:nvSpPr>
            <p:cNvPr id="979" name=""/>
            <p:cNvSpPr/>
            <p:nvPr/>
          </p:nvSpPr>
          <p:spPr>
            <a:xfrm>
              <a:off x="179280" y="1456560"/>
              <a:ext cx="8640000" cy="734040"/>
            </a:xfrm>
            <a:prstGeom prst="roundRect">
              <a:avLst>
                <a:gd name="adj" fmla="val 16764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f1c0"/>
                </a:gs>
              </a:gsLst>
              <a:lin ang="54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720" y="1411920"/>
              <a:ext cx="8482680" cy="82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3- TRIANGULACIÓN DE EXPORTACION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 </a:t>
              </a: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REFACTU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1" name=""/>
          <p:cNvGraphicFramePr/>
          <p:nvPr/>
        </p:nvGraphicFramePr>
        <p:xfrm>
          <a:off x="395280" y="2924280"/>
          <a:ext cx="8209080" cy="2604960"/>
        </p:xfrm>
        <a:graphic>
          <a:graphicData uri="http://schemas.openxmlformats.org/drawingml/2006/table">
            <a:tbl>
              <a:tblPr/>
              <a:tblGrid>
                <a:gridCol w="2667600"/>
                <a:gridCol w="2873160"/>
                <a:gridCol w="26683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INA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"/>
          <p:cNvSpPr/>
          <p:nvPr/>
        </p:nvSpPr>
        <p:spPr>
          <a:xfrm>
            <a:off x="7485120" y="3932280"/>
            <a:ext cx="896760" cy="63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05480" y="3932280"/>
            <a:ext cx="863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484360" y="3932280"/>
            <a:ext cx="2121120" cy="770760"/>
            <a:chOff x="2484360" y="3932280"/>
            <a:chExt cx="2121120" cy="770760"/>
          </a:xfrm>
        </p:grpSpPr>
        <p:grpSp>
          <p:nvGrpSpPr>
            <p:cNvPr id="985" name=""/>
            <p:cNvGrpSpPr/>
            <p:nvPr/>
          </p:nvGrpSpPr>
          <p:grpSpPr>
            <a:xfrm>
              <a:off x="2556000" y="3932280"/>
              <a:ext cx="1296720" cy="770760"/>
              <a:chOff x="2556000" y="3932280"/>
              <a:chExt cx="1296720" cy="770760"/>
            </a:xfrm>
          </p:grpSpPr>
          <p:sp>
            <p:nvSpPr>
              <p:cNvPr id="986" name=""/>
              <p:cNvSpPr/>
              <p:nvPr/>
            </p:nvSpPr>
            <p:spPr>
              <a:xfrm>
                <a:off x="2556000" y="4365720"/>
                <a:ext cx="129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C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660400" y="3932280"/>
                <a:ext cx="93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N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2484360" y="4292640"/>
              <a:ext cx="21211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052720" y="4579920"/>
            <a:ext cx="5865480" cy="842400"/>
            <a:chOff x="2052720" y="4579920"/>
            <a:chExt cx="5865480" cy="842400"/>
          </a:xfrm>
        </p:grpSpPr>
        <p:sp>
          <p:nvSpPr>
            <p:cNvPr id="990" name=""/>
            <p:cNvSpPr/>
            <p:nvPr/>
          </p:nvSpPr>
          <p:spPr>
            <a:xfrm>
              <a:off x="4100400" y="50850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ÁNSITO FÍS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2052720" y="4579920"/>
              <a:ext cx="5865480" cy="433440"/>
              <a:chOff x="2052720" y="4579920"/>
              <a:chExt cx="5865480" cy="43344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2052720" y="4581720"/>
                <a:ext cx="5864040" cy="431640"/>
                <a:chOff x="2052720" y="4581720"/>
                <a:chExt cx="5864040" cy="43164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2052720" y="5011920"/>
                  <a:ext cx="58640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052720" y="4581720"/>
                  <a:ext cx="0" cy="431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flipH="1" flipV="1">
                <a:off x="7916400" y="4579920"/>
                <a:ext cx="180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5468760" y="3932280"/>
            <a:ext cx="2016360" cy="770760"/>
            <a:chOff x="5468760" y="3932280"/>
            <a:chExt cx="2016360" cy="770760"/>
          </a:xfrm>
        </p:grpSpPr>
        <p:sp>
          <p:nvSpPr>
            <p:cNvPr id="997" name=""/>
            <p:cNvSpPr/>
            <p:nvPr/>
          </p:nvSpPr>
          <p:spPr>
            <a:xfrm>
              <a:off x="5468760" y="4292640"/>
              <a:ext cx="201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724360" y="3932280"/>
              <a:ext cx="1297080" cy="770760"/>
              <a:chOff x="5724360" y="3932280"/>
              <a:chExt cx="1297080" cy="770760"/>
            </a:xfrm>
          </p:grpSpPr>
          <p:sp>
            <p:nvSpPr>
              <p:cNvPr id="999" name=""/>
              <p:cNvSpPr/>
              <p:nvPr/>
            </p:nvSpPr>
            <p:spPr>
              <a:xfrm>
                <a:off x="5724360" y="436572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C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29120" y="393228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N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1619280" y="393228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2" name=""/>
          <p:cNvGraphicFramePr/>
          <p:nvPr/>
        </p:nvGraphicFramePr>
        <p:xfrm>
          <a:off x="179280" y="1557360"/>
          <a:ext cx="8640720" cy="4732200"/>
        </p:xfrm>
        <a:graphic>
          <a:graphicData uri="http://schemas.openxmlformats.org/drawingml/2006/table">
            <a:tbl>
              <a:tblPr/>
              <a:tblGrid>
                <a:gridCol w="1656000"/>
                <a:gridCol w="1955520"/>
                <a:gridCol w="1982880"/>
                <a:gridCol w="1751040"/>
                <a:gridCol w="1295280"/>
              </a:tblGrid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TINAT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2         1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A LOCAL 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9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3             12     COMPRA AL PAIS 1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4             14     COMPRA AL PAIS 2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2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5           15     COMP PAIS 3        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4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1692360" y="33336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Frutiger-Bold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XPORTACIONES VERIFICADAS POR AF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33440" y="2217600"/>
            <a:ext cx="898560" cy="61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327400" y="2705040"/>
            <a:ext cx="896760" cy="63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84720" y="319572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19720" y="3697200"/>
            <a:ext cx="897120" cy="60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885080" y="4203720"/>
            <a:ext cx="898560" cy="60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042920" y="2762280"/>
            <a:ext cx="1224000" cy="524160"/>
            <a:chOff x="1042920" y="2762280"/>
            <a:chExt cx="1224000" cy="524160"/>
          </a:xfrm>
        </p:grpSpPr>
        <p:sp>
          <p:nvSpPr>
            <p:cNvPr id="1013" name=""/>
            <p:cNvSpPr/>
            <p:nvPr/>
          </p:nvSpPr>
          <p:spPr>
            <a:xfrm>
              <a:off x="1042920" y="27622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93840" y="30099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900000" y="2835360"/>
            <a:ext cx="1424160" cy="207360"/>
            <a:chOff x="900000" y="2835360"/>
            <a:chExt cx="1424160" cy="207360"/>
          </a:xfrm>
        </p:grpSpPr>
        <p:sp>
          <p:nvSpPr>
            <p:cNvPr id="1016" name=""/>
            <p:cNvSpPr/>
            <p:nvPr/>
          </p:nvSpPr>
          <p:spPr>
            <a:xfrm>
              <a:off x="900000" y="2835360"/>
              <a:ext cx="0" cy="20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00000" y="3033720"/>
              <a:ext cx="1424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916360" y="3267000"/>
            <a:ext cx="1223640" cy="522360"/>
            <a:chOff x="2916360" y="3267000"/>
            <a:chExt cx="1223640" cy="522360"/>
          </a:xfrm>
        </p:grpSpPr>
        <p:sp>
          <p:nvSpPr>
            <p:cNvPr id="1019" name=""/>
            <p:cNvSpPr/>
            <p:nvPr/>
          </p:nvSpPr>
          <p:spPr>
            <a:xfrm>
              <a:off x="2916360" y="3267000"/>
              <a:ext cx="12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38560" y="351288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771640" y="3338640"/>
            <a:ext cx="1508040" cy="207360"/>
            <a:chOff x="2771640" y="3338640"/>
            <a:chExt cx="1508040" cy="207360"/>
          </a:xfrm>
        </p:grpSpPr>
        <p:sp>
          <p:nvSpPr>
            <p:cNvPr id="1022" name=""/>
            <p:cNvSpPr/>
            <p:nvPr/>
          </p:nvSpPr>
          <p:spPr>
            <a:xfrm>
              <a:off x="2771640" y="3338640"/>
              <a:ext cx="0" cy="20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71640" y="3537000"/>
              <a:ext cx="1508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859280" y="3772080"/>
            <a:ext cx="1224000" cy="522720"/>
            <a:chOff x="4859280" y="3772080"/>
            <a:chExt cx="1224000" cy="522720"/>
          </a:xfrm>
        </p:grpSpPr>
        <p:sp>
          <p:nvSpPr>
            <p:cNvPr id="1025" name=""/>
            <p:cNvSpPr/>
            <p:nvPr/>
          </p:nvSpPr>
          <p:spPr>
            <a:xfrm>
              <a:off x="4859280" y="37720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83280" y="401832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716360" y="3843360"/>
            <a:ext cx="1508040" cy="213840"/>
            <a:chOff x="4716360" y="3843360"/>
            <a:chExt cx="1508040" cy="213840"/>
          </a:xfrm>
        </p:grpSpPr>
        <p:sp>
          <p:nvSpPr>
            <p:cNvPr id="1028" name=""/>
            <p:cNvSpPr/>
            <p:nvPr/>
          </p:nvSpPr>
          <p:spPr>
            <a:xfrm>
              <a:off x="4716360" y="3843360"/>
              <a:ext cx="0" cy="2138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16360" y="4047840"/>
              <a:ext cx="1508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838920" y="4233960"/>
            <a:ext cx="1297080" cy="563760"/>
            <a:chOff x="6838920" y="4233960"/>
            <a:chExt cx="1297080" cy="563760"/>
          </a:xfrm>
        </p:grpSpPr>
        <p:sp>
          <p:nvSpPr>
            <p:cNvPr id="1031" name=""/>
            <p:cNvSpPr/>
            <p:nvPr/>
          </p:nvSpPr>
          <p:spPr>
            <a:xfrm>
              <a:off x="6838920" y="4233960"/>
              <a:ext cx="129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28000" y="452124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6675480" y="4313160"/>
            <a:ext cx="1511280" cy="209520"/>
            <a:chOff x="6675480" y="4313160"/>
            <a:chExt cx="1511280" cy="209520"/>
          </a:xfrm>
        </p:grpSpPr>
        <p:sp>
          <p:nvSpPr>
            <p:cNvPr id="1034" name=""/>
            <p:cNvSpPr/>
            <p:nvPr/>
          </p:nvSpPr>
          <p:spPr>
            <a:xfrm>
              <a:off x="6675480" y="4313160"/>
              <a:ext cx="0" cy="2095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75480" y="4513320"/>
              <a:ext cx="15112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1187280" y="2187720"/>
            <a:ext cx="7286400" cy="2036160"/>
            <a:chOff x="1187280" y="2187720"/>
            <a:chExt cx="7286400" cy="2036160"/>
          </a:xfrm>
        </p:grpSpPr>
        <p:sp>
          <p:nvSpPr>
            <p:cNvPr id="1037" name=""/>
            <p:cNvSpPr/>
            <p:nvPr/>
          </p:nvSpPr>
          <p:spPr>
            <a:xfrm>
              <a:off x="1187280" y="2525400"/>
              <a:ext cx="727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473680" y="2525400"/>
              <a:ext cx="0" cy="1698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255400" y="2187720"/>
              <a:ext cx="49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ORTACION - MOVIMIENTO FISICO DE LA MERCAD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463680" y="6219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 u="sng">
                <a:solidFill>
                  <a:srgbClr val="00ff00"/>
                </a:solidFill>
                <a:uFillTx/>
                <a:latin typeface="Times New Roman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79640" y="6380280"/>
            <a:ext cx="43164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99640" y="6237360"/>
            <a:ext cx="39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 u="sng">
                <a:solidFill>
                  <a:srgbClr val="ff0000"/>
                </a:solidFill>
                <a:uFillTx/>
                <a:latin typeface="Times New Roman"/>
              </a:rPr>
              <a:t>MOVIMIENTO FÍSICO DE LA MERCAD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6381720"/>
            <a:ext cx="4334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437040" y="14860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AC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371600" y="2198520"/>
            <a:ext cx="7010280" cy="4110120"/>
            <a:chOff x="1371600" y="2198520"/>
            <a:chExt cx="7010280" cy="4110120"/>
          </a:xfrm>
        </p:grpSpPr>
        <p:sp>
          <p:nvSpPr>
            <p:cNvPr id="1046" name=""/>
            <p:cNvSpPr/>
            <p:nvPr/>
          </p:nvSpPr>
          <p:spPr>
            <a:xfrm>
              <a:off x="2439000" y="424332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imes New Roman"/>
                </a:rPr>
                <a:t>OFF SH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1371600" y="2198520"/>
              <a:ext cx="7010280" cy="4110120"/>
              <a:chOff x="1371600" y="2198520"/>
              <a:chExt cx="7010280" cy="411012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1371600" y="2198520"/>
                <a:ext cx="7010280" cy="4110120"/>
                <a:chOff x="1371600" y="2198520"/>
                <a:chExt cx="7010280" cy="4110120"/>
              </a:xfrm>
            </p:grpSpPr>
            <p:pic>
              <p:nvPicPr>
                <p:cNvPr id="1049" name="" descr=""/>
                <p:cNvPicPr/>
                <p:nvPr/>
              </p:nvPicPr>
              <p:blipFill>
                <a:blip r:embed="rId1"/>
                <a:srcRect l="14655" t="4632" r="56898" b="18123"/>
                <a:stretch/>
              </p:blipFill>
              <p:spPr>
                <a:xfrm>
                  <a:off x="1371600" y="2198520"/>
                  <a:ext cx="2514600" cy="411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0" name="" descr=""/>
                <p:cNvPicPr/>
                <p:nvPr/>
              </p:nvPicPr>
              <p:blipFill>
                <a:blip r:embed="rId2"/>
                <a:srcRect l="42242" t="4632" r="29311" b="18123"/>
                <a:stretch/>
              </p:blipFill>
              <p:spPr>
                <a:xfrm>
                  <a:off x="5867280" y="2198520"/>
                  <a:ext cx="2514600" cy="411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1" name=""/>
              <p:cNvSpPr/>
              <p:nvPr/>
            </p:nvSpPr>
            <p:spPr>
              <a:xfrm>
                <a:off x="2209680" y="4327200"/>
                <a:ext cx="11448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79840" y="5601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2705040" y="3870360"/>
            <a:ext cx="3670200" cy="2049120"/>
            <a:chOff x="2705040" y="3870360"/>
            <a:chExt cx="3670200" cy="2049120"/>
          </a:xfrm>
        </p:grpSpPr>
        <p:sp>
          <p:nvSpPr>
            <p:cNvPr id="1054" name=""/>
            <p:cNvSpPr/>
            <p:nvPr/>
          </p:nvSpPr>
          <p:spPr>
            <a:xfrm>
              <a:off x="4079520" y="49370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rcader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2705040" y="3870360"/>
              <a:ext cx="3670200" cy="2049120"/>
              <a:chOff x="2705040" y="3870360"/>
              <a:chExt cx="3670200" cy="20491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2705040" y="3870360"/>
                <a:ext cx="3670200" cy="2049120"/>
                <a:chOff x="2705040" y="3870360"/>
                <a:chExt cx="3670200" cy="20491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705040" y="3870360"/>
                  <a:ext cx="3670200" cy="1769760"/>
                </a:xfrm>
                <a:custGeom>
                  <a:avLst/>
                  <a:gdLst/>
                  <a:ahLst/>
                  <a:rect l="l" t="t" r="r" b="b"/>
                  <a:pathLst>
                    <a:path w="2312" h="1115">
                      <a:moveTo>
                        <a:pt x="0" y="1115"/>
                      </a:moveTo>
                      <a:lnTo>
                        <a:pt x="2312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745000" y="555120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869080" y="410364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60" name="" descr="Royal-Denship barcos cientificos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4419720" y="4636800"/>
                <a:ext cx="457200" cy="32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1" name=""/>
          <p:cNvGrpSpPr/>
          <p:nvPr/>
        </p:nvGrpSpPr>
        <p:grpSpPr>
          <a:xfrm>
            <a:off x="1399680" y="4383000"/>
            <a:ext cx="1269000" cy="1450080"/>
            <a:chOff x="1399680" y="4383000"/>
            <a:chExt cx="1269000" cy="1450080"/>
          </a:xfrm>
        </p:grpSpPr>
        <p:pic>
          <p:nvPicPr>
            <p:cNvPr id="1062" name="" descr=""/>
            <p:cNvPicPr/>
            <p:nvPr/>
          </p:nvPicPr>
          <p:blipFill>
            <a:blip r:embed="rId5"/>
            <a:stretch/>
          </p:blipFill>
          <p:spPr>
            <a:xfrm>
              <a:off x="1568520" y="4937040"/>
              <a:ext cx="45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1524960" y="5127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31840" y="4383000"/>
              <a:ext cx="636840" cy="1231920"/>
            </a:xfrm>
            <a:custGeom>
              <a:avLst/>
              <a:gdLst/>
              <a:ahLst/>
              <a:rect l="l" t="t" r="r" b="b"/>
              <a:pathLst>
                <a:path w="401" h="776">
                  <a:moveTo>
                    <a:pt x="401" y="776"/>
                  </a:moveTo>
                  <a:cubicBezTo>
                    <a:pt x="340" y="712"/>
                    <a:pt x="66" y="521"/>
                    <a:pt x="33" y="392"/>
                  </a:cubicBezTo>
                  <a:cubicBezTo>
                    <a:pt x="0" y="263"/>
                    <a:pt x="166" y="82"/>
                    <a:pt x="20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99680" y="54957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Fa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362320" y="2943360"/>
            <a:ext cx="4000320" cy="1465200"/>
            <a:chOff x="2362320" y="2943360"/>
            <a:chExt cx="4000320" cy="1465200"/>
          </a:xfrm>
        </p:grpSpPr>
        <p:pic>
          <p:nvPicPr>
            <p:cNvPr id="1067" name="" descr=""/>
            <p:cNvPicPr/>
            <p:nvPr/>
          </p:nvPicPr>
          <p:blipFill>
            <a:blip r:embed="rId6"/>
            <a:stretch/>
          </p:blipFill>
          <p:spPr>
            <a:xfrm>
              <a:off x="3619440" y="3260880"/>
              <a:ext cx="45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3576240" y="3451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 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62320" y="3768840"/>
              <a:ext cx="4000320" cy="639720"/>
            </a:xfrm>
            <a:custGeom>
              <a:avLst/>
              <a:gdLst/>
              <a:ahLst/>
              <a:rect l="l" t="t" r="r" b="b"/>
              <a:pathLst>
                <a:path w="2520" h="403">
                  <a:moveTo>
                    <a:pt x="2520" y="0"/>
                  </a:moveTo>
                  <a:cubicBezTo>
                    <a:pt x="2232" y="27"/>
                    <a:pt x="1212" y="104"/>
                    <a:pt x="792" y="171"/>
                  </a:cubicBezTo>
                  <a:cubicBezTo>
                    <a:pt x="372" y="238"/>
                    <a:pt x="165" y="355"/>
                    <a:pt x="0" y="40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58520" y="2943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Fa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2034360" y="52236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OPERATORIA FIS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773720" y="598320"/>
            <a:ext cx="61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OTRA OPERATORIA FIS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587600" y="1668600"/>
            <a:ext cx="7010280" cy="4109760"/>
            <a:chOff x="1587600" y="1668600"/>
            <a:chExt cx="7010280" cy="4109760"/>
          </a:xfrm>
        </p:grpSpPr>
        <p:pic>
          <p:nvPicPr>
            <p:cNvPr id="1075" name="" descr=""/>
            <p:cNvPicPr/>
            <p:nvPr/>
          </p:nvPicPr>
          <p:blipFill>
            <a:blip r:embed="rId1"/>
            <a:srcRect l="14655" t="4632" r="56898" b="18123"/>
            <a:stretch/>
          </p:blipFill>
          <p:spPr>
            <a:xfrm>
              <a:off x="1587600" y="1668600"/>
              <a:ext cx="2514600" cy="41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2"/>
            <a:srcRect l="42242" t="4632" r="29311" b="18123"/>
            <a:stretch/>
          </p:blipFill>
          <p:spPr>
            <a:xfrm>
              <a:off x="6083280" y="1668600"/>
              <a:ext cx="25146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2425680" y="3796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95840" y="5071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54280" y="5397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02040" y="402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15360" y="1531800"/>
            <a:ext cx="46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FACTRUACIÓN COMPL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123560" y="3672000"/>
            <a:ext cx="1822320" cy="1640880"/>
            <a:chOff x="1123560" y="3672000"/>
            <a:chExt cx="1822320" cy="1640880"/>
          </a:xfrm>
        </p:grpSpPr>
        <p:grpSp>
          <p:nvGrpSpPr>
            <p:cNvPr id="1083" name=""/>
            <p:cNvGrpSpPr/>
            <p:nvPr/>
          </p:nvGrpSpPr>
          <p:grpSpPr>
            <a:xfrm>
              <a:off x="1130040" y="4178520"/>
              <a:ext cx="1066320" cy="1134360"/>
              <a:chOff x="1130040" y="4178520"/>
              <a:chExt cx="1066320" cy="1134360"/>
            </a:xfrm>
          </p:grpSpPr>
          <p:pic>
            <p:nvPicPr>
              <p:cNvPr id="10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720" y="4178520"/>
                <a:ext cx="45684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1396800" y="436896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$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040" y="4762440"/>
                <a:ext cx="1066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500" spc="-1" strike="noStrike">
                    <a:solidFill>
                      <a:srgbClr val="000000"/>
                    </a:solidFill>
                    <a:latin typeface="Times New Roman"/>
                  </a:rPr>
                  <a:t>Vende empresa 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2131920" y="3936960"/>
              <a:ext cx="813960" cy="1181160"/>
            </a:xfrm>
            <a:custGeom>
              <a:avLst/>
              <a:gdLst/>
              <a:ahLst/>
              <a:rect l="l" t="t" r="r" b="b"/>
              <a:pathLst>
                <a:path w="513" h="744">
                  <a:moveTo>
                    <a:pt x="513" y="744"/>
                  </a:moveTo>
                  <a:cubicBezTo>
                    <a:pt x="460" y="732"/>
                    <a:pt x="274" y="723"/>
                    <a:pt x="193" y="672"/>
                  </a:cubicBezTo>
                  <a:cubicBezTo>
                    <a:pt x="112" y="621"/>
                    <a:pt x="50" y="520"/>
                    <a:pt x="25" y="440"/>
                  </a:cubicBezTo>
                  <a:cubicBezTo>
                    <a:pt x="0" y="360"/>
                    <a:pt x="14" y="265"/>
                    <a:pt x="41" y="192"/>
                  </a:cubicBezTo>
                  <a:cubicBezTo>
                    <a:pt x="68" y="119"/>
                    <a:pt x="155" y="40"/>
                    <a:pt x="18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23560" y="36720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FF SHOR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286000" y="2425680"/>
            <a:ext cx="2204640" cy="1812240"/>
            <a:chOff x="2286000" y="2425680"/>
            <a:chExt cx="2204640" cy="1812240"/>
          </a:xfrm>
        </p:grpSpPr>
        <p:pic>
          <p:nvPicPr>
            <p:cNvPr id="1090" name="" descr=""/>
            <p:cNvPicPr/>
            <p:nvPr/>
          </p:nvPicPr>
          <p:blipFill>
            <a:blip r:embed="rId4"/>
            <a:stretch/>
          </p:blipFill>
          <p:spPr>
            <a:xfrm>
              <a:off x="2589120" y="2946600"/>
              <a:ext cx="4568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2544840" y="31370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1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86000" y="2425680"/>
              <a:ext cx="113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Factura Off Shor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94840" y="39006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FF SHOR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77960" y="3716280"/>
              <a:ext cx="610560" cy="3733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0" y="43"/>
                  </a:moveTo>
                  <a:cubicBezTo>
                    <a:pt x="28" y="34"/>
                    <a:pt x="115" y="0"/>
                    <a:pt x="168" y="3"/>
                  </a:cubicBezTo>
                  <a:cubicBezTo>
                    <a:pt x="221" y="6"/>
                    <a:pt x="284" y="39"/>
                    <a:pt x="320" y="59"/>
                  </a:cubicBezTo>
                  <a:cubicBezTo>
                    <a:pt x="356" y="79"/>
                    <a:pt x="383" y="94"/>
                    <a:pt x="384" y="123"/>
                  </a:cubicBezTo>
                  <a:cubicBezTo>
                    <a:pt x="385" y="152"/>
                    <a:pt x="340" y="212"/>
                    <a:pt x="328" y="2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2705040" y="3263760"/>
            <a:ext cx="3911760" cy="2328120"/>
            <a:chOff x="2705040" y="3263760"/>
            <a:chExt cx="3911760" cy="2328120"/>
          </a:xfrm>
        </p:grpSpPr>
        <p:sp>
          <p:nvSpPr>
            <p:cNvPr id="1096" name=""/>
            <p:cNvSpPr/>
            <p:nvPr/>
          </p:nvSpPr>
          <p:spPr>
            <a:xfrm>
              <a:off x="2705040" y="5094000"/>
              <a:ext cx="3759480" cy="328680"/>
            </a:xfrm>
            <a:custGeom>
              <a:avLst/>
              <a:gdLst/>
              <a:ahLst/>
              <a:rect l="l" t="t" r="r" b="b"/>
              <a:pathLst>
                <a:path w="2368" h="207">
                  <a:moveTo>
                    <a:pt x="0" y="207"/>
                  </a:moveTo>
                  <a:lnTo>
                    <a:pt x="2368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464520" y="3263760"/>
              <a:ext cx="152280" cy="18288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461200" y="4457520"/>
              <a:ext cx="1066680" cy="1134360"/>
              <a:chOff x="5461200" y="4457520"/>
              <a:chExt cx="1066680" cy="1134360"/>
            </a:xfrm>
          </p:grpSpPr>
          <p:pic>
            <p:nvPicPr>
              <p:cNvPr id="10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72240" y="4457520"/>
                <a:ext cx="45720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"/>
              <p:cNvSpPr/>
              <p:nvPr/>
            </p:nvSpPr>
            <p:spPr>
              <a:xfrm>
                <a:off x="5728320" y="464796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$1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61200" y="504144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500" spc="-1" strike="noStrike">
                    <a:solidFill>
                      <a:srgbClr val="000000"/>
                    </a:solidFill>
                    <a:latin typeface="Times New Roman"/>
                  </a:rPr>
                  <a:t>Vende empresa 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2" name=""/>
          <p:cNvGrpSpPr/>
          <p:nvPr/>
        </p:nvGrpSpPr>
        <p:grpSpPr>
          <a:xfrm>
            <a:off x="2057760" y="2986200"/>
            <a:ext cx="3090960" cy="3465000"/>
            <a:chOff x="2057760" y="2986200"/>
            <a:chExt cx="3090960" cy="3465000"/>
          </a:xfrm>
        </p:grpSpPr>
        <p:grpSp>
          <p:nvGrpSpPr>
            <p:cNvPr id="1103" name=""/>
            <p:cNvGrpSpPr/>
            <p:nvPr/>
          </p:nvGrpSpPr>
          <p:grpSpPr>
            <a:xfrm>
              <a:off x="2679840" y="2986200"/>
              <a:ext cx="2468880" cy="3465000"/>
              <a:chOff x="2679840" y="2986200"/>
              <a:chExt cx="2468880" cy="3465000"/>
            </a:xfrm>
          </p:grpSpPr>
          <p:sp>
            <p:nvSpPr>
              <p:cNvPr id="1104" name=""/>
              <p:cNvSpPr/>
              <p:nvPr/>
            </p:nvSpPr>
            <p:spPr>
              <a:xfrm>
                <a:off x="2679840" y="3492720"/>
                <a:ext cx="1299960" cy="1942920"/>
              </a:xfrm>
              <a:custGeom>
                <a:avLst/>
                <a:gdLst/>
                <a:ahLst/>
                <a:rect l="l" t="t" r="r" b="b"/>
                <a:pathLst>
                  <a:path w="819" h="1224">
                    <a:moveTo>
                      <a:pt x="768" y="0"/>
                    </a:moveTo>
                    <a:cubicBezTo>
                      <a:pt x="775" y="81"/>
                      <a:pt x="813" y="357"/>
                      <a:pt x="816" y="488"/>
                    </a:cubicBezTo>
                    <a:cubicBezTo>
                      <a:pt x="819" y="619"/>
                      <a:pt x="812" y="679"/>
                      <a:pt x="784" y="784"/>
                    </a:cubicBezTo>
                    <a:cubicBezTo>
                      <a:pt x="756" y="889"/>
                      <a:pt x="779" y="1047"/>
                      <a:pt x="648" y="1120"/>
                    </a:cubicBezTo>
                    <a:cubicBezTo>
                      <a:pt x="517" y="1193"/>
                      <a:pt x="135" y="1202"/>
                      <a:pt x="0" y="12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4440" y="3363840"/>
                <a:ext cx="685800" cy="636840"/>
              </a:xfrm>
              <a:custGeom>
                <a:avLst/>
                <a:gdLst/>
                <a:ahLst/>
                <a:rect l="l" t="t" r="r" b="b"/>
                <a:pathLst>
                  <a:path w="432" h="401">
                    <a:moveTo>
                      <a:pt x="0" y="401"/>
                    </a:moveTo>
                    <a:cubicBezTo>
                      <a:pt x="7" y="361"/>
                      <a:pt x="11" y="222"/>
                      <a:pt x="40" y="161"/>
                    </a:cubicBezTo>
                    <a:cubicBezTo>
                      <a:pt x="69" y="100"/>
                      <a:pt x="128" y="58"/>
                      <a:pt x="176" y="33"/>
                    </a:cubicBezTo>
                    <a:cubicBezTo>
                      <a:pt x="224" y="8"/>
                      <a:pt x="285" y="0"/>
                      <a:pt x="328" y="9"/>
                    </a:cubicBezTo>
                    <a:cubicBezTo>
                      <a:pt x="371" y="18"/>
                      <a:pt x="410" y="72"/>
                      <a:pt x="432" y="8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3645000" y="3264120"/>
                <a:ext cx="38088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3721320" y="3339720"/>
                <a:ext cx="380880" cy="381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683160" y="3302280"/>
                <a:ext cx="38088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04520" y="2986200"/>
                <a:ext cx="174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OFF SHORE “N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3187800" y="5286600"/>
                <a:ext cx="1600200" cy="1164600"/>
                <a:chOff x="3187800" y="5286600"/>
                <a:chExt cx="1600200" cy="1164600"/>
              </a:xfrm>
            </p:grpSpPr>
            <p:pic>
              <p:nvPicPr>
                <p:cNvPr id="11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27440" y="5286600"/>
                  <a:ext cx="45720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2" name=""/>
                <p:cNvSpPr/>
                <p:nvPr/>
              </p:nvSpPr>
              <p:spPr>
                <a:xfrm>
                  <a:off x="3683520" y="5477040"/>
                  <a:ext cx="589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$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187800" y="5870520"/>
                  <a:ext cx="16002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pra empresa 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4" name=""/>
            <p:cNvSpPr/>
            <p:nvPr/>
          </p:nvSpPr>
          <p:spPr>
            <a:xfrm>
              <a:off x="2057760" y="543564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mpresa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2921040" y="2933640"/>
            <a:ext cx="3656520" cy="2171880"/>
            <a:chOff x="2921040" y="2933640"/>
            <a:chExt cx="3656520" cy="2171880"/>
          </a:xfrm>
        </p:grpSpPr>
        <p:grpSp>
          <p:nvGrpSpPr>
            <p:cNvPr id="1116" name=""/>
            <p:cNvGrpSpPr/>
            <p:nvPr/>
          </p:nvGrpSpPr>
          <p:grpSpPr>
            <a:xfrm>
              <a:off x="2921040" y="3111480"/>
              <a:ext cx="3619440" cy="1994040"/>
              <a:chOff x="2921040" y="3111480"/>
              <a:chExt cx="3619440" cy="1994040"/>
            </a:xfrm>
          </p:grpSpPr>
          <p:sp>
            <p:nvSpPr>
              <p:cNvPr id="1117" name=""/>
              <p:cNvSpPr/>
              <p:nvPr/>
            </p:nvSpPr>
            <p:spPr>
              <a:xfrm>
                <a:off x="5121000" y="3111480"/>
                <a:ext cx="1195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ercaderí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" descr="Royal-Denship barcos cientificos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4788000" y="3416400"/>
                <a:ext cx="60948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"/>
              <p:cNvSpPr/>
              <p:nvPr/>
            </p:nvSpPr>
            <p:spPr>
              <a:xfrm>
                <a:off x="2921040" y="3264120"/>
                <a:ext cx="3619440" cy="1841400"/>
              </a:xfrm>
              <a:custGeom>
                <a:avLst/>
                <a:gdLst/>
                <a:ahLst/>
                <a:rect l="l" t="t" r="r" b="b"/>
                <a:pathLst>
                  <a:path w="2280" h="1160">
                    <a:moveTo>
                      <a:pt x="0" y="1160"/>
                    </a:moveTo>
                    <a:lnTo>
                      <a:pt x="2280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3029760" y="45720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0480" y="29336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900000" y="395280"/>
            <a:ext cx="775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84360" y="2205000"/>
            <a:ext cx="7939800" cy="1512360"/>
            <a:chOff x="684360" y="2205000"/>
            <a:chExt cx="7939800" cy="1512360"/>
          </a:xfrm>
        </p:grpSpPr>
        <p:grpSp>
          <p:nvGrpSpPr>
            <p:cNvPr id="1124" name=""/>
            <p:cNvGrpSpPr/>
            <p:nvPr/>
          </p:nvGrpSpPr>
          <p:grpSpPr>
            <a:xfrm>
              <a:off x="1714680" y="2583000"/>
              <a:ext cx="6909480" cy="1134360"/>
              <a:chOff x="1714680" y="2583000"/>
              <a:chExt cx="6909480" cy="1134360"/>
            </a:xfrm>
          </p:grpSpPr>
          <p:sp>
            <p:nvSpPr>
              <p:cNvPr id="1125" name=""/>
              <p:cNvSpPr/>
              <p:nvPr/>
            </p:nvSpPr>
            <p:spPr>
              <a:xfrm>
                <a:off x="1714680" y="2583000"/>
                <a:ext cx="6909480" cy="113436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765800" y="2714040"/>
                <a:ext cx="6807240" cy="8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EMPRESAS CONSIDERABAN COMO COMPARABLE EL PRECIO DE MERCADO DEL COMMODITIE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 flipV="1">
              <a:off x="684360" y="2205000"/>
              <a:ext cx="1030320" cy="1232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360 h 1232640"/>
                <a:gd name="textAreaBottom" fmla="*/ 1233360 h 123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682560" y="2708280"/>
            <a:ext cx="7921080" cy="2736000"/>
            <a:chOff x="682560" y="2708280"/>
            <a:chExt cx="7921080" cy="2736000"/>
          </a:xfrm>
        </p:grpSpPr>
        <p:grpSp>
          <p:nvGrpSpPr>
            <p:cNvPr id="1129" name=""/>
            <p:cNvGrpSpPr/>
            <p:nvPr/>
          </p:nvGrpSpPr>
          <p:grpSpPr>
            <a:xfrm>
              <a:off x="1712880" y="4286160"/>
              <a:ext cx="6890760" cy="1158120"/>
              <a:chOff x="1712880" y="4286160"/>
              <a:chExt cx="6890760" cy="1158120"/>
            </a:xfrm>
          </p:grpSpPr>
          <p:sp>
            <p:nvSpPr>
              <p:cNvPr id="1130" name=""/>
              <p:cNvSpPr/>
              <p:nvPr/>
            </p:nvSpPr>
            <p:spPr>
              <a:xfrm>
                <a:off x="1712880" y="4286160"/>
                <a:ext cx="6890760" cy="115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763640" y="456264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EL VALOR DE LA EXPORTACION COINCIDÍA CON EL PRECIO DEL MERCADO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82560" y="2708280"/>
              <a:ext cx="1029960" cy="2527200"/>
              <a:chOff x="682560" y="2708280"/>
              <a:chExt cx="1029960" cy="252720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682560" y="3866040"/>
                <a:ext cx="1029960" cy="13694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369440"/>
                  <a:gd name="textAreaBottom" fmla="*/ 1370160 h 13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2560" y="2708280"/>
                <a:ext cx="315720" cy="13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250920" y="1484280"/>
            <a:ext cx="8476560" cy="732960"/>
            <a:chOff x="250920" y="1484280"/>
            <a:chExt cx="8476560" cy="732960"/>
          </a:xfrm>
        </p:grpSpPr>
        <p:sp>
          <p:nvSpPr>
            <p:cNvPr id="1136" name=""/>
            <p:cNvSpPr/>
            <p:nvPr/>
          </p:nvSpPr>
          <p:spPr>
            <a:xfrm>
              <a:off x="250920" y="1484280"/>
              <a:ext cx="8476560" cy="7329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1920" y="1621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4- JUSTIFICACIÓNN DE PRECIOS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4:14Z</dcterms:modified>
  <cp:revision>168</cp:revision>
  <dc:subject/>
  <dc:title>Diapositiva 1</dc:title>
</cp:coreProperties>
</file>