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A39A-11FB-4856-BEE4-A206E286E7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06F-8E70-49FF-B4E7-10FE9E32F0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AAC-067C-4DD5-8A6E-2FC6FCC097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B45C-9847-4292-A2FA-794B4B05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72E9-4EF9-45CA-AEBD-08C67D5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04BE-C080-4D86-8F68-E8A2F3B9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9006-4522-4473-BF90-3E2A329D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1E7-5D15-4A5C-879F-984A8EBB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E2F2-B2AB-4C3A-917B-B7A62D2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9AA2-62BF-46C5-B7FF-2481B8A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CA6F-17FB-4FA0-8269-E2F8CCFB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937-34A8-4344-9CEB-6B433D3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212-23A9-484F-9EA3-0CAF21E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E9FA-3108-4A92-A33C-C9D4564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7F1F-43AE-4AB3-AC78-308FE13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FA7-DABF-4BCE-A455-1038343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A37-0FB1-4CAC-B3CF-C14C933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DF8E-1FB9-4F8E-B0C8-CEBC2DA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12BA-CF7D-47BC-9B9F-888DE6B3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FCE-123C-4428-A0B0-40EF22BC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6F51-6FC2-4452-9783-9125680E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3403-5485-4845-9CE0-330CDBE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1320-56E9-4D1C-BB66-CAFC87DE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0997-B9D9-45DE-B2E3-CF29EC11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5FED-D715-41F1-9690-01D1850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515E-8C1E-4B0C-9FDA-EEA16E0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72A9-844A-4AAF-8D0F-EB2B61C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912-E223-42DC-919E-4EADECCA54C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EE94-0E41-497B-B1E5-E9B4C6D1040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ervicios de Información y Asistencia al Contribuy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i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ogo"/>
          <p:cNvPicPr/>
          <p:nvPr/>
        </p:nvPicPr>
        <p:blipFill>
          <a:blip r:embed="rId1"/>
          <a:stretch/>
        </p:blipFill>
        <p:spPr>
          <a:xfrm>
            <a:off x="5940360" y="115920"/>
            <a:ext cx="30243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11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a vez que llega una comunicación a la bandeja se genera un correo que se envía a la dirección electrónica del domicilio constituido avisando que tiene una nueva comunicación para ser le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7383" r="0" b="29532"/>
          <a:stretch/>
        </p:blipFill>
        <p:spPr>
          <a:xfrm>
            <a:off x="468360" y="1557360"/>
            <a:ext cx="8207280" cy="4751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18458" r="2952" b="29532"/>
          <a:stretch/>
        </p:blipFill>
        <p:spPr>
          <a:xfrm>
            <a:off x="468360" y="155736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uncionario tiene acceso en producción a la consulta de la bandeja de cada contribuy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5113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7383" r="0" b="18458"/>
          <a:stretch/>
        </p:blipFill>
        <p:spPr>
          <a:xfrm>
            <a:off x="468360" y="1628640"/>
            <a:ext cx="8207280" cy="4608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2068200"/>
            <a:ext cx="80740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SE GENERÓ ESA COMUNIC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CVA Bandeja de Entrada – se analizan las solicitudes de renovación de C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renuevan o se recha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rechazan se elige de un combo el motivo de rechazo, y escribiendo si corresponde el deta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GI adqui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Ate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un sistema que compren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Tu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una solución para la Automatización y Optimización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al Públ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stión inteligente de las colas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Pau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además una solución para la comunicación visual en el punto de atención del cliente, emisión de pautas publicitarias e información institucional. Permite desplegar los números de atención al público de manera integrada con diferentes contenidos en dispositivos de exhibición como: pantallas LCD, plasma o LED, pantallas gigantes, monitores y cañones, instalados en los Centros de atención al cliente y la gestión de venta de estas pautas publicit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all Center comienza a funcionar en el año 2007 cuando se implementa en el Uruguay la reforma tribu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ami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1: I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2: IRPF/I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3: Otros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5: Trá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8: Solicitud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mes de junio 2013 se sustituye el software instalado y se amplía el hardware del Call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nuevo software permite generar nuevos informes históricos y de tiempo real tabulares y gráficos, alertas y notificaciones y obtener datos estadísticos que hasta el momento no se disponí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iciativas a impleme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 Back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amadas abandonadas en cola que no han logrado ser atendidas por un agente, quedan registradas en un listado de llamadas a ser devue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stas de satisfacción automáticas, al finalizar la llamada , el agente le consulta al contribuyente si quiere contestar una encuesta y en caso de respuesta afirmativa, deriva la llamada al IV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es de calidad, se realizaran escuchas en las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atención al contribuyente, así como facilitar la gestión estadística de los puestos de atención beneficiando la gestión ger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eficiencia de los puestos de atención mediante el monitoreo y la toma de decisiones en tiempo 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el control de los puestos de atención llevando registro de números y trámites atend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btener registro de datos estadísticos, como ser tiempo de espera promedio por trámite, tiempo de atención, etc. que permitan realizar mejoras en el proces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mayor libertad al contribuyente, permitiendo utilizar el tiempo de espera para realizar otras ac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trega de núm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puede realizar en varias modal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Asistid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enta con una interfase a través de la cuál el operador (funcionario de la Institución) solicita la emisión de un número de atención para entregar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de Números en modalidad Auto-Atención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capaz de interactuar con terminales de autoservicio, de forma que el contribuyente pueda solicitar directamente la emisión de un número de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erv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la reserva de Números de Atención por parte de un contribuyent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Experiencia piloto en campaña IRPF 2012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estión de números de atenció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llamado de los números se realiza por orden de llegada, pudiendo definirse además un orden de prioridad por tipo de trá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emás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iterar el llamado de un número de atención y en caso de que el contribuyente no se presente ponerlo en una cola de atrasados para ser llamado más ta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ir al cliente a otro puest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alizar un llamado automático de los números atrasados cada cierto tiempo (configurab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emplar los casos de clientes que requieren una atención prioritaria (ej.embaraza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ulta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diferentes consultas para obtener información sobre la gestión de atención que se está realizando en un centro de atención específico, en un conjunto o en el total de los centros de aten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números entregados y números sin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rámites at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iempos de espera y tiempos de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puestos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las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ilitar información a contribuy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er el secret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andeja de Comunicaciones es una herramienta para informar situaciones en las que la Administración debe salvaguardar el secreto tributario sin que el contribuyente deba concurrir a la of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– Rechazos de Solicitud de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dualmente se incorporarán distintos servicios, incluyendo comunicaciones masivas que ahora se realizan a través de citaciones en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ESO - a través de servicios en línea, previamente logueado, con pin o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7383" r="0" b="0"/>
          <a:stretch/>
        </p:blipFill>
        <p:spPr>
          <a:xfrm>
            <a:off x="826920" y="1484280"/>
            <a:ext cx="7701120" cy="4897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5:04:59Z</dcterms:created>
  <dc:creator>Ana</dc:creator>
  <dc:description/>
  <dc:language>en-US</dc:language>
  <cp:lastModifiedBy>María S. López</cp:lastModifiedBy>
  <dcterms:modified xsi:type="dcterms:W3CDTF">2013-09-27T15:06:32Z</dcterms:modified>
  <cp:revision>14</cp:revision>
  <dc:subject/>
  <dc:title>Gestión de colas de espera</dc:title>
</cp:coreProperties>
</file>