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2C9-0A72-476C-A981-908572CE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AE3-6C29-4DD7-AEF4-61576E8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8D7-CABD-49AC-A192-C77AC58A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8B4-8BC2-4C82-9EDF-7E4ED78F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6A8-FF54-473E-9760-0D764E89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99F-6AE1-44A5-A01C-E71A61E1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34F-6E9B-4623-BE9F-995021E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DF5-551D-4FCA-B16F-431F0F7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A9A-7E4A-44E7-86E6-D856717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F72-352B-4339-B4DE-F7D94EF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C2C-D757-423A-9F23-5227E57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0AA-DE54-4F91-9F2B-7A8072E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C42-B043-4200-BA2A-ABF02B13ED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EUROsociAL II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Visita de Intercambio de experiencias Sur-Sur entre AATT sobre servicios de Información y Asistencia Tributaria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Buenos Aires, 11 a 13 de septiembr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Marcador de contenido" descr="DSC09370.JPG"/>
          <p:cNvPicPr/>
          <p:nvPr/>
        </p:nvPicPr>
        <p:blipFill>
          <a:blip r:embed="rId1"/>
          <a:stretch/>
        </p:blipFill>
        <p:spPr>
          <a:xfrm>
            <a:off x="1714680" y="171468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DSC09375.JPG"/>
          <p:cNvPicPr/>
          <p:nvPr/>
        </p:nvPicPr>
        <p:blipFill>
          <a:blip r:embed="rId2"/>
          <a:stretch/>
        </p:blipFill>
        <p:spPr>
          <a:xfrm>
            <a:off x="6286680" y="1714680"/>
            <a:ext cx="261936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DSC09373.JPG"/>
          <p:cNvPicPr/>
          <p:nvPr/>
        </p:nvPicPr>
        <p:blipFill>
          <a:blip r:embed="rId3"/>
          <a:stretch/>
        </p:blipFill>
        <p:spPr>
          <a:xfrm>
            <a:off x="571680" y="40719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45" name="6 Imagen" descr="DSC09359.JPG"/>
          <p:cNvPicPr/>
          <p:nvPr/>
        </p:nvPicPr>
        <p:blipFill>
          <a:blip r:embed="rId4"/>
          <a:stretch/>
        </p:blipFill>
        <p:spPr>
          <a:xfrm>
            <a:off x="4500720" y="3929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si 600.000 contribuyentes, 10 administraciones y una de grandes contribuyentes (500) agrupadas en 4 Reg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Homogeneidad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Principal objetivo del servicio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habituales más supuestos artículos 102 y 119 del Código tribu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habían priorizado tareas de control pero a partir de 2013 nuevo impulso a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ortante peso atención telefónica 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medios de monitoreo y evaluación atenci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de uniformidad en atenc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Imagen" descr="DSC03147.JPG"/>
          <p:cNvPicPr/>
          <p:nvPr/>
        </p:nvPicPr>
        <p:blipFill>
          <a:blip r:embed="rId1"/>
          <a:stretch/>
        </p:blipFill>
        <p:spPr>
          <a:xfrm>
            <a:off x="8572680" y="6429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4 Imagen" descr="DSC05614.JPG"/>
          <p:cNvPicPr/>
          <p:nvPr/>
        </p:nvPicPr>
        <p:blipFill>
          <a:blip r:embed="rId2"/>
          <a:stretch/>
        </p:blipFill>
        <p:spPr>
          <a:xfrm>
            <a:off x="6643800" y="498312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reación de un centro de llamadas con número único y una base de FAQs. Previsto para octu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lección, promoción y capacitación del personal hu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ducir rotación del personal de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Elementos 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l 16% de presión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ey de Fortalecimiento 2011 introduce novedades muy relevantes en materia de gestión y planificació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a de las estrategias es el fomento del CV q actualmente suponen el 90% de los ingre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inculación objetivos a sistema de bonos (Plan estratégico y plan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aceptación de facebook, capta el sentir de la calle y permite reaccionar con rapide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uzón electrónico y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Imagen" descr="DSC05531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r declaraciones virtuales: problema cobertura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servicios en el Po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integrado de todas las AAPP, proyecto a nivel est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 un sistema de FAQs siguendo modelo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rtificación ISO 9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nfoque de procesos no de personas o á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solo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de atención: </a:t>
            </a: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canal ún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0000"/>
                </a:solidFill>
                <a:latin typeface="Calibri"/>
              </a:rPr>
              <a:t>Sistema de calidad totalmente electrónico, no hay pap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undamental medición de result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itas y turnos: sistema con desarrollo propio, importancia de la planific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 reducción atención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Imagen" descr="Diego Rivera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Objetivos y compromi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ulso Redes sociales: canal de ida y vuel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ificación oficinas Federales y Cent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abilidad digital (modelo brasileñ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talecer FAQ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copilación y cruces de datos para mejorar la calidad de la infro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quema de colaboradores para ampliar la capacidad de l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Declaración IRPF sugerida: gran novedad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vos servicios on li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resentación declar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olicitud de aplaza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onocer estado devol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alculo preliminar d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sibilidad modificar declaración sugerida: incorporación ingresos y ga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Imagen" descr="DSC03149.JPG"/>
          <p:cNvPicPr/>
          <p:nvPr/>
        </p:nvPicPr>
        <p:blipFill>
          <a:blip r:embed="rId1"/>
          <a:stretch/>
        </p:blipFill>
        <p:spPr>
          <a:xfrm>
            <a:off x="638172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ncillo proceso para el registro por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tilización de kioskos de autoservicio solventar brecha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Compromi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lorar la implantación de servicios en teléfonos móviles a semejanza del SIN de Bolivia (octubre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sentación de declaraciones a c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ágina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media de accesos mensu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estra información de manera senc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viven firma digital y clave fiscal (cuatro niveles de segurid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 millones de accesos mensuales con clave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variedad de servicios y productos: Guías paso a paso, mi orientación (simuladores), micrositios, ABC, folletería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: Data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3 Imagen" descr="DSC09377.JPG"/>
          <p:cNvPicPr/>
          <p:nvPr/>
        </p:nvPicPr>
        <p:blipFill>
          <a:blip r:embed="rId1"/>
          <a:stretch/>
        </p:blipFill>
        <p:spPr>
          <a:xfrm>
            <a:off x="4714920" y="478620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 más utilizado de la web: 600.000 visitas/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os grupos: normativo y apli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ción fundamental por cal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s menús para acotar búsque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tr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, mi celular: envios de sms por suscripción o peti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lletería: web y en papel. Manual institucional de ima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Web interna para personal, especialmente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de información e induc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rtas de bienveni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sal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elatorí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ntabilidad de las actuaciones de I y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plicidad de canales: presencial, telefónico,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ción al ciudadano: lenguaje sencil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úsqueda de nuevas vías de ayuda: oficinas móviles, 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ducción de asistencia en oficinas y eliminación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ción de los servicios telem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icultad de la tarea: normativa compleja y cambi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aria alta cualificación del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to compromiso i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istencia telefónica tercerizada: se quiere cambiar mode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to esencial: Impuslar auto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sarrollar una web especial exclusiva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nque ya cuenta con muchos servicios en la web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mos educ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guntas frecu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ómo se hace p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renda sob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3 Imagen" descr="DSC05007.JPG"/>
          <p:cNvPicPr/>
          <p:nvPr/>
        </p:nvPicPr>
        <p:blipFill>
          <a:blip r:embed="rId1"/>
          <a:stretch/>
        </p:blipFill>
        <p:spPr>
          <a:xfrm>
            <a:off x="552456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enta con FAQs organizado en forma de árb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ámites en línea: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operativa la posibilidad de constituir una empresa en un d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yecto de Ley para la extensión de la factura electró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ros servicios on line: situación tributaria, boletas de honorarios, tasación de vehículos, libros contables, pago de infracciones, condon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martphone para trámites, asistencia y ay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nso de 55 millones de los que 8 son empresarios  o profesionales con obligaciones de re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evado número de declaraciones: 20 millones de IRPF, 3,5de IVA y 1,5 de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últiples obligaciones formales accesor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roles a posteriori con información de terce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lo autoliquidación e informativas exige altos niveles de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a de reducir presencia en oficinas y de organizar aflu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asistencia en campaña de IRPF: 2,6 millones de ci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telefónicos: CAT, ITB y VR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sultas vinculantes son emitidas por la DG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13 millones accesos/año a we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de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3 Imagen" descr="DSC05494.JPG"/>
          <p:cNvPicPr/>
          <p:nvPr/>
        </p:nvPicPr>
        <p:blipFill>
          <a:blip r:embed="rId1"/>
          <a:stretch/>
        </p:blipFill>
        <p:spPr>
          <a:xfrm>
            <a:off x="6477120" y="4786200"/>
            <a:ext cx="2666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Sede Electrónica e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NFOR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echo de los ciudadanos de relacionarse con las AAPP de manera electrónic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: permite hacer una gran variedad de trámites: cambiar de domicilio, modificar datos censales, cambiar regímenes tribitarios opcionales, atender requerimientos, consultar expedientes o procedimientos de comprobación, presentar y pagar declaraciones, solicitar aplazamientos, presentar recursos…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LEGACIÓN VIRT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irmas digitales. Avanzadas, nº de referencia, CSV y proyecto de PIN 24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: homogeneidad cualquiera q sea el canal por el q se accede a la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 y caridad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rte interna para funcionarios con consultorio y má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periencia muy satisfacto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bio trascendental reforma tributaria de 2007 q introduce 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rgentes necesidades de información. Supuso creación de call cent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oyo en FAQs, solo informa no ases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inuo y significativo incremento nº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 líneas fundamentales: respuesta automática, opción IRPF, no IRPF, opción trámites, opción renovación certificados (éste último atendido por inviden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cambiar software y hardware: el actual no permite evaluación, estadísticas ni monitor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3 Imagen" descr="DSC04496.JPG"/>
          <p:cNvPicPr/>
          <p:nvPr/>
        </p:nvPicPr>
        <p:blipFill>
          <a:blip r:embed="rId1"/>
          <a:stretch/>
        </p:blipFill>
        <p:spPr>
          <a:xfrm>
            <a:off x="9144000" y="6858000"/>
            <a:ext cx="60480" cy="4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4 Imagen" descr="DSC04479.JPG"/>
          <p:cNvPicPr/>
          <p:nvPr/>
        </p:nvPicPr>
        <p:blipFill>
          <a:blip r:embed="rId2"/>
          <a:stretch/>
        </p:blipFill>
        <p:spPr>
          <a:xfrm>
            <a:off x="6143760" y="460836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107" name="5 Imagen" descr="DSC04527.JPG"/>
          <p:cNvPicPr/>
          <p:nvPr/>
        </p:nvPicPr>
        <p:blipFill>
          <a:blip r:embed="rId3"/>
          <a:stretch/>
        </p:blipFill>
        <p:spPr>
          <a:xfrm>
            <a:off x="6189840" y="4643280"/>
            <a:ext cx="2954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Administración de cola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con dos módulos: uno de atención y otro de información que se ofrece al contribuyente mientras esp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de agenda para campaña de renta con reserva pre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ofrece información: promedios de espera, promedi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ite rellam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Bandeja de comunic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 reciente implantación, permite la colocación de información de interés para el contribuyente. Plan piloto para solicitudes de certificado único rechaz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En la vida solo hay dos cosas inevitables: la muerte y los im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Atender: acoger favorablemente, satisfacer un deseo, un ru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GENCIAS MÓVILES: dar asistencia a donde no llegan las ofic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ultas, información, resolución trámites y asistencia en presentación y pago de declaraciones, registro de datos biométricos, gestión de claves fiscales (principal uso), se reciben documentación y denu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tendido por funcionarios de AFIP: equipos de 2 o 3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quipamiento completo 4 camionetas, se llegará a 14 a fin de año. Objetivo q cada provincia tenga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4.600 kms en 25 sem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.000 contribuyentes atendidos y 19.000 consultas resuel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pacios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cia en lugares de concurrencia mas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n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: inclusión en el sis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Centr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0 centros: permanentes o itiner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de AFIP pero colaboración municipalidades en infraestru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puestos de autogest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2.000 contribuyentes atend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</a:t>
            </a: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 ¿cómo atendem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rectores: Estado, tecnología y capaci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do: Ruptura de feu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ecnología: on line y estandar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: vincular con huma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: Asistencia a grande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elegación Central Grandes Contribuy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uesta por mayor eficacia, coordinación e integración. Competencia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locutor único G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Foro Grande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Órgano de relación cooperativa AEAT y GG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determinan cuestiones comunes objeto de discusión: simplificación obligaciones formales, estudio cambios normat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s de trabajo: Código de buenas prácticas, precios de tranferenci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SG de SERVICIOS AL CONTRIBUYENTE DE A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an variedad de servicios y constante introducción de nuevas v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es canales principales: telefónico, web y correo electró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levancia capacitación del capital hum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ENTRO DE INFORMACIÓN TELEFÓNICA (C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ERMOMETRO DE LO QUE OCURRE EN LA CAL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Personal combina teléfono con em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Canales gratuitos para temas sensibles (regularización trabajo en hog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Reciben denu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Llamadas salientes en determinadas campañas o cuando respuesta no es inmedi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Alta preparación operadores por capacitación y baja ro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543800" y="2500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OBLIGATORIA en campaña de Renta, 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Gestor de colas con desarrollo propio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P IRPF: modificación y presentación borradores y declar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petición de cita: VRU, teléfono con operadores (externalizado),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1% de las citas por Internet, 46% por operad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licativo gestor único: definir centros, configuración servicio flexible (puestos, horarios, intervalos de prestación de servicio) parámetros comu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ertura progresiva automática de agenda: reducir no concur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ólo colectivo más necesitado de ayuda: perfil de contribuyente (conexión BD para no dar cita si no reúne requisi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pilo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esiva incorporación de servicios: primero sólo para procedimientos de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Gestión de colas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Herramienta fundamental para toma de decis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estión de colas y direccionamiento ordenado de contribuy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ecesario sólo pantalla de servicio (o kiosko) y pantalla inform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ectado con la aplicación de CP y aplicativo muy flexible (varias sed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ción en tiempo real de la situación en oficinas (anticipar toma de decisiones) y facilita estadísticas por servicios a cualquier nivel territorial (mismas categorías a nivel nacional), importante a efectos de comparación y de asignación de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Quien no arriesga no gana</a:t>
            </a:r>
            <a:r>
              <a:rPr b="0" lang="es-ES" sz="22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Datos interes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jo índice de conectividad por elevados costos de conex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nda ancha móvil contribuye a reducir la brecha: 150 millones de personas en AL, penetración del 20% y cobertura del 78% y creci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se de la pirám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analfabetos digitales buscan a personas cerc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azones de la brecha: conten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arrollo para presentación declaraciones con movi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datos muestran el crecimiento exponencial de smartphones (Bolivia 58% para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ciudadanos en el mundo tienen teléfono móvil pero no electricidad en ca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ligación de I y A en Ley de Impuestos Nac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inicia en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tación de declaraciones, comunicación deudas pendientes, información de situación tributaria, presentación de denuncias, consulta normativa actualizada, venc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piración: normativamente establecer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ama integ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canza a todos los niveles del sistema educativo: principalmente Secundaria y Universi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lores compartidos educadores: vocación de servicio, responsabilidad social, integridad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multidisciplinario: contadores, abogados, comunicadores, psicólogos, ingenieros de siste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 a docentes. “multiplicado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3 Imagen" descr="DSC01705.JPG"/>
          <p:cNvPicPr/>
          <p:nvPr/>
        </p:nvPicPr>
        <p:blipFill>
          <a:blip r:embed="rId1"/>
          <a:stretch/>
        </p:blipFill>
        <p:spPr>
          <a:xfrm>
            <a:off x="521496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4 Imagen" descr="DSC01665.JPG"/>
          <p:cNvPicPr/>
          <p:nvPr/>
        </p:nvPicPr>
        <p:blipFill>
          <a:blip r:embed="rId2"/>
          <a:stretch/>
        </p:blipFill>
        <p:spPr>
          <a:xfrm>
            <a:off x="785880" y="4357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ocios estratégicos: Educación y Rentas (municipalidades, provi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s: visualizar al tributo como pilar sistema democrático, fortalecer relación contribuyente, reflexión sentido social de los impuestos y combatir evasión y frau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del programa educativo: formación en valores, ciudadanía y cultura tribu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en BA y Red de Referentes provi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ias educativas: seminarios universidades, cursos capacitación docente, materiales educativos, dispositivos on line, talleres y eventos especiales, AFIP bajo el sol, Museo Histórico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Muchas 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3 Marcador de contenido" descr="DSC09369.JPG"/>
          <p:cNvPicPr/>
          <p:nvPr/>
        </p:nvPicPr>
        <p:blipFill>
          <a:blip r:embed="rId1"/>
          <a:stretch/>
        </p:blipFill>
        <p:spPr>
          <a:xfrm>
            <a:off x="1285920" y="1285920"/>
            <a:ext cx="670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eclamos y Sugerencias AF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úsqueda de cal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se trata de defender sino de asist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 único con 600 asist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ndarización de contenidos y  tiempos medios de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perfil del personal “vocaciona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interrumpen vías de recurs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ipología: quejas, reclamos y suger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mulario tip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cepción :web (principal), teléfono y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spuesta: email (principal), presencial y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ifusión y homogeneidad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oletín de asistencia al ciudada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.500 mensuales, 82% resuel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DSC09356.JPG"/>
          <p:cNvPicPr/>
          <p:nvPr/>
        </p:nvPicPr>
        <p:blipFill>
          <a:blip r:embed="rId1"/>
          <a:stretch/>
        </p:blipFill>
        <p:spPr>
          <a:xfrm>
            <a:off x="6143760" y="1143000"/>
            <a:ext cx="2333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también Aduanas y 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spuesta no vincula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n el AB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adas ayudas para operadores: ABC, biblioteca electrónica, BO, Guías paso a paso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istencia de protocol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Refer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ivación a servicios centrales supuestos mayor complej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 sistema de monitoreo y seguimiento: evaluación, estadísticas e Infor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atiende el 71% de las llamadas ingres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715160" y="1428840"/>
            <a:ext cx="10288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SAT GUATEMA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4 Imagen" descr="Atitlán (5).jpg"/>
          <p:cNvPicPr/>
          <p:nvPr/>
        </p:nvPicPr>
        <p:blipFill>
          <a:blip r:embed="rId1"/>
          <a:stretch/>
        </p:blipFill>
        <p:spPr>
          <a:xfrm>
            <a:off x="6072120" y="3571920"/>
            <a:ext cx="2643120" cy="198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trateg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incumplimiento tributario y aduane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rnización por medio de personas, procesos y tec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acilitar y fomentar el cumplimiento voluntari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implificar sistemas y proced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formalidades declaraciones tributarias y aduaner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acilitar el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los servicios de atención e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tenciar la información y su divulg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rientación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capacitación pers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tensas acciones formativas a contribuyentes en todo el país: charl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disponibles: tradicionales y facebook, twiter, chats, youtu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esafí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plificación procedimientos y norm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ndarización de la información que se sumisi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Romper la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brech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digital para una SAT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lantación del Ateneo para cita pr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denación de filas, mejor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 de llamadas en periodos pico aumentando el outsour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ción del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F BRAS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El país de las grandes cifras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6 millones de servicios con firma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20 millones atendidos en ofici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1 millones atendidos a través de instituciones asoci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 millones de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0.000 correos electrón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ificult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recuentes cambios norm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ifícil encontrar exper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mento tiempos medios y caídas produ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imitación de recursos y capacid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Brasil 021.jpg"/>
          <p:cNvPicPr/>
          <p:nvPr/>
        </p:nvPicPr>
        <p:blipFill>
          <a:blip r:embed="rId1"/>
          <a:stretch/>
        </p:blipFill>
        <p:spPr>
          <a:xfrm>
            <a:off x="6500880" y="4518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F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papel para los servicios mas complej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ir atención en cualquier of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fila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legar al procedimiento completamente digital: q toda la documentación q presente el contribuyente sea digital: dossier dig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21:25:13Z</dcterms:created>
  <dc:creator>g00200rz</dc:creator>
  <dc:description/>
  <dc:language>en-US</dc:language>
  <cp:lastModifiedBy>afernandez</cp:lastModifiedBy>
  <dcterms:modified xsi:type="dcterms:W3CDTF">2013-09-23T09:42:06Z</dcterms:modified>
  <cp:revision>71</cp:revision>
  <dc:subject/>
  <dc:title>EUROsociAL II Visita de Intercambio de experiencias Sur-Sur entre AATT sobre servicios de Información y Asistencia Tributaria Buenos Aires, 11 a 13 de septiembre 2013</dc:title>
</cp:coreProperties>
</file>