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008813" cy="11123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111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1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347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293480" y="490680"/>
            <a:ext cx="4422600" cy="331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C3AF-DF9E-4490-AC19-83D7F5CA9BB2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B3AE-CD54-4C70-A2AE-52024188B56D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95CD-5FA1-4278-8CCA-724273952E2D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342D-F5EA-4D6B-B973-97A026539176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4D9B-EB61-4A7B-ACCA-C9480D9F65D6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CBF-78E5-4992-A6AE-CC589B99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462B-698E-4313-9B67-2DFD3459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0A4-1238-4F22-8C68-09834D47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357-DEAB-4FDF-9530-604D5ECF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E98D-9862-4047-9B8E-DB3870C4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776D-E420-40D1-940E-1570B74F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1113-7F92-4652-90BF-0CDC85D7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1A66-B1CE-4508-9B8A-35C2054A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8EF2-1BE4-464C-B51D-F2F446ED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C056-DEDD-4D59-AA4A-2C43D3E6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41DA-6315-49AB-A787-FC8A0264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C4F-7345-488B-999B-25E60451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F8CD-8E9E-4D88-BC30-EBA26C50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388B-14B1-49AE-8806-15A2BC9C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A67A-9E3A-43A2-BD24-64D701E0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5E97-90B9-4956-B24D-A2664AD1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E9BD-C96A-425D-959D-083A6992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A396F-A503-4AD3-951A-0A446BC8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B7D62-97B3-47A3-825E-002D8107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D78F-BC0F-44FD-BE06-52BE520D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4A191-7FD6-485D-AE59-3671F7A2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FDE22-EBA2-47FD-B011-9296685B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BB2-0F12-4E38-A523-0705745B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3761E-227D-4819-A357-16588C28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79EA1-C540-467F-A6BD-10991C21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59017-C7B8-4A0E-B495-BD852928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9BB83-A9F9-4BA8-B477-F4613E3B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B4E6A-F5CF-4D2F-BFB0-825E42FD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EF0DE-3804-4411-83EB-29AE2A1D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07453-783A-4695-9BEE-DB29D59D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87D9-DBDD-42F5-8060-83CBB397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D9B-C15E-48A1-B6E2-F45DDAA0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614-5386-4434-A17A-0C50A89B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BDCE-5C81-4EBA-9684-6DE39129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8F0-775F-4F46-A1BC-343F8B43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75C-5FD7-4482-BB93-170B6D70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DC60-93EC-49EE-BFD1-27D22D27E270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7558-CD96-4749-9D44-1D7E8B6B7AF8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85E0-EF12-4BCB-BBD3-030F43D7BB5E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8808-C371-4FA6-B1BE-2582B210F4BF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81EC-FE00-4BC3-A524-84EF2073A4CE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8839-6433-4635-9129-F43B5F3D37B4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logo_sii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6643800" y="5500800"/>
            <a:ext cx="2119320" cy="1073160"/>
          </a:xfrm>
          <a:prstGeom prst="rect">
            <a:avLst/>
          </a:prstGeom>
          <a:ln w="0">
            <a:noFill/>
          </a:ln>
        </p:spPr>
      </p:pic>
      <p:sp>
        <p:nvSpPr>
          <p:cNvPr id="131" name="1 Título"/>
          <p:cNvSpPr/>
          <p:nvPr/>
        </p:nvSpPr>
        <p:spPr>
          <a:xfrm>
            <a:off x="611280" y="2205000"/>
            <a:ext cx="81039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ASISTENCIA EN EL SITIO WEB DEL SERVICIO DE IMPUESTOS INTER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Otras Aplicaciones de Asistencia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Smartphone, que permiten: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Trámites en Línea: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1.- Declaraciones de Rent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2.- Emitir Boletas de Honorario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3.- Declaración de IVA sin movimient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4.- Situación Tributaria de terceros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Asistencia y Ayudas: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1.- Calendario Tributari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2.- Circulares y Resolucion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3.- Oficinas y Horario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4.- Preguntas Frecuentes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Para lo cual, deben digitar: 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m.sii.cl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3935-36FC-4287-B6BE-E1FBC204437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logo_sii"/>
          <p:cNvPicPr/>
          <p:nvPr/>
        </p:nvPicPr>
        <p:blipFill>
          <a:blip r:embed="rId2"/>
          <a:stretch/>
        </p:blipFill>
        <p:spPr>
          <a:xfrm>
            <a:off x="6929280" y="5500800"/>
            <a:ext cx="1552680" cy="785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71" name="1 Título"/>
          <p:cNvSpPr/>
          <p:nvPr/>
        </p:nvSpPr>
        <p:spPr>
          <a:xfrm>
            <a:off x="611280" y="2637000"/>
            <a:ext cx="8103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1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831F-8A8F-41C2-B983-AB9C7AC2100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7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 Título"/>
          <p:cNvSpPr/>
          <p:nvPr/>
        </p:nvSpPr>
        <p:spPr>
          <a:xfrm>
            <a:off x="500040" y="3000240"/>
            <a:ext cx="7772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 Título"/>
          <p:cNvSpPr/>
          <p:nvPr/>
        </p:nvSpPr>
        <p:spPr>
          <a:xfrm>
            <a:off x="395280" y="787320"/>
            <a:ext cx="810432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CONO AYU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nde encuentra los siguientes contenidos de asistencia, para que el ciudadano se autoasi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.- Preguntas Frec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.- ¿Cómo se Hace Pa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3.- Demos Edu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4.- Calendario Tribu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5.- Material Inf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6.- Aprenda S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2712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eguntas Frecuentes (PF)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e preparan en un lenguaje fácil, para los diferentes conceptos tributarios, en base a la Ley e instrucciones tributarias.  Adicionalmente, en base a las aplicaciones de trámites en línea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s PF se pueden ubicar en base al recorrido del árbol y ramas, esto es:</a:t>
            </a:r>
            <a:br>
              <a:rPr sz="1800"/>
            </a:br>
            <a:br>
              <a:rPr sz="18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1.- Inicio de actividades, clave secreta y timbraje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2.- Renta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3.- Impuestos mensuales (IVA)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4.- Declaraciones jurada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5.- Boleta de honorari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6.- Bienes raíce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7.- Factura electrónica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8.- Situación tributaria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9.- Beneficios tributari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10.- Otros impuest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11.- Preguntas generales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s PF, también se encuentran desde el buscador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FA7A-D650-4A53-9EFB-EE5603B4CDE7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¿Cómo se Hace Para?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n estas guías, paso a paso, para los trámites tributarios, se contestan las siguientes preguntas: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1. Descripción del trámite paso a pas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2. ¿A qué se refiere este trámite?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3. ¿Quiénes deben realizar este trámite?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4. ¿Cuándo se hace este trámite?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5. ¿Dónde se hace este trámite?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6. Requisitos para efectuar el trámit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7. Observacion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8. Normativa relacionada al trámit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9. Preguntas frecuentes del trámit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10. Formularios relacionados al trámite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os trámites descritos comprenden todo el ciclo de vida tributario, desde el inicio al Término de Gir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D509-B9EB-4A4F-9C3F-00D332ADA4A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62712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mos Educativos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ara trámites, se muestran las pantallas del sitio web, paso a paso, esto es: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Obtención de Clave Secreta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Inicio de Actividades y Término de Gir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claración de impuestos mensual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Boleta de Honorarios Electrónica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Factura Electrónica Mipyme </a:t>
            </a:r>
            <a:br>
              <a:rPr sz="1800"/>
            </a:b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alendario Tributario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ediante esta aplicación, se muestra mensualmente, los diferentes vencimientos de pagos de impuestos, entre otros: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claración Mensual en Formulario 29 (IVA)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claración Mensual en Formulario 50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claraciones Juradas de Operación Renta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0DE1-E884-4D20-864D-427C7A0ABF7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aterial Informativo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mprende la folletería en papel que se entrega a los ciudadanos en las unidades del país, ante requerimientos de información tributaria, entre otros: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iclo de Vida del Contribuyente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ortal Tributario Mipyme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claraciones de Impuestos, Renta e IVA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Bienes Raíces </a:t>
            </a:r>
            <a:br>
              <a:rPr sz="1800"/>
            </a:b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prenda Sobr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enidos descriptivos de contribuyentes, impuestos, fiscalización, entre otros: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ribuyentes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prenda sobre los Impuestos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incipales procesos Tributarios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iccionario tributario contable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8BED-4284-4F79-A669-84165ABA242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Contáctenos del sitio web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Aplicación del sitio web que permite a los ciudadanos, ingresar consultas, reclamos, Audiencias con Directivos del SII, Denuncias de Evasión.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Se responde a los ciudadanos, en línea, al día siguiente del ingreso, en base a los contenidos publicados en el sitio web del SII, como: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a.- Preguntas Frecuent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b.- Guías, ¿Cómo se Hace Para?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c.- Aplicaciones web para trámites en línea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Lo que no se puede responder en línea, se deriva a un área de negocio, quienes deben preparar una respuesta en un plazo de 3 días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4918-AA35-48E7-B581-E542AE09E05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sistencia en línea desde el web del SII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69A4-BCE4-4DA6-A590-0827E51A21B5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6 Imagen" descr=""/>
          <p:cNvPicPr/>
          <p:nvPr/>
        </p:nvPicPr>
        <p:blipFill>
          <a:blip r:embed="rId1"/>
          <a:stretch/>
        </p:blipFill>
        <p:spPr>
          <a:xfrm>
            <a:off x="1249200" y="2205000"/>
            <a:ext cx="56102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787320"/>
            <a:ext cx="8229600" cy="53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esde los siguientes Menú del sitio web se realizan trámites en línea, para lo cual, se entrega asistencia, en cada menú de trámites, esto es: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1.- Registro de Contribuyent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2.- Portal Mipym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3.- Declaraciones de Impuesto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4.- Factura Electrónic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5.- Boletas de Honorario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6.- Rent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7.- Declaraciones Jurada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8.- Bienes Raíc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9.- Situación Tributari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10.- Tasación de Vehículo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11.- Libros Contabl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12.- Infracciones y Condonacione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9641-6A96-44E8-8869-C26ED90C896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5:26:36Z</dcterms:created>
  <dc:creator>OPCGI-SDE</dc:creator>
  <dc:description/>
  <dc:language>en-US</dc:language>
  <cp:lastModifiedBy>Juan Arnoldo Montecinos Salvo</cp:lastModifiedBy>
  <cp:lastPrinted>2011-03-21T21:02:27Z</cp:lastPrinted>
  <dcterms:modified xsi:type="dcterms:W3CDTF">2013-08-26T15:56:15Z</dcterms:modified>
  <cp:revision>331</cp:revision>
  <dc:subject/>
  <dc:title>Cuenta Pública 2010 SII</dc:title>
</cp:coreProperties>
</file>