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1112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111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1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347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93480" y="490680"/>
            <a:ext cx="4422600" cy="331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62EC-F387-4344-B3F1-861A3B2BD668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0A76-1A48-4453-8CBB-5C7A60F1DD1E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DB79-3556-4447-803D-B88F9B273B57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D687-EB8C-4AA0-AA1D-998C7AB1380B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448C-915D-4845-BFDA-D5CD173EC287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756-4A7B-4503-BEB5-AC5111DE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850-F080-4E95-BD31-518E1159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A64-0C55-45A1-9673-A93C6853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ABA-B3A4-4EEA-A232-B0DE4B3B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89A8-6142-4955-8548-E2463D3C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6F08-A724-4088-8C05-A35903FD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F00B-7991-4CA4-B553-DBE3607B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539C-610D-4740-B534-FD04756B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0DA6-B624-4A07-AD62-D174DC98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DE57-0C26-4C9A-A4CD-2B696973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6157-1A48-48D6-92FD-1D3CA08D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44F-81E9-4D5A-AD93-95205D68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0065-6F7E-4EF7-89AD-E60F5B6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03BF-DCD4-4CF4-ADD3-A003BEC3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78E9-B2A5-4B88-8835-D06D80D5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D385-BFCA-4927-8451-32646AD8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D6DD-A90F-4A5A-91E0-569A0D9A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E654-60E5-4347-AC51-2E2FD497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221CD-D281-46A1-BDF5-CEE0D96E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12B7-BE31-4F89-BC1B-66575269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19F8-9C0B-4976-8823-DAB48763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60A6-2985-4E7A-AC89-48C193B3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ADF-0FB8-4F49-9A59-27E8A0BA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6B354-0449-4DC0-99DB-E86F1D4D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6EFAD-00A0-4B5C-87C6-D73E49D5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C2F3-F683-4346-A3B7-35E97390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4CFB4-AA80-4AEF-BD8B-F1AD4DB3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E20C6-460F-4B6F-8B07-7711CCE2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600F-D7C8-4AB1-813D-3273F1D2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A46E-9257-4D5F-AA7A-13FFE031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E62-1066-46F7-8A2B-67C40608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4AA-9880-4E65-99B4-23AE8A6C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F49-AC29-4084-8F97-AAC826AF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2FA-167F-4476-BA59-434CF56F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D4B-AF86-4BCB-BA49-722C5835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49A-DCC2-488B-B306-570EB53D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3E59-25BC-4E81-8A80-25A289BAFBE6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878D-7CD2-4794-A303-2D74CBF9685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6BA4-E65B-49AB-9C4F-2E4A1EA67470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B83E-28F0-4402-BCD2-A84A643EAC6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7FE7-C80F-4756-9EBF-7757D6AA1E72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867B-B1B4-468C-B34D-B0F898D42D8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3.sii.cl/inicioactividades/index.html#menuInicio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logo_sii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6643800" y="5500800"/>
            <a:ext cx="2119320" cy="1073160"/>
          </a:xfrm>
          <a:prstGeom prst="rect">
            <a:avLst/>
          </a:prstGeom>
          <a:ln w="0">
            <a:noFill/>
          </a:ln>
        </p:spPr>
      </p:pic>
      <p:sp>
        <p:nvSpPr>
          <p:cNvPr id="131" name="1 Título"/>
          <p:cNvSpPr/>
          <p:nvPr/>
        </p:nvSpPr>
        <p:spPr>
          <a:xfrm>
            <a:off x="611280" y="2205000"/>
            <a:ext cx="81039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DEPARTAMENTO DE ATENCION Y ASISTENCIA  DE CONTRIBUYENTES DEL S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3092-06F9-4161-A4EC-A9AEF285B26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7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500040" y="300024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 Título"/>
          <p:cNvSpPr/>
          <p:nvPr/>
        </p:nvSpPr>
        <p:spPr>
          <a:xfrm>
            <a:off x="395280" y="627120"/>
            <a:ext cx="81043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ne a su cargo los canales de asistencia que se entregan a los ciudadanos, en forma presencial y en forma electr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Área de Plataform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Unidades del SII de atención de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instrucciones, verifica aplicaciones, que existen en las unidades del país, que atienden a contribuyentes en sus trámites tributarios en pa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 el sistema de gestión de Filas, TotalP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mente, esta a cargo de aplicaciones electrónicas, que permiten realizar trámites en línea desde el sitio web del SII, esto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Menú Registro de Contribuyentes: para , Aviso de Inicio d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Actividades, Modificaciones y Término de Gi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Menú Situación Tributaria: para, Solicitudes (documentos e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formatos especiales, certific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pecial mención al Aviso de Inicio de Actividades para empresas en 1 día: </a:t>
            </a:r>
            <a:r>
              <a:rPr b="0" lang="es-CL" sz="1800" spc="-1" strike="noStrike" u="sng">
                <a:solidFill>
                  <a:srgbClr val="0000ff"/>
                </a:solidFill>
                <a:uFillTx/>
                <a:latin typeface="Arial"/>
                <a:ea typeface="Lucida Sans Unicode"/>
                <a:hlinkClick r:id="rId1"/>
              </a:rPr>
              <a:t>Inicio de actividades y consultas de contribuyentes acogidos al registro de empresas y sociedades (RES)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2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esa de Ayuda Telefónica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sponden en línea a las consultas tributarias y de aplicaciones electrónicas. Los contenidos de respuesta, los entrega el SII.</a:t>
            </a:r>
            <a:br>
              <a:rPr sz="1800"/>
            </a:br>
            <a:br>
              <a:rPr sz="20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 una empresa externa, por lo que el SII, la debe supervisar.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l SII, capacita a los operari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l SII, monitorea las llamada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l SII, prepara informes de gest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D805-AEB8-4E74-8AAD-2CCD31505F1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3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áctenos del sitio web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plicación del sitio web que permite a los ciudadanos, ingresar consultas, reclamos, Audiencias con Directivos del SII, Denuncias de Evasión.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 responde a los ciudadanos, en línea, al día siguiente del ingreso, en base a los contenidos publicados en el sitio web del SII, como: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.- Preguntas Frecuent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.- Guías, ¿Cómo se Hace Para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.- Aplicaciones web para trámites en línea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que no se puede responder en línea, se deriva a un área de negocio, quienes deben preparar una respuesta en un plazo de 3 día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80F4-CC4B-499A-B41C-41543790B16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712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4.- Documentos Tributarios Electrónico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ta área esta a cargo de la gestión del Portal Mipyme, con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.- Sistema de emisión, gratuito de DT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.- Sistema de Tributación Simplificad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.- Sistema de Contabilidad Completa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rola el sistema de Factura Electrónica, con software comprados en el mercado.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rola el Registro de Cesión de DT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95FE-D341-46F3-B49F-7FA5973A7C2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logo_sii"/>
          <p:cNvPicPr/>
          <p:nvPr/>
        </p:nvPicPr>
        <p:blipFill>
          <a:blip r:embed="rId2"/>
          <a:stretch/>
        </p:blipFill>
        <p:spPr>
          <a:xfrm>
            <a:off x="6929280" y="5500800"/>
            <a:ext cx="1552680" cy="7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50" name="1 Título"/>
          <p:cNvSpPr/>
          <p:nvPr/>
        </p:nvSpPr>
        <p:spPr>
          <a:xfrm>
            <a:off x="611280" y="2637000"/>
            <a:ext cx="810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26:36Z</dcterms:created>
  <dc:creator>OPCGI-SDE</dc:creator>
  <dc:description/>
  <dc:language>en-US</dc:language>
  <cp:lastModifiedBy>Juan Arnoldo Montecinos Salvo</cp:lastModifiedBy>
  <cp:lastPrinted>2011-03-21T21:02:27Z</cp:lastPrinted>
  <dcterms:modified xsi:type="dcterms:W3CDTF">2013-08-26T13:19:25Z</dcterms:modified>
  <cp:revision>298</cp:revision>
  <dc:subject/>
  <dc:title>Cuenta Pública 2010 SII</dc:title>
</cp:coreProperties>
</file>