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907588" cy="6858000"/>
  <p:notesSz cx="6886575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6800" cy="922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61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44640" y="691920"/>
            <a:ext cx="4998960" cy="34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903840" y="-360"/>
            <a:ext cx="2984400" cy="461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766000"/>
            <a:ext cx="2984400" cy="462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03840" y="8766000"/>
            <a:ext cx="2984400" cy="462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150D29-C9D9-43EE-8B63-8B32C8BDE0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795-BAC8-4069-8FDA-06291407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40A-AD2E-41B5-BF8E-69A0B4C7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3D6-F6BB-4D8D-BC9B-674BD643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1D5-33D5-469A-9D14-DC56234D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FC51-751D-4A1F-BE04-1BE5A180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6DC3-1F35-4852-B8E1-28F510E7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7C11-7873-4727-A7EA-F7B9ED7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0E36-0306-4768-8B1E-6F3AD98F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514E-E679-4268-B890-9377300E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D1BB-A264-474C-BACC-90D292DB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BD83-8A58-49BD-8560-69E9769D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4FA-5F23-438F-AA48-9D6A2E27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66BC-AD70-4E78-872F-83A015A9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0B88-8318-49AC-8C22-BBD855B2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AB62-03B4-463C-948B-25ECF9D7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C742-57C9-456B-B0BD-4021631C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DE27-602F-4386-BC71-1FBDF47E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DF7-24C9-413F-878C-9F04BF3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629-A3BD-446B-8594-2FE2C6FB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393-CDAF-4EE3-A9FA-94FC6702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320-F735-4E7D-8151-B15E4582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3FF-2957-469B-9F1C-CDD47B09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233-236A-41F3-B825-A8D6E9BE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F4F-5B18-4D25-BDCD-5FBD682B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3040" y="6629400"/>
            <a:ext cx="379728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8585-EC4B-4729-8B5D-4D3A99F857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2438280"/>
            <a:ext cx="916128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1EF7-E35F-4EE4-888F-B4A68F68E8D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8880" y="1773360"/>
            <a:ext cx="8425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ES EL PROGRAMA DE EDUCACIÓN DE LA AFIP?</a:t>
            </a:r>
            <a:endParaRPr b="0" lang="en-US" sz="22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849240" y="1773360"/>
            <a:ext cx="777708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79440" y="2852640"/>
            <a:ext cx="7850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Es una propuesta pedagógica integral que ofrece la Administración Federal desde 1998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lcanza los niveles educativ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Universit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Terci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Secund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Prim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Inicia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76160" y="3068640"/>
            <a:ext cx="8420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  <a:ea typeface="宋体"/>
              </a:rPr>
              <a:t>Desplegamos acciones combinadas articulando:</a:t>
            </a:r>
            <a:br>
              <a:rPr sz="2200"/>
            </a:b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-  la Ley de Educación Nacional,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-  el Plan Estratégico y la Política de Calidad del Organismo, 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-  los Objetivos y los Ejes de nuestro progra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2505240" y="1917720"/>
            <a:ext cx="35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CÓMO LO HACEMO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0520" y="1844640"/>
            <a:ext cx="360072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48880" y="2742840"/>
            <a:ext cx="7272360" cy="31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equipo en la Ciudad de Buenos Ai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a RED de REFERENTES en todo el paí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宋体"/>
              </a:rPr>
              <a:t>Las acciones se coordinan desde el equipo de la Ciudad de Bs As y se desarrollan a través de un representante (denominado “referente”) en cada una de las provincias del paí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2792520" y="1917720"/>
            <a:ext cx="35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IÉNES SOMO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3440" y="1844640"/>
            <a:ext cx="360036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13653" t="23757" r="18012" b="11157"/>
          <a:stretch/>
        </p:blipFill>
        <p:spPr>
          <a:xfrm>
            <a:off x="1496880" y="1844640"/>
            <a:ext cx="6769080" cy="44640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064880" y="2636640"/>
            <a:ext cx="82818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eminarios en universidades (S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ursos de capacitación docente (C1, C2 y C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reación de materiales educativos (para docentes y alumn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ispositivos educativos on line (AFIP Simulada / Espacio Ciudadan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alleres y eventos especial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FIP Bajo el 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isitas al Museo Histórico AFIP (MH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80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1065240" y="191772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ESTRATEGIAS EDUCATIVAS DESARROLLAMO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0880" y="1844640"/>
            <a:ext cx="820872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88880" y="2997360"/>
            <a:ext cx="468000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res cursos de capacitación docente (C1, C2 y C3) para trabajar contenidos c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Niños del nivel inicial (4 y 5 añ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Niños del nivel primario (6 a 12 añ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Jóvenes del nivel secundario (13 a 17-18 añ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2360520" y="1917720"/>
            <a:ext cx="40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CAPACITACIÓN DOC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16160" y="1844640"/>
            <a:ext cx="41036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rcRect l="8778" t="0" r="0" b="15599"/>
          <a:stretch/>
        </p:blipFill>
        <p:spPr>
          <a:xfrm>
            <a:off x="5168880" y="3500280"/>
            <a:ext cx="439092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31440" y="2995200"/>
            <a:ext cx="5257800" cy="29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irigido a alumnos de carreras universitarias o terciarias, próximos a desempeñarse como profesiona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stituciones educativas de gestión pública y privad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tenidos transversa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apacitación en el campo técnico y de concientización soc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95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1785960" y="1917720"/>
            <a:ext cx="54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SEMINARIOS EN UNIVERSIDA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41600" y="1844640"/>
            <a:ext cx="51116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rcRect l="0" t="0" r="0" b="11072"/>
          <a:stretch/>
        </p:blipFill>
        <p:spPr>
          <a:xfrm>
            <a:off x="5600880" y="3213000"/>
            <a:ext cx="3960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04880" y="3070080"/>
            <a:ext cx="518472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odernización de la muestra y de la visita guiad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uestra histórico referencial,  especialmente diseñada para interactuar sobre las tópicas de impuestos, aduana y seguridad social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irigida a alumnos del nivel secundario y público en general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203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1352520" y="1917720"/>
            <a:ext cx="431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bcbcb"/>
                </a:solidFill>
                <a:latin typeface="Arial"/>
              </a:rPr>
              <a:t>MUSEO HISTÓRICO AF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08160" y="1844640"/>
            <a:ext cx="43196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392880" y="4076640"/>
            <a:ext cx="3095640" cy="2097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961240" y="2133720"/>
            <a:ext cx="288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07800" y="2997000"/>
            <a:ext cx="7211880" cy="17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On line, ingresando a: </a:t>
            </a:r>
            <a:r>
              <a:rPr b="1" lang="es-ES_tradnl" sz="2200" spc="-1" strike="noStrike">
                <a:solidFill>
                  <a:srgbClr val="00ffcc"/>
                </a:solidFill>
                <a:latin typeface="Arial"/>
              </a:rPr>
              <a:t>www.afip.gob.ar/educacion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Por mail: 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educacion@afip.gob.ar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1857240" y="2060640"/>
            <a:ext cx="59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DÓNDE PUEDEN CONTACTARNO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2880" y="1987560"/>
            <a:ext cx="561672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184428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NORMATIVA DE EDUCACIÓN EN LA REPÚBLICA ARGENTINA</a:t>
            </a:r>
            <a:endParaRPr b="0" lang="en-US" sz="2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49240" y="285264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Ley de Educación Nacional establece la educación obligatoria para todos los niños y jóvenes de entre 5 y 18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n cada provincia, los contenidos obligatorios se reformulan de acuerdo a la realidad loc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06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560520" y="1773360"/>
            <a:ext cx="871380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76160" y="2924280"/>
            <a:ext cx="8353440" cy="25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dministrar la aplicación, percepción, control y fiscalización de los tributos nacionales, los recursos de la seguridad social y las actividades relacionadas con el comercio exterior; promoviendo el cumplimiento voluntario, el desarrollo económico y la inclusión so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31800" y="18446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EL PLAN ESTRATÉGICO DE LA ADMINISTRACIÓN FEDE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8880" y="1773360"/>
            <a:ext cx="871380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84520" y="2852280"/>
            <a:ext cx="52560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Arial"/>
              </a:rPr>
              <a:t>VA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EG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OCACIÓN DE 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ROFESI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ROAC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RESPONSABILIDAD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631800" y="18446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EL PLAN ESTRATÉGICO DE LA ADMINISTRACIÓN FEDE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8880" y="1773360"/>
            <a:ext cx="871380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76160" y="2781000"/>
            <a:ext cx="806616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Respetar los principios de excelencia, eficiencia y mejora 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stimular la proactividad y el trabajo en equi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otenciar la capacidad de crear valor en cada tar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1281240" y="1773360"/>
            <a:ext cx="662436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4160" y="1844640"/>
            <a:ext cx="64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DEFINE LA “POLÍTICA DE CALIDAD”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208160" y="2852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equipo interdisciplinario integrado 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tadores Públ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sicólo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bo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municadores So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genieros en Sist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415800" y="1773360"/>
            <a:ext cx="900108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440" y="184464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IÉNES CONFORMAN EL PROGRAMA DE EDUCACIÓN AFIP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04520" y="2997360"/>
            <a:ext cx="878508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Fundamentalmente son los jóvenes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lumnos de escuelas Secund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Futuros profesionales Universi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88880" y="1989000"/>
            <a:ext cx="9074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IÉNES SON LOS PRINCIPALES DESTINATARIOS DE LAS ACCIONES DEL PROGRAMA EDUCATIVO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5800" y="1844640"/>
            <a:ext cx="9001080" cy="936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04520" y="2852640"/>
            <a:ext cx="8496360" cy="36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isualizar al tributo como pilar fundamental para el sostenimiento del Estado democrát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Fortalecer la relación fisco – contribuy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stalar en la población la reflexión sobre el sentido social de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salentar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l trabajo no registrad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l contraban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la evas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633240" y="1917720"/>
            <a:ext cx="828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OBJETIVOS TIENE EL PROGRAMA DE EDUCACIÓN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520" y="1844640"/>
            <a:ext cx="83534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15800" y="2781360"/>
            <a:ext cx="878544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   - Formación en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I  - Ciudada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II - Cultura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54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272880" y="1917720"/>
            <a:ext cx="921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CUÁLES SON LOS EJES DE NUESTRO PROGRAMA EDUCATIVO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160" y="1844640"/>
            <a:ext cx="928980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7T20:16:31Z</dcterms:created>
  <dc:creator>Maria Fernanda</dc:creator>
  <dc:description/>
  <dc:language>en-US</dc:language>
  <cp:lastModifiedBy>User</cp:lastModifiedBy>
  <dcterms:modified xsi:type="dcterms:W3CDTF">2013-09-04T19:53:10Z</dcterms:modified>
  <cp:revision>104</cp:revision>
  <dc:subject/>
  <dc:title>Información general de la tesis</dc:title>
</cp:coreProperties>
</file>