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0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6.png" ContentType="image/pn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29B-7B91-4FC0-8A72-0E179DDE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452-1E42-49B1-8B28-B19C1BDE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96C-6CDE-4720-9621-CF39D8A6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5C7-4767-410E-9FBF-B6C84446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527-C087-4741-BE8B-E2577FDE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1F2-FDFB-4B06-8F32-4B15C4F7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2B6-EC0C-4C04-80AB-E75CB06A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A47-94DA-4420-B619-C1135955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E13-ED51-4DEA-AED3-2BD02EAF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5A0-0967-4F65-814D-24D5157F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0BA-05D0-43D5-BDDB-BACDE238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903-5B92-4459-8167-5BCFB6E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66C7-11B6-4EC9-8F8D-5CB3A8AAD4A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19640" y="5300640"/>
            <a:ext cx="3924360" cy="353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ffcc00"/>
                </a:solidFill>
                <a:latin typeface="Calibri"/>
              </a:rPr>
              <a:t>Septiembre de 201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8 Rectángulo redondeado"/>
          <p:cNvSpPr/>
          <p:nvPr/>
        </p:nvSpPr>
        <p:spPr>
          <a:xfrm>
            <a:off x="838080" y="1447920"/>
            <a:ext cx="757260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8" descr="PPT 3"/>
          <p:cNvPicPr/>
          <p:nvPr/>
        </p:nvPicPr>
        <p:blipFill>
          <a:blip r:embed="rId1"/>
          <a:stretch/>
        </p:blipFill>
        <p:spPr>
          <a:xfrm>
            <a:off x="1600200" y="1981080"/>
            <a:ext cx="5791320" cy="3918240"/>
          </a:xfrm>
          <a:prstGeom prst="rect">
            <a:avLst/>
          </a:prstGeom>
          <a:ln w="0">
            <a:noFill/>
          </a:ln>
        </p:spPr>
      </p:pic>
      <p:sp>
        <p:nvSpPr>
          <p:cNvPr id="212" name="Oval 9"/>
          <p:cNvSpPr/>
          <p:nvPr/>
        </p:nvSpPr>
        <p:spPr>
          <a:xfrm>
            <a:off x="5148360" y="2463840"/>
            <a:ext cx="239544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6324480" y="3505320"/>
            <a:ext cx="1219320" cy="53316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4248000" y="4687920"/>
            <a:ext cx="3276720" cy="6858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Rectangle 17"/>
          <p:cNvGrpSpPr/>
          <p:nvPr/>
        </p:nvGrpSpPr>
        <p:grpSpPr>
          <a:xfrm>
            <a:off x="907920" y="1494000"/>
            <a:ext cx="7266240" cy="596880"/>
            <a:chOff x="907920" y="1494000"/>
            <a:chExt cx="7266240" cy="596880"/>
          </a:xfrm>
        </p:grpSpPr>
        <p:pic>
          <p:nvPicPr>
            <p:cNvPr id="217" name="Rectangle 17" descr=""/>
            <p:cNvPicPr/>
            <p:nvPr/>
          </p:nvPicPr>
          <p:blipFill>
            <a:blip r:embed="rId2"/>
            <a:stretch/>
          </p:blipFill>
          <p:spPr>
            <a:xfrm>
              <a:off x="907920" y="1494000"/>
              <a:ext cx="72662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81000" y="1571760"/>
              <a:ext cx="7118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ROCEDIMIENTO DE CAR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Text Box 19"/>
          <p:cNvSpPr/>
          <p:nvPr/>
        </p:nvSpPr>
        <p:spPr>
          <a:xfrm>
            <a:off x="7299360" y="270360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223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ROCEDIMIENTO DE CAR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810040" cy="3505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33cc"/>
                </a:solidFill>
                <a:latin typeface="Arial"/>
              </a:rPr>
              <a:t>Nro tiqu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334120"/>
            <a:ext cx="1295640" cy="380880"/>
          </a:xfrm>
          <a:prstGeom prst="rect">
            <a:avLst/>
          </a:prstGeom>
          <a:solidFill>
            <a:srgbClr val="0033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N° TI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51808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523880" y="2438280"/>
            <a:ext cx="129564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1523880" y="4114800"/>
            <a:ext cx="129564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Rectangle 17"/>
          <p:cNvGrpSpPr/>
          <p:nvPr/>
        </p:nvGrpSpPr>
        <p:grpSpPr>
          <a:xfrm>
            <a:off x="900000" y="1066680"/>
            <a:ext cx="7272000" cy="474480"/>
            <a:chOff x="900000" y="1066680"/>
            <a:chExt cx="7272000" cy="474480"/>
          </a:xfrm>
        </p:grpSpPr>
        <p:pic>
          <p:nvPicPr>
            <p:cNvPr id="233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0666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981720" y="11239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TRATAMIENTO DE RECLAMOS Y SUGERENCI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38 Rectángulo redondeado"/>
          <p:cNvSpPr/>
          <p:nvPr/>
        </p:nvSpPr>
        <p:spPr>
          <a:xfrm>
            <a:off x="762120" y="144792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5567400"/>
            <a:ext cx="5210280" cy="368280"/>
          </a:xfrm>
          <a:prstGeom prst="rect">
            <a:avLst/>
          </a:prstGeom>
          <a:solidFill>
            <a:srgbClr val="00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HOMOGENEIDAD DE RESPUESTAS Y PROCE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152388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Ingreso de la Present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20968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Análi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266688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Referentes Subdirecci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274320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Referentes Agenci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4724280"/>
            <a:ext cx="259092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Difusión de la gestión realiz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038480"/>
            <a:ext cx="231804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Respuesta al Ciudada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276720"/>
            <a:ext cx="2895480" cy="4572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alibri"/>
              </a:rPr>
              <a:t>ASISTENCIA CENT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3733920"/>
            <a:ext cx="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4419720"/>
            <a:ext cx="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51814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stCxn id="238" idx="4"/>
            <a:endCxn id="239" idx="7"/>
          </p:cNvCxnSpPr>
          <p:nvPr/>
        </p:nvCxnSpPr>
        <p:spPr>
          <a:xfrm rot="5400000">
            <a:off x="3934440" y="2067120"/>
            <a:ext cx="144720" cy="1162440"/>
          </a:xfrm>
          <a:prstGeom prst="curvedConnector5">
            <a:avLst>
              <a:gd name="adj1" fmla="val 30673"/>
              <a:gd name="adj2" fmla="val 50000"/>
              <a:gd name="adj3" fmla="val 30673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8" idx="4"/>
            <a:endCxn id="240" idx="1"/>
          </p:cNvCxnSpPr>
          <p:nvPr/>
        </p:nvCxnSpPr>
        <p:spPr>
          <a:xfrm flipH="1" rot="16200000">
            <a:off x="5020200" y="2143440"/>
            <a:ext cx="221400" cy="1086480"/>
          </a:xfrm>
          <a:prstGeom prst="curvedConnector5">
            <a:avLst>
              <a:gd name="adj1" fmla="val 37296"/>
              <a:gd name="adj2" fmla="val 49983"/>
              <a:gd name="adj3" fmla="val 37296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9" idx="5"/>
            <a:endCxn id="243" idx="0"/>
          </p:cNvCxnSpPr>
          <p:nvPr/>
        </p:nvCxnSpPr>
        <p:spPr>
          <a:xfrm flipH="1" rot="16200000">
            <a:off x="3812040" y="2592720"/>
            <a:ext cx="297720" cy="1070640"/>
          </a:xfrm>
          <a:prstGeom prst="curvedConnector5">
            <a:avLst>
              <a:gd name="adj1" fmla="val 58716"/>
              <a:gd name="adj2" fmla="val 49983"/>
              <a:gd name="adj3" fmla="val 58716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0" idx="3"/>
            <a:endCxn id="243" idx="0"/>
          </p:cNvCxnSpPr>
          <p:nvPr/>
        </p:nvCxnSpPr>
        <p:spPr>
          <a:xfrm rot="5400000">
            <a:off x="4973760" y="2577240"/>
            <a:ext cx="221400" cy="1178640"/>
          </a:xfrm>
          <a:prstGeom prst="curvedConnector5">
            <a:avLst>
              <a:gd name="adj1" fmla="val 61726"/>
              <a:gd name="adj2" fmla="val 49984"/>
              <a:gd name="adj3" fmla="val 61726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38 Rectángulo redondeado"/>
          <p:cNvSpPr/>
          <p:nvPr/>
        </p:nvSpPr>
        <p:spPr>
          <a:xfrm>
            <a:off x="685800" y="1219320"/>
            <a:ext cx="7572240" cy="50292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Rectangle 17"/>
          <p:cNvGrpSpPr/>
          <p:nvPr/>
        </p:nvGrpSpPr>
        <p:grpSpPr>
          <a:xfrm>
            <a:off x="900000" y="1441440"/>
            <a:ext cx="7272000" cy="474480"/>
            <a:chOff x="900000" y="1441440"/>
            <a:chExt cx="7272000" cy="474480"/>
          </a:xfrm>
        </p:grpSpPr>
        <p:pic>
          <p:nvPicPr>
            <p:cNvPr id="25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414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981720" y="14986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TRATAMIENTO DE RECLAMOS Y SUGERENCI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14 CuadroTexto"/>
          <p:cNvSpPr/>
          <p:nvPr/>
        </p:nvSpPr>
        <p:spPr>
          <a:xfrm>
            <a:off x="3505320" y="1981080"/>
            <a:ext cx="18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Personalm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9 Imagen" descr="Boton-redondo-griss.png"/>
          <p:cNvPicPr/>
          <p:nvPr/>
        </p:nvPicPr>
        <p:blipFill>
          <a:blip r:embed="rId2"/>
          <a:stretch/>
        </p:blipFill>
        <p:spPr>
          <a:xfrm>
            <a:off x="3200400" y="1981080"/>
            <a:ext cx="223920" cy="228600"/>
          </a:xfrm>
          <a:prstGeom prst="rect">
            <a:avLst/>
          </a:prstGeom>
          <a:ln w="0">
            <a:noFill/>
          </a:ln>
        </p:spPr>
      </p:pic>
      <p:sp>
        <p:nvSpPr>
          <p:cNvPr id="259" name="14 CuadroTexto"/>
          <p:cNvSpPr/>
          <p:nvPr/>
        </p:nvSpPr>
        <p:spPr>
          <a:xfrm>
            <a:off x="3522600" y="259092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Telefónicam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14 CuadroTexto"/>
          <p:cNvSpPr/>
          <p:nvPr/>
        </p:nvSpPr>
        <p:spPr>
          <a:xfrm>
            <a:off x="3522600" y="2286000"/>
            <a:ext cx="24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rreo Electrón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14 CuadroTexto"/>
          <p:cNvSpPr/>
          <p:nvPr/>
        </p:nvSpPr>
        <p:spPr>
          <a:xfrm>
            <a:off x="3505320" y="548640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Respuestas anteriores por casos simila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14 CuadroTexto"/>
          <p:cNvSpPr/>
          <p:nvPr/>
        </p:nvSpPr>
        <p:spPr>
          <a:xfrm>
            <a:off x="3505320" y="441972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imuladores 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30 Grupo"/>
          <p:cNvGrpSpPr/>
          <p:nvPr/>
        </p:nvGrpSpPr>
        <p:grpSpPr>
          <a:xfrm>
            <a:off x="1219320" y="3200400"/>
            <a:ext cx="1676160" cy="2819520"/>
            <a:chOff x="1219320" y="3200400"/>
            <a:chExt cx="1676160" cy="2819520"/>
          </a:xfrm>
        </p:grpSpPr>
        <p:grpSp>
          <p:nvGrpSpPr>
            <p:cNvPr id="264" name="36 Rectángulo redondeado"/>
            <p:cNvGrpSpPr/>
            <p:nvPr/>
          </p:nvGrpSpPr>
          <p:grpSpPr>
            <a:xfrm>
              <a:off x="1219320" y="3200400"/>
              <a:ext cx="1676160" cy="2819520"/>
              <a:chOff x="1219320" y="3200400"/>
              <a:chExt cx="1676160" cy="2819520"/>
            </a:xfrm>
          </p:grpSpPr>
          <p:pic>
            <p:nvPicPr>
              <p:cNvPr id="265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9320" y="3200400"/>
                <a:ext cx="1676160" cy="28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1249560" y="3372120"/>
                <a:ext cx="1617840" cy="244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7" name="37 CuadroTexto"/>
            <p:cNvSpPr/>
            <p:nvPr/>
          </p:nvSpPr>
          <p:spPr>
            <a:xfrm>
              <a:off x="1325520" y="3490920"/>
              <a:ext cx="14810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33cc"/>
                  </a:solidFill>
                  <a:latin typeface="Calibri"/>
                </a:rPr>
                <a:t>Herramienta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33cc"/>
                  </a:solidFill>
                  <a:latin typeface="Calibri"/>
                </a:rPr>
                <a:t>utilizada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14 CuadroTexto"/>
          <p:cNvSpPr/>
          <p:nvPr/>
        </p:nvSpPr>
        <p:spPr>
          <a:xfrm>
            <a:off x="3522600" y="350532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Normati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14 CuadroTexto"/>
          <p:cNvSpPr/>
          <p:nvPr/>
        </p:nvSpPr>
        <p:spPr>
          <a:xfrm>
            <a:off x="3522600" y="380988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14 CuadroTexto"/>
          <p:cNvSpPr/>
          <p:nvPr/>
        </p:nvSpPr>
        <p:spPr>
          <a:xfrm>
            <a:off x="3522600" y="411480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Guía de trámi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14 CuadroTexto"/>
          <p:cNvSpPr/>
          <p:nvPr/>
        </p:nvSpPr>
        <p:spPr>
          <a:xfrm>
            <a:off x="3505320" y="4724280"/>
            <a:ext cx="42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ABC – Consultas y Respuestas Frecuen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14 CuadroTexto"/>
          <p:cNvSpPr/>
          <p:nvPr/>
        </p:nvSpPr>
        <p:spPr>
          <a:xfrm>
            <a:off x="3505320" y="5105520"/>
            <a:ext cx="18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Folleteros 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9 Imagen" descr="Boton-redondo-griss.png"/>
          <p:cNvPicPr/>
          <p:nvPr/>
        </p:nvPicPr>
        <p:blipFill>
          <a:blip r:embed="rId4"/>
          <a:stretch/>
        </p:blipFill>
        <p:spPr>
          <a:xfrm>
            <a:off x="3200400" y="228600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4" name="9 Imagen" descr="Boton-redondo-griss.png"/>
          <p:cNvPicPr/>
          <p:nvPr/>
        </p:nvPicPr>
        <p:blipFill>
          <a:blip r:embed="rId5"/>
          <a:stretch/>
        </p:blipFill>
        <p:spPr>
          <a:xfrm>
            <a:off x="3200400" y="25909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9 Imagen" descr="Boton-redondo-griss.png"/>
          <p:cNvPicPr/>
          <p:nvPr/>
        </p:nvPicPr>
        <p:blipFill>
          <a:blip r:embed="rId6"/>
          <a:stretch/>
        </p:blipFill>
        <p:spPr>
          <a:xfrm>
            <a:off x="3200400" y="35053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6" name="9 Imagen" descr="Boton-redondo-griss.png"/>
          <p:cNvPicPr/>
          <p:nvPr/>
        </p:nvPicPr>
        <p:blipFill>
          <a:blip r:embed="rId7"/>
          <a:stretch/>
        </p:blipFill>
        <p:spPr>
          <a:xfrm>
            <a:off x="3200400" y="380988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7" name="9 Imagen" descr="Boton-redondo-griss.png"/>
          <p:cNvPicPr/>
          <p:nvPr/>
        </p:nvPicPr>
        <p:blipFill>
          <a:blip r:embed="rId8"/>
          <a:stretch/>
        </p:blipFill>
        <p:spPr>
          <a:xfrm>
            <a:off x="3200400" y="411480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8" name="9 Imagen" descr="Boton-redondo-griss.png"/>
          <p:cNvPicPr/>
          <p:nvPr/>
        </p:nvPicPr>
        <p:blipFill>
          <a:blip r:embed="rId9"/>
          <a:stretch/>
        </p:blipFill>
        <p:spPr>
          <a:xfrm>
            <a:off x="3200400" y="44197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9" name="9 Imagen" descr="Boton-redondo-griss.png"/>
          <p:cNvPicPr/>
          <p:nvPr/>
        </p:nvPicPr>
        <p:blipFill>
          <a:blip r:embed="rId10"/>
          <a:stretch/>
        </p:blipFill>
        <p:spPr>
          <a:xfrm>
            <a:off x="3200400" y="472428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80" name="9 Imagen" descr="Boton-redondo-griss.png"/>
          <p:cNvPicPr/>
          <p:nvPr/>
        </p:nvPicPr>
        <p:blipFill>
          <a:blip r:embed="rId11"/>
          <a:stretch/>
        </p:blipFill>
        <p:spPr>
          <a:xfrm>
            <a:off x="3200400" y="51055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81" name="9 Imagen" descr="Boton-redondo-griss.png"/>
          <p:cNvPicPr/>
          <p:nvPr/>
        </p:nvPicPr>
        <p:blipFill>
          <a:blip r:embed="rId12"/>
          <a:stretch/>
        </p:blipFill>
        <p:spPr>
          <a:xfrm>
            <a:off x="3200400" y="5486400"/>
            <a:ext cx="223920" cy="228600"/>
          </a:xfrm>
          <a:prstGeom prst="rect">
            <a:avLst/>
          </a:prstGeom>
          <a:ln w="0">
            <a:noFill/>
          </a:ln>
        </p:spPr>
      </p:pic>
      <p:grpSp>
        <p:nvGrpSpPr>
          <p:cNvPr id="282" name="30 Grupo"/>
          <p:cNvGrpSpPr/>
          <p:nvPr/>
        </p:nvGrpSpPr>
        <p:grpSpPr>
          <a:xfrm>
            <a:off x="1219320" y="1981080"/>
            <a:ext cx="1600200" cy="914400"/>
            <a:chOff x="1219320" y="1981080"/>
            <a:chExt cx="1600200" cy="914400"/>
          </a:xfrm>
        </p:grpSpPr>
        <p:grpSp>
          <p:nvGrpSpPr>
            <p:cNvPr id="283" name="36 Rectángulo redondeado"/>
            <p:cNvGrpSpPr/>
            <p:nvPr/>
          </p:nvGrpSpPr>
          <p:grpSpPr>
            <a:xfrm>
              <a:off x="1219320" y="1981080"/>
              <a:ext cx="1600200" cy="914400"/>
              <a:chOff x="1219320" y="1981080"/>
              <a:chExt cx="1600200" cy="914400"/>
            </a:xfrm>
          </p:grpSpPr>
          <p:pic>
            <p:nvPicPr>
              <p:cNvPr id="284" name="36 Rectángulo redondeado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9320" y="1981080"/>
                <a:ext cx="16002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1248120" y="2036520"/>
                <a:ext cx="154476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6" name="37 CuadroTexto"/>
            <p:cNvSpPr/>
            <p:nvPr/>
          </p:nvSpPr>
          <p:spPr>
            <a:xfrm>
              <a:off x="1320840" y="2074680"/>
              <a:ext cx="141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33cc"/>
                  </a:solidFill>
                  <a:latin typeface="Calibri"/>
                </a:rPr>
                <a:t>Vías de respuesta</a:t>
              </a:r>
              <a:r>
                <a:rPr b="1" lang="es-AR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38 Rectángulo redondeado"/>
          <p:cNvSpPr/>
          <p:nvPr/>
        </p:nvSpPr>
        <p:spPr>
          <a:xfrm>
            <a:off x="838080" y="1366920"/>
            <a:ext cx="757260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Rectangle 17"/>
          <p:cNvGrpSpPr/>
          <p:nvPr/>
        </p:nvGrpSpPr>
        <p:grpSpPr>
          <a:xfrm>
            <a:off x="1054080" y="1494000"/>
            <a:ext cx="7261200" cy="596880"/>
            <a:chOff x="1054080" y="1494000"/>
            <a:chExt cx="7261200" cy="596880"/>
          </a:xfrm>
        </p:grpSpPr>
        <p:pic>
          <p:nvPicPr>
            <p:cNvPr id="290" name="Rectangle 17" descr=""/>
            <p:cNvPicPr/>
            <p:nvPr/>
          </p:nvPicPr>
          <p:blipFill>
            <a:blip r:embed="rId1"/>
            <a:stretch/>
          </p:blipFill>
          <p:spPr>
            <a:xfrm>
              <a:off x="1054080" y="1494000"/>
              <a:ext cx="7261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125360" y="1571760"/>
              <a:ext cx="7118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IFUSIÓN Y HOMOGENE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Oval 15"/>
          <p:cNvSpPr/>
          <p:nvPr/>
        </p:nvSpPr>
        <p:spPr>
          <a:xfrm>
            <a:off x="3009960" y="2803680"/>
            <a:ext cx="3527280" cy="13460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916360" y="3071880"/>
            <a:ext cx="36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Boletí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Asistencia al Ciudadano</a:t>
            </a:r>
            <a:r>
              <a:rPr b="1" lang="es-ES" sz="1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1 Grupo"/>
          <p:cNvGrpSpPr/>
          <p:nvPr/>
        </p:nvGrpSpPr>
        <p:grpSpPr>
          <a:xfrm>
            <a:off x="1143000" y="2057400"/>
            <a:ext cx="2664000" cy="792000"/>
            <a:chOff x="1143000" y="2057400"/>
            <a:chExt cx="2664000" cy="792000"/>
          </a:xfrm>
        </p:grpSpPr>
        <p:sp>
          <p:nvSpPr>
            <p:cNvPr id="295" name="Oval 12"/>
            <p:cNvSpPr/>
            <p:nvPr/>
          </p:nvSpPr>
          <p:spPr>
            <a:xfrm>
              <a:off x="1143000" y="2057400"/>
              <a:ext cx="2664000" cy="792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Text Box 19"/>
            <p:cNvSpPr/>
            <p:nvPr/>
          </p:nvSpPr>
          <p:spPr>
            <a:xfrm>
              <a:off x="1429560" y="2257200"/>
              <a:ext cx="189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Datos estadístic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2 Grupo"/>
          <p:cNvGrpSpPr/>
          <p:nvPr/>
        </p:nvGrpSpPr>
        <p:grpSpPr>
          <a:xfrm>
            <a:off x="5410080" y="2057400"/>
            <a:ext cx="2951280" cy="719280"/>
            <a:chOff x="5410080" y="2057400"/>
            <a:chExt cx="2951280" cy="719280"/>
          </a:xfrm>
        </p:grpSpPr>
        <p:sp>
          <p:nvSpPr>
            <p:cNvPr id="298" name="Oval 13"/>
            <p:cNvSpPr/>
            <p:nvPr/>
          </p:nvSpPr>
          <p:spPr>
            <a:xfrm>
              <a:off x="5410080" y="2057400"/>
              <a:ext cx="2881440" cy="719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Text Box 21"/>
            <p:cNvSpPr/>
            <p:nvPr/>
          </p:nvSpPr>
          <p:spPr>
            <a:xfrm>
              <a:off x="5860800" y="2201760"/>
              <a:ext cx="25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Proyectos en cur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3 Grupo"/>
          <p:cNvGrpSpPr/>
          <p:nvPr/>
        </p:nvGrpSpPr>
        <p:grpSpPr>
          <a:xfrm>
            <a:off x="1143000" y="4114800"/>
            <a:ext cx="2610000" cy="865080"/>
            <a:chOff x="1143000" y="4114800"/>
            <a:chExt cx="2610000" cy="865080"/>
          </a:xfrm>
        </p:grpSpPr>
        <p:sp>
          <p:nvSpPr>
            <p:cNvPr id="301" name="Oval 11"/>
            <p:cNvSpPr/>
            <p:nvPr/>
          </p:nvSpPr>
          <p:spPr>
            <a:xfrm>
              <a:off x="1143000" y="4114800"/>
              <a:ext cx="2610000" cy="865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 Box 22"/>
            <p:cNvSpPr/>
            <p:nvPr/>
          </p:nvSpPr>
          <p:spPr>
            <a:xfrm>
              <a:off x="1447920" y="4330440"/>
              <a:ext cx="17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Datos de interé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4 Grupo"/>
          <p:cNvGrpSpPr/>
          <p:nvPr/>
        </p:nvGrpSpPr>
        <p:grpSpPr>
          <a:xfrm>
            <a:off x="5791320" y="4221000"/>
            <a:ext cx="2597040" cy="720720"/>
            <a:chOff x="5791320" y="4221000"/>
            <a:chExt cx="2597040" cy="720720"/>
          </a:xfrm>
        </p:grpSpPr>
        <p:sp>
          <p:nvSpPr>
            <p:cNvPr id="304" name="Oval 14"/>
            <p:cNvSpPr/>
            <p:nvPr/>
          </p:nvSpPr>
          <p:spPr>
            <a:xfrm>
              <a:off x="5791320" y="4221000"/>
              <a:ext cx="2597040" cy="7207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23"/>
            <p:cNvSpPr/>
            <p:nvPr/>
          </p:nvSpPr>
          <p:spPr>
            <a:xfrm>
              <a:off x="6130440" y="43891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Casos relevant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AutoShape 35"/>
          <p:cNvSpPr/>
          <p:nvPr/>
        </p:nvSpPr>
        <p:spPr>
          <a:xfrm>
            <a:off x="4495680" y="4800600"/>
            <a:ext cx="505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3"/>
          <p:cNvSpPr/>
          <p:nvPr/>
        </p:nvSpPr>
        <p:spPr>
          <a:xfrm>
            <a:off x="2538360" y="5425920"/>
            <a:ext cx="4419720" cy="381240"/>
          </a:xfrm>
          <a:prstGeom prst="rect">
            <a:avLst/>
          </a:prstGeom>
          <a:solidFill>
            <a:srgbClr val="00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alibri"/>
              </a:rPr>
              <a:t>OPTIMIZAR LA CALIDAD EN EL SERVIC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AutoShape 59"/>
          <p:cNvCxnSpPr>
            <a:stCxn id="301" idx="0"/>
            <a:endCxn id="293" idx="1"/>
          </p:cNvCxnSpPr>
          <p:nvPr/>
        </p:nvCxnSpPr>
        <p:spPr>
          <a:xfrm flipH="1" flipV="1" rot="5400000">
            <a:off x="2320920" y="3519360"/>
            <a:ext cx="722520" cy="46908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09" name="AutoShape 60"/>
          <p:cNvCxnSpPr>
            <a:stCxn id="295" idx="6"/>
            <a:endCxn id="292" idx="0"/>
          </p:cNvCxnSpPr>
          <p:nvPr/>
        </p:nvCxnSpPr>
        <p:spPr>
          <a:xfrm>
            <a:off x="3806640" y="2453760"/>
            <a:ext cx="967320" cy="35028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10" name="AutoShape 63"/>
          <p:cNvCxnSpPr>
            <a:stCxn id="298" idx="4"/>
            <a:endCxn id="293" idx="3"/>
          </p:cNvCxnSpPr>
          <p:nvPr/>
        </p:nvCxnSpPr>
        <p:spPr>
          <a:xfrm rot="5400000">
            <a:off x="6385680" y="2927160"/>
            <a:ext cx="616680" cy="31500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11" name="AutoShape 64"/>
          <p:cNvCxnSpPr>
            <a:stCxn id="304" idx="2"/>
            <a:endCxn id="292" idx="4"/>
          </p:cNvCxnSpPr>
          <p:nvPr/>
        </p:nvCxnSpPr>
        <p:spPr>
          <a:xfrm rot="10800000">
            <a:off x="4772880" y="4149000"/>
            <a:ext cx="1018440" cy="43236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30 Grupo"/>
          <p:cNvGrpSpPr/>
          <p:nvPr/>
        </p:nvGrpSpPr>
        <p:grpSpPr>
          <a:xfrm>
            <a:off x="1116000" y="1989000"/>
            <a:ext cx="6912000" cy="624960"/>
            <a:chOff x="1116000" y="1989000"/>
            <a:chExt cx="6912000" cy="624960"/>
          </a:xfrm>
        </p:grpSpPr>
        <p:grpSp>
          <p:nvGrpSpPr>
            <p:cNvPr id="314" name="36 Rectángulo redondeado"/>
            <p:cNvGrpSpPr/>
            <p:nvPr/>
          </p:nvGrpSpPr>
          <p:grpSpPr>
            <a:xfrm>
              <a:off x="1116000" y="1989000"/>
              <a:ext cx="6912000" cy="432000"/>
              <a:chOff x="1116000" y="1989000"/>
              <a:chExt cx="6912000" cy="432000"/>
            </a:xfrm>
          </p:grpSpPr>
          <p:pic>
            <p:nvPicPr>
              <p:cNvPr id="315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989000"/>
                <a:ext cx="6912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1241280" y="2015280"/>
                <a:ext cx="667152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7" name="37 CuadroTexto"/>
            <p:cNvSpPr/>
            <p:nvPr/>
          </p:nvSpPr>
          <p:spPr>
            <a:xfrm>
              <a:off x="1555560" y="2033280"/>
              <a:ext cx="6105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¿Qué permiten conocer los reportes estadísticos del programa?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Rectangle 17"/>
          <p:cNvGrpSpPr/>
          <p:nvPr/>
        </p:nvGrpSpPr>
        <p:grpSpPr>
          <a:xfrm>
            <a:off x="900000" y="1484280"/>
            <a:ext cx="7272000" cy="474480"/>
            <a:chOff x="900000" y="1484280"/>
            <a:chExt cx="7272000" cy="474480"/>
          </a:xfrm>
        </p:grpSpPr>
        <p:pic>
          <p:nvPicPr>
            <p:cNvPr id="320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14842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981720" y="15415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ATOS ESTADÍS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41480" y="2522520"/>
            <a:ext cx="5764320" cy="2800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dentificar los indicadores claves para la gestión y seguimiento de la efici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r informes que permitan partir de lo general hasta lo particul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nalizar patrones de comportamiento interno y extern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Minimizar la posibilidad de dar tratamiento distinto a situaciones o clientes simil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9 Imagen" descr="Boton-redondo-griss.png"/>
          <p:cNvPicPr/>
          <p:nvPr/>
        </p:nvPicPr>
        <p:blipFill>
          <a:blip r:embed="rId3"/>
          <a:stretch/>
        </p:blipFill>
        <p:spPr>
          <a:xfrm>
            <a:off x="1549440" y="3441600"/>
            <a:ext cx="285840" cy="292320"/>
          </a:xfrm>
          <a:prstGeom prst="rect">
            <a:avLst/>
          </a:prstGeom>
          <a:ln w="0">
            <a:noFill/>
          </a:ln>
        </p:spPr>
      </p:pic>
      <p:pic>
        <p:nvPicPr>
          <p:cNvPr id="324" name="9 Imagen" descr="Boton-redondo-griss.png"/>
          <p:cNvPicPr/>
          <p:nvPr/>
        </p:nvPicPr>
        <p:blipFill>
          <a:blip r:embed="rId4"/>
          <a:stretch/>
        </p:blipFill>
        <p:spPr>
          <a:xfrm>
            <a:off x="1549440" y="2703600"/>
            <a:ext cx="285840" cy="291960"/>
          </a:xfrm>
          <a:prstGeom prst="rect">
            <a:avLst/>
          </a:prstGeom>
          <a:ln w="0">
            <a:noFill/>
          </a:ln>
        </p:spPr>
      </p:pic>
      <p:pic>
        <p:nvPicPr>
          <p:cNvPr id="325" name="9 Imagen" descr="Boton-redondo-griss.png"/>
          <p:cNvPicPr/>
          <p:nvPr/>
        </p:nvPicPr>
        <p:blipFill>
          <a:blip r:embed="rId5"/>
          <a:stretch/>
        </p:blipFill>
        <p:spPr>
          <a:xfrm>
            <a:off x="1547640" y="4127400"/>
            <a:ext cx="285840" cy="292320"/>
          </a:xfrm>
          <a:prstGeom prst="rect">
            <a:avLst/>
          </a:prstGeom>
          <a:ln w="0">
            <a:noFill/>
          </a:ln>
        </p:spPr>
      </p:pic>
      <p:pic>
        <p:nvPicPr>
          <p:cNvPr id="326" name="9 Imagen" descr="Boton-redondo-griss.png"/>
          <p:cNvPicPr/>
          <p:nvPr/>
        </p:nvPicPr>
        <p:blipFill>
          <a:blip r:embed="rId6"/>
          <a:stretch/>
        </p:blipFill>
        <p:spPr>
          <a:xfrm>
            <a:off x="1549440" y="4660920"/>
            <a:ext cx="2858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330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ATOS ESTADÍS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32" name=""/>
          <p:cNvGraphicFramePr/>
          <p:nvPr/>
        </p:nvGraphicFramePr>
        <p:xfrm>
          <a:off x="2050920" y="1828800"/>
          <a:ext cx="6093000" cy="40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828800"/>
                    <a:ext cx="609300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337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ATOS ESTADÍS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457200" y="1447920"/>
          <a:ext cx="5484960" cy="36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548496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419640" y="3068640"/>
          <a:ext cx="5484600" cy="365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3068640"/>
                    <a:ext cx="548460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Rectangle 17"/>
          <p:cNvGrpSpPr/>
          <p:nvPr/>
        </p:nvGrpSpPr>
        <p:grpSpPr>
          <a:xfrm>
            <a:off x="900000" y="1628640"/>
            <a:ext cx="7272000" cy="474480"/>
            <a:chOff x="900000" y="1628640"/>
            <a:chExt cx="7272000" cy="474480"/>
          </a:xfrm>
        </p:grpSpPr>
        <p:pic>
          <p:nvPicPr>
            <p:cNvPr id="346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6286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981720" y="16858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CAPACITA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438280" y="2666880"/>
            <a:ext cx="4759560" cy="22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ctura de normativa vigente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y noveda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ón de temas relevantes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entarios de casos prácticos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ertación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9 Imagen" descr="Boton-redondo-griss.png"/>
          <p:cNvPicPr/>
          <p:nvPr/>
        </p:nvPicPr>
        <p:blipFill>
          <a:blip r:embed="rId2"/>
          <a:stretch/>
        </p:blipFill>
        <p:spPr>
          <a:xfrm>
            <a:off x="1982880" y="3352680"/>
            <a:ext cx="285480" cy="292320"/>
          </a:xfrm>
          <a:prstGeom prst="rect">
            <a:avLst/>
          </a:prstGeom>
          <a:ln w="0">
            <a:noFill/>
          </a:ln>
        </p:spPr>
      </p:pic>
      <p:pic>
        <p:nvPicPr>
          <p:cNvPr id="350" name="9 Imagen" descr="Boton-redondo-griss.png"/>
          <p:cNvPicPr/>
          <p:nvPr/>
        </p:nvPicPr>
        <p:blipFill>
          <a:blip r:embed="rId3"/>
          <a:stretch/>
        </p:blipFill>
        <p:spPr>
          <a:xfrm>
            <a:off x="1982880" y="2819520"/>
            <a:ext cx="285480" cy="291960"/>
          </a:xfrm>
          <a:prstGeom prst="rect">
            <a:avLst/>
          </a:prstGeom>
          <a:ln w="0">
            <a:noFill/>
          </a:ln>
        </p:spPr>
      </p:pic>
      <p:pic>
        <p:nvPicPr>
          <p:cNvPr id="351" name="9 Imagen" descr="Boton-redondo-griss.png"/>
          <p:cNvPicPr/>
          <p:nvPr/>
        </p:nvPicPr>
        <p:blipFill>
          <a:blip r:embed="rId4"/>
          <a:stretch/>
        </p:blipFill>
        <p:spPr>
          <a:xfrm>
            <a:off x="1981080" y="3886200"/>
            <a:ext cx="285840" cy="291960"/>
          </a:xfrm>
          <a:prstGeom prst="rect">
            <a:avLst/>
          </a:prstGeom>
          <a:ln w="0">
            <a:noFill/>
          </a:ln>
        </p:spPr>
      </p:pic>
      <p:pic>
        <p:nvPicPr>
          <p:cNvPr id="352" name="9 Imagen" descr="Boton-redondo-griss.png"/>
          <p:cNvPicPr/>
          <p:nvPr/>
        </p:nvPicPr>
        <p:blipFill>
          <a:blip r:embed="rId5"/>
          <a:stretch/>
        </p:blipFill>
        <p:spPr>
          <a:xfrm>
            <a:off x="1982880" y="4419720"/>
            <a:ext cx="2854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36 Rectángulo redondeado"/>
          <p:cNvGrpSpPr/>
          <p:nvPr/>
        </p:nvGrpSpPr>
        <p:grpSpPr>
          <a:xfrm>
            <a:off x="2057400" y="1773360"/>
            <a:ext cx="6629400" cy="863640"/>
            <a:chOff x="2057400" y="1773360"/>
            <a:chExt cx="6629400" cy="863640"/>
          </a:xfrm>
        </p:grpSpPr>
        <p:pic>
          <p:nvPicPr>
            <p:cNvPr id="354" name="36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057400" y="1773360"/>
              <a:ext cx="66294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177640" y="1825920"/>
              <a:ext cx="6398640" cy="7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36 Rectángulo redondeado"/>
          <p:cNvGrpSpPr/>
          <p:nvPr/>
        </p:nvGrpSpPr>
        <p:grpSpPr>
          <a:xfrm>
            <a:off x="2076480" y="5084640"/>
            <a:ext cx="6610320" cy="1008360"/>
            <a:chOff x="2076480" y="5084640"/>
            <a:chExt cx="6610320" cy="1008360"/>
          </a:xfrm>
        </p:grpSpPr>
        <p:pic>
          <p:nvPicPr>
            <p:cNvPr id="357" name="3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076480" y="5084640"/>
              <a:ext cx="661032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196360" y="5145840"/>
              <a:ext cx="6380280" cy="87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Rectangle 17"/>
          <p:cNvGrpSpPr/>
          <p:nvPr/>
        </p:nvGrpSpPr>
        <p:grpSpPr>
          <a:xfrm>
            <a:off x="900000" y="1197000"/>
            <a:ext cx="7272000" cy="474480"/>
            <a:chOff x="900000" y="1197000"/>
            <a:chExt cx="7272000" cy="474480"/>
          </a:xfrm>
        </p:grpSpPr>
        <p:pic>
          <p:nvPicPr>
            <p:cNvPr id="361" name="Rectangle 17" descr=""/>
            <p:cNvPicPr/>
            <p:nvPr/>
          </p:nvPicPr>
          <p:blipFill>
            <a:blip r:embed="rId3"/>
            <a:stretch/>
          </p:blipFill>
          <p:spPr>
            <a:xfrm>
              <a:off x="900000" y="119700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981720" y="125424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ASOS REPRESENTATIV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36 Rectángulo redondeado"/>
          <p:cNvGrpSpPr/>
          <p:nvPr/>
        </p:nvGrpSpPr>
        <p:grpSpPr>
          <a:xfrm>
            <a:off x="2076480" y="4038480"/>
            <a:ext cx="6534000" cy="919440"/>
            <a:chOff x="2076480" y="4038480"/>
            <a:chExt cx="6534000" cy="919440"/>
          </a:xfrm>
        </p:grpSpPr>
        <p:pic>
          <p:nvPicPr>
            <p:cNvPr id="364" name="36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2076480" y="4038480"/>
              <a:ext cx="6534000" cy="9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194920" y="4094280"/>
              <a:ext cx="63068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36 Rectángulo redondeado"/>
          <p:cNvGrpSpPr/>
          <p:nvPr/>
        </p:nvGrpSpPr>
        <p:grpSpPr>
          <a:xfrm>
            <a:off x="2057400" y="2819520"/>
            <a:ext cx="6615000" cy="1041120"/>
            <a:chOff x="2057400" y="2819520"/>
            <a:chExt cx="6615000" cy="1041120"/>
          </a:xfrm>
        </p:grpSpPr>
        <p:pic>
          <p:nvPicPr>
            <p:cNvPr id="367" name="36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2057400" y="2819520"/>
              <a:ext cx="661500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77280" y="2882880"/>
              <a:ext cx="6384960" cy="90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50920" y="19209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DE GR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IMPACTO SO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30002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CASOS PARTICUL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4219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TRATAMIEN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EN LÍN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19444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RELACIÓN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OTR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ORGANISM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1824840"/>
            <a:ext cx="6095880" cy="64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Nuevas Disposiciones o Normativ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Inconvenientes ante el vencimiento de presentacion de obligacion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2909880"/>
            <a:ext cx="5181480" cy="91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Situaciones no contempladas en un Sistema o Normat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/>
          <p:nvPr/>
        </p:nvSpPr>
        <p:spPr>
          <a:xfrm>
            <a:off x="2363760" y="4339440"/>
            <a:ext cx="60944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Inconvenientes con cobertura de Obra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/>
          <p:nvPr/>
        </p:nvSpPr>
        <p:spPr>
          <a:xfrm>
            <a:off x="2376360" y="5101560"/>
            <a:ext cx="5319720" cy="91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iquidación de deudas previsionale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convenientes con Obras Sociale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convenientes con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Entidades Bancari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9 Imagen" descr="Boton-redondo-griss.png"/>
          <p:cNvPicPr/>
          <p:nvPr/>
        </p:nvPicPr>
        <p:blipFill>
          <a:blip r:embed="rId6"/>
          <a:stretch/>
        </p:blipFill>
        <p:spPr>
          <a:xfrm>
            <a:off x="2209680" y="198108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78" name="9 Imagen" descr="Boton-redondo-griss.png"/>
          <p:cNvPicPr/>
          <p:nvPr/>
        </p:nvPicPr>
        <p:blipFill>
          <a:blip r:embed="rId7"/>
          <a:stretch/>
        </p:blipFill>
        <p:spPr>
          <a:xfrm>
            <a:off x="2209680" y="222876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79" name="9 Imagen" descr="Boton-redondo-griss.png"/>
          <p:cNvPicPr/>
          <p:nvPr/>
        </p:nvPicPr>
        <p:blipFill>
          <a:blip r:embed="rId8"/>
          <a:stretch/>
        </p:blipFill>
        <p:spPr>
          <a:xfrm>
            <a:off x="2209680" y="32958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0" name="9 Imagen" descr="Boton-redondo-griss.png"/>
          <p:cNvPicPr/>
          <p:nvPr/>
        </p:nvPicPr>
        <p:blipFill>
          <a:blip r:embed="rId9"/>
          <a:stretch/>
        </p:blipFill>
        <p:spPr>
          <a:xfrm>
            <a:off x="2209680" y="44388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1" name="9 Imagen" descr="Boton-redondo-griss.png"/>
          <p:cNvPicPr/>
          <p:nvPr/>
        </p:nvPicPr>
        <p:blipFill>
          <a:blip r:embed="rId10"/>
          <a:stretch/>
        </p:blipFill>
        <p:spPr>
          <a:xfrm>
            <a:off x="2209680" y="52578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2" name="9 Imagen" descr="Boton-redondo-griss.png"/>
          <p:cNvPicPr/>
          <p:nvPr/>
        </p:nvPicPr>
        <p:blipFill>
          <a:blip r:embed="rId11"/>
          <a:stretch/>
        </p:blipFill>
        <p:spPr>
          <a:xfrm>
            <a:off x="2209680" y="54864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3" name="9 Imagen" descr="Boton-redondo-griss.png"/>
          <p:cNvPicPr/>
          <p:nvPr/>
        </p:nvPicPr>
        <p:blipFill>
          <a:blip r:embed="rId12"/>
          <a:stretch/>
        </p:blipFill>
        <p:spPr>
          <a:xfrm>
            <a:off x="2209680" y="5734080"/>
            <a:ext cx="15264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7 CuadroTexto"/>
          <p:cNvSpPr/>
          <p:nvPr/>
        </p:nvSpPr>
        <p:spPr>
          <a:xfrm>
            <a:off x="1981080" y="266688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Un canal de comunicación ágil y efectivo para interactuar con los ciudada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Rectangle 17"/>
          <p:cNvGrpSpPr/>
          <p:nvPr/>
        </p:nvGrpSpPr>
        <p:grpSpPr>
          <a:xfrm>
            <a:off x="900000" y="1484280"/>
            <a:ext cx="7272000" cy="474480"/>
            <a:chOff x="900000" y="1484280"/>
            <a:chExt cx="7272000" cy="474480"/>
          </a:xfrm>
        </p:grpSpPr>
        <p:pic>
          <p:nvPicPr>
            <p:cNvPr id="54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842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81720" y="15415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TRODUC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984320" y="3740040"/>
            <a:ext cx="5311800" cy="1685160"/>
          </a:xfrm>
          <a:prstGeom prst="roundRect">
            <a:avLst>
              <a:gd name="adj" fmla="val 5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solver inconveni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decuar normas o procedimi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correr transversalmente la Organizació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Unificar respuestas y procedimi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rmómetro de la Organiz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36 Rectángulo redondeado"/>
          <p:cNvGrpSpPr/>
          <p:nvPr/>
        </p:nvGrpSpPr>
        <p:grpSpPr>
          <a:xfrm>
            <a:off x="1619280" y="2060640"/>
            <a:ext cx="5688000" cy="431640"/>
            <a:chOff x="1619280" y="2060640"/>
            <a:chExt cx="5688000" cy="431640"/>
          </a:xfrm>
        </p:grpSpPr>
        <p:pic>
          <p:nvPicPr>
            <p:cNvPr id="58" name="3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619280" y="2060640"/>
              <a:ext cx="5688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22240" y="2086920"/>
              <a:ext cx="54900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37 CuadroTexto"/>
          <p:cNvSpPr/>
          <p:nvPr/>
        </p:nvSpPr>
        <p:spPr>
          <a:xfrm>
            <a:off x="1981080" y="2104920"/>
            <a:ext cx="50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QUÉ 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30 Grupo"/>
          <p:cNvGrpSpPr/>
          <p:nvPr/>
        </p:nvGrpSpPr>
        <p:grpSpPr>
          <a:xfrm>
            <a:off x="1619280" y="3357720"/>
            <a:ext cx="5688000" cy="431640"/>
            <a:chOff x="1619280" y="3357720"/>
            <a:chExt cx="5688000" cy="431640"/>
          </a:xfrm>
        </p:grpSpPr>
        <p:grpSp>
          <p:nvGrpSpPr>
            <p:cNvPr id="62" name="36 Rectángulo redondeado"/>
            <p:cNvGrpSpPr/>
            <p:nvPr/>
          </p:nvGrpSpPr>
          <p:grpSpPr>
            <a:xfrm>
              <a:off x="1619280" y="3357720"/>
              <a:ext cx="5688000" cy="431640"/>
              <a:chOff x="1619280" y="3357720"/>
              <a:chExt cx="5688000" cy="431640"/>
            </a:xfrm>
          </p:grpSpPr>
          <p:pic>
            <p:nvPicPr>
              <p:cNvPr id="63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1619280" y="3357720"/>
                <a:ext cx="5688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722240" y="3384000"/>
                <a:ext cx="5490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" name="37 CuadroTexto"/>
            <p:cNvSpPr/>
            <p:nvPr/>
          </p:nvSpPr>
          <p:spPr>
            <a:xfrm>
              <a:off x="1981080" y="340200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QUÉ PERMITE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9 Imagen" descr="Boton-redondo-griss.png"/>
          <p:cNvPicPr/>
          <p:nvPr/>
        </p:nvPicPr>
        <p:blipFill>
          <a:blip r:embed="rId4"/>
          <a:stretch/>
        </p:blipFill>
        <p:spPr>
          <a:xfrm>
            <a:off x="1752480" y="273060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67" name="9 Imagen" descr="Boton-redondo-griss.png"/>
          <p:cNvPicPr/>
          <p:nvPr/>
        </p:nvPicPr>
        <p:blipFill>
          <a:blip r:embed="rId5"/>
          <a:stretch/>
        </p:blipFill>
        <p:spPr>
          <a:xfrm>
            <a:off x="1752480" y="3949560"/>
            <a:ext cx="236520" cy="241560"/>
          </a:xfrm>
          <a:prstGeom prst="rect">
            <a:avLst/>
          </a:prstGeom>
          <a:ln w="0">
            <a:noFill/>
          </a:ln>
        </p:spPr>
      </p:pic>
      <p:pic>
        <p:nvPicPr>
          <p:cNvPr id="68" name="9 Imagen" descr="Boton-redondo-griss.png"/>
          <p:cNvPicPr/>
          <p:nvPr/>
        </p:nvPicPr>
        <p:blipFill>
          <a:blip r:embed="rId6"/>
          <a:stretch/>
        </p:blipFill>
        <p:spPr>
          <a:xfrm>
            <a:off x="1752480" y="455940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69" name="9 Imagen" descr="Boton-redondo-griss.png"/>
          <p:cNvPicPr/>
          <p:nvPr/>
        </p:nvPicPr>
        <p:blipFill>
          <a:blip r:embed="rId7"/>
          <a:stretch/>
        </p:blipFill>
        <p:spPr>
          <a:xfrm>
            <a:off x="1752480" y="425448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9 Imagen" descr="Boton-redondo-griss.png"/>
          <p:cNvPicPr/>
          <p:nvPr/>
        </p:nvPicPr>
        <p:blipFill>
          <a:blip r:embed="rId8"/>
          <a:stretch/>
        </p:blipFill>
        <p:spPr>
          <a:xfrm>
            <a:off x="1752480" y="510552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71" name="9 Imagen" descr="Boton-redondo-griss.png"/>
          <p:cNvPicPr/>
          <p:nvPr/>
        </p:nvPicPr>
        <p:blipFill>
          <a:blip r:embed="rId9"/>
          <a:stretch/>
        </p:blipFill>
        <p:spPr>
          <a:xfrm>
            <a:off x="1752480" y="4800600"/>
            <a:ext cx="236520" cy="24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52480" y="2090880"/>
          <a:ext cx="354240" cy="347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52480" y="2090880"/>
                    <a:ext cx="3542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52480" y="3386160"/>
          <a:ext cx="354240" cy="347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52480" y="3386160"/>
                    <a:ext cx="3542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38 Rectángulo redondeado"/>
          <p:cNvSpPr/>
          <p:nvPr/>
        </p:nvSpPr>
        <p:spPr>
          <a:xfrm>
            <a:off x="685800" y="129528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Rectangle 17"/>
          <p:cNvGrpSpPr/>
          <p:nvPr/>
        </p:nvGrpSpPr>
        <p:grpSpPr>
          <a:xfrm>
            <a:off x="900000" y="1441440"/>
            <a:ext cx="7272000" cy="474480"/>
            <a:chOff x="900000" y="1441440"/>
            <a:chExt cx="7272000" cy="474480"/>
          </a:xfrm>
        </p:grpSpPr>
        <p:pic>
          <p:nvPicPr>
            <p:cNvPr id="387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414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981720" y="14986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Calibri"/>
                </a:rPr>
                <a:t>SISTEMA INTEGRAD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590920" y="2057400"/>
            <a:ext cx="571500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ntrol total de la relación del Ciudadano con el Organism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nocimiento global y transversal del Ciudada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s un modelo de gestión de toda la Organiz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s sinónimo de Servicio al cliente o de Gestión de clientes (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iente = Ciudadano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Herramienta diseñada a medida de las necesidades operativas de la Organiz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Desarrollado utilizando exclusivamente recursos propios de la Organiz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s un sistema con distintos módul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Tiene relación otros sistem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No reemplaza a otros sistemas, es un facilitador de la aten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36 Rectángulo redondeado"/>
          <p:cNvGrpSpPr/>
          <p:nvPr/>
        </p:nvGrpSpPr>
        <p:grpSpPr>
          <a:xfrm>
            <a:off x="914400" y="2057400"/>
            <a:ext cx="1143000" cy="3733920"/>
            <a:chOff x="914400" y="2057400"/>
            <a:chExt cx="1143000" cy="3733920"/>
          </a:xfrm>
        </p:grpSpPr>
        <p:pic>
          <p:nvPicPr>
            <p:cNvPr id="391" name="3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914400" y="2057400"/>
              <a:ext cx="11430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934920" y="2284560"/>
              <a:ext cx="1103400" cy="32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33520" y="2362320"/>
            <a:ext cx="18288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cc"/>
                </a:solidFill>
                <a:latin typeface="Calibri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33cc"/>
                </a:solidFill>
                <a:latin typeface="Calibri"/>
              </a:rPr>
              <a:t>"Customer Relationship Management"</a:t>
            </a:r>
            <a:r>
              <a:rPr b="0" lang="es-AR" sz="14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9 Imagen" descr="Boton-redondo-griss.png"/>
          <p:cNvPicPr/>
          <p:nvPr/>
        </p:nvPicPr>
        <p:blipFill>
          <a:blip r:embed="rId3"/>
          <a:stretch/>
        </p:blipFill>
        <p:spPr>
          <a:xfrm>
            <a:off x="2438280" y="213372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95" name="9 Imagen" descr="Boton-redondo-griss.png"/>
          <p:cNvPicPr/>
          <p:nvPr/>
        </p:nvPicPr>
        <p:blipFill>
          <a:blip r:embed="rId4"/>
          <a:stretch/>
        </p:blipFill>
        <p:spPr>
          <a:xfrm>
            <a:off x="2438280" y="245736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96" name="9 Imagen" descr="Boton-redondo-griss.png"/>
          <p:cNvPicPr/>
          <p:nvPr/>
        </p:nvPicPr>
        <p:blipFill>
          <a:blip r:embed="rId5"/>
          <a:stretch/>
        </p:blipFill>
        <p:spPr>
          <a:xfrm>
            <a:off x="2438280" y="281952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97" name="9 Imagen" descr="Boton-redondo-griss.png"/>
          <p:cNvPicPr/>
          <p:nvPr/>
        </p:nvPicPr>
        <p:blipFill>
          <a:blip r:embed="rId6"/>
          <a:stretch/>
        </p:blipFill>
        <p:spPr>
          <a:xfrm>
            <a:off x="2438280" y="314316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98" name="9 Imagen" descr="Boton-redondo-griss.png"/>
          <p:cNvPicPr/>
          <p:nvPr/>
        </p:nvPicPr>
        <p:blipFill>
          <a:blip r:embed="rId7"/>
          <a:stretch/>
        </p:blipFill>
        <p:spPr>
          <a:xfrm>
            <a:off x="2438280" y="367668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99" name="9 Imagen" descr="Boton-redondo-griss.png"/>
          <p:cNvPicPr/>
          <p:nvPr/>
        </p:nvPicPr>
        <p:blipFill>
          <a:blip r:embed="rId8"/>
          <a:stretch/>
        </p:blipFill>
        <p:spPr>
          <a:xfrm>
            <a:off x="2438280" y="42102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400" name="9 Imagen" descr="Boton-redondo-griss.png"/>
          <p:cNvPicPr/>
          <p:nvPr/>
        </p:nvPicPr>
        <p:blipFill>
          <a:blip r:embed="rId9"/>
          <a:stretch/>
        </p:blipFill>
        <p:spPr>
          <a:xfrm>
            <a:off x="2438280" y="45720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401" name="9 Imagen" descr="Boton-redondo-griss.png"/>
          <p:cNvPicPr/>
          <p:nvPr/>
        </p:nvPicPr>
        <p:blipFill>
          <a:blip r:embed="rId10"/>
          <a:stretch/>
        </p:blipFill>
        <p:spPr>
          <a:xfrm>
            <a:off x="2438280" y="48960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402" name="9 Imagen" descr="Boton-redondo-griss.png"/>
          <p:cNvPicPr/>
          <p:nvPr/>
        </p:nvPicPr>
        <p:blipFill>
          <a:blip r:embed="rId11"/>
          <a:stretch/>
        </p:blipFill>
        <p:spPr>
          <a:xfrm>
            <a:off x="2438280" y="5257800"/>
            <a:ext cx="15264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30 Grupo"/>
          <p:cNvGrpSpPr/>
          <p:nvPr/>
        </p:nvGrpSpPr>
        <p:grpSpPr>
          <a:xfrm>
            <a:off x="1260360" y="1940040"/>
            <a:ext cx="6480360" cy="624960"/>
            <a:chOff x="1260360" y="1940040"/>
            <a:chExt cx="6480360" cy="624960"/>
          </a:xfrm>
        </p:grpSpPr>
        <p:grpSp>
          <p:nvGrpSpPr>
            <p:cNvPr id="405" name="36 Rectángulo redondeado"/>
            <p:cNvGrpSpPr/>
            <p:nvPr/>
          </p:nvGrpSpPr>
          <p:grpSpPr>
            <a:xfrm>
              <a:off x="1260360" y="1940040"/>
              <a:ext cx="6480360" cy="431640"/>
              <a:chOff x="1260360" y="1940040"/>
              <a:chExt cx="6480360" cy="431640"/>
            </a:xfrm>
          </p:grpSpPr>
          <p:pic>
            <p:nvPicPr>
              <p:cNvPr id="406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1940040"/>
                <a:ext cx="64803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377720" y="1966320"/>
                <a:ext cx="6255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8" name="37 CuadroTexto"/>
            <p:cNvSpPr/>
            <p:nvPr/>
          </p:nvSpPr>
          <p:spPr>
            <a:xfrm>
              <a:off x="1672560" y="1984320"/>
              <a:ext cx="572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BENEFICIOS DEL USO DEL SISTEM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Rectangle 17"/>
          <p:cNvGrpSpPr/>
          <p:nvPr/>
        </p:nvGrpSpPr>
        <p:grpSpPr>
          <a:xfrm>
            <a:off x="900000" y="1484280"/>
            <a:ext cx="7272000" cy="474480"/>
            <a:chOff x="900000" y="1484280"/>
            <a:chExt cx="7272000" cy="474480"/>
          </a:xfrm>
        </p:grpSpPr>
        <p:pic>
          <p:nvPicPr>
            <p:cNvPr id="411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14842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981720" y="15415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SISTEMA INTEGRAD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785960" y="2666880"/>
            <a:ext cx="6595920" cy="3070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Conocimiento integral del cliente (ciudadano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umento de la satisfacción del clientes (cumplimiento voluntario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ntegración de toda la información disponi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ermite hacer campañas dirigidas a segmentos determin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oluciones en línea a través de Intern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mplementación de soluciones proactiv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454040" y="2809800"/>
            <a:ext cx="296640" cy="2752920"/>
            <a:chOff x="1454040" y="2809800"/>
            <a:chExt cx="296640" cy="2752920"/>
          </a:xfrm>
        </p:grpSpPr>
        <p:sp>
          <p:nvSpPr>
            <p:cNvPr id="415" name=""/>
            <p:cNvSpPr/>
            <p:nvPr/>
          </p:nvSpPr>
          <p:spPr>
            <a:xfrm>
              <a:off x="1569960" y="2817720"/>
              <a:ext cx="180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6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455840" y="3289320"/>
              <a:ext cx="2854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455840" y="2809800"/>
              <a:ext cx="2854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454040" y="3759120"/>
              <a:ext cx="28584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1455840" y="4280040"/>
              <a:ext cx="2854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1454040" y="4749840"/>
              <a:ext cx="285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9 Imagen" descr="Boton-redondo-griss.png"/>
            <p:cNvPicPr/>
            <p:nvPr/>
          </p:nvPicPr>
          <p:blipFill>
            <a:blip r:embed="rId8"/>
            <a:stretch/>
          </p:blipFill>
          <p:spPr>
            <a:xfrm>
              <a:off x="1455840" y="5270400"/>
              <a:ext cx="285480" cy="29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0" y="2997360"/>
            <a:ext cx="9144000" cy="1387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Rectangle 17"/>
          <p:cNvGrpSpPr/>
          <p:nvPr/>
        </p:nvGrpSpPr>
        <p:grpSpPr>
          <a:xfrm>
            <a:off x="900000" y="1441440"/>
            <a:ext cx="7272000" cy="474480"/>
            <a:chOff x="900000" y="1441440"/>
            <a:chExt cx="7272000" cy="474480"/>
          </a:xfrm>
        </p:grpSpPr>
        <p:pic>
          <p:nvPicPr>
            <p:cNvPr id="78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414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981720" y="14986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ÓMO SE INICIA EL PROGRAM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00200" y="4494600"/>
            <a:ext cx="6400800" cy="1553400"/>
          </a:xfrm>
          <a:prstGeom prst="roundRect">
            <a:avLst>
              <a:gd name="adj" fmla="val 133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Visitas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pendencias de la AFIP y jornadas de atención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normalizan procedimientos para la gestión de reclamos y sugerencia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formaliza el programa haciéndolo exigible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30 Grupo"/>
          <p:cNvGrpSpPr/>
          <p:nvPr/>
        </p:nvGrpSpPr>
        <p:grpSpPr>
          <a:xfrm>
            <a:off x="1295280" y="2133720"/>
            <a:ext cx="6632640" cy="431640"/>
            <a:chOff x="1295280" y="2133720"/>
            <a:chExt cx="6632640" cy="431640"/>
          </a:xfrm>
        </p:grpSpPr>
        <p:grpSp>
          <p:nvGrpSpPr>
            <p:cNvPr id="82" name="36 Rectángulo redondeado"/>
            <p:cNvGrpSpPr/>
            <p:nvPr/>
          </p:nvGrpSpPr>
          <p:grpSpPr>
            <a:xfrm>
              <a:off x="1295280" y="2133720"/>
              <a:ext cx="6632640" cy="431640"/>
              <a:chOff x="1295280" y="2133720"/>
              <a:chExt cx="6632640" cy="431640"/>
            </a:xfrm>
          </p:grpSpPr>
          <p:pic>
            <p:nvPicPr>
              <p:cNvPr id="83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2133720"/>
                <a:ext cx="6632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415520" y="2160000"/>
                <a:ext cx="640188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37 CuadroTexto"/>
            <p:cNvSpPr/>
            <p:nvPr/>
          </p:nvSpPr>
          <p:spPr>
            <a:xfrm>
              <a:off x="1717200" y="2178000"/>
              <a:ext cx="58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CÓMO NACIÓ 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30 Grupo"/>
          <p:cNvGrpSpPr/>
          <p:nvPr/>
        </p:nvGrpSpPr>
        <p:grpSpPr>
          <a:xfrm>
            <a:off x="1371600" y="3962520"/>
            <a:ext cx="6556320" cy="431640"/>
            <a:chOff x="1371600" y="3962520"/>
            <a:chExt cx="6556320" cy="431640"/>
          </a:xfrm>
        </p:grpSpPr>
        <p:grpSp>
          <p:nvGrpSpPr>
            <p:cNvPr id="87" name="36 Rectángulo redondeado"/>
            <p:cNvGrpSpPr/>
            <p:nvPr/>
          </p:nvGrpSpPr>
          <p:grpSpPr>
            <a:xfrm>
              <a:off x="1371600" y="3962520"/>
              <a:ext cx="6556320" cy="431640"/>
              <a:chOff x="1371600" y="3962520"/>
              <a:chExt cx="6556320" cy="431640"/>
            </a:xfrm>
          </p:grpSpPr>
          <p:pic>
            <p:nvPicPr>
              <p:cNvPr id="88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3962520"/>
                <a:ext cx="65563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1490400" y="3988800"/>
                <a:ext cx="63284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37 CuadroTexto"/>
            <p:cNvSpPr/>
            <p:nvPr/>
          </p:nvSpPr>
          <p:spPr>
            <a:xfrm>
              <a:off x="1788480" y="4006800"/>
              <a:ext cx="57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FORMALIZACIÓN DEL PROGRAM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569960" y="2561760"/>
            <a:ext cx="6497640" cy="1317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pocas dependencias de la AFIP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rga manual de formulario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No existía procedimiento para la gestión de las presentacione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9 Imagen" descr="Boton-redondo-griss.png"/>
          <p:cNvPicPr/>
          <p:nvPr/>
        </p:nvPicPr>
        <p:blipFill>
          <a:blip r:embed="rId4"/>
          <a:stretch/>
        </p:blipFill>
        <p:spPr>
          <a:xfrm>
            <a:off x="1371600" y="348300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93" name="9 Imagen" descr="Boton-redondo-griss.png"/>
          <p:cNvPicPr/>
          <p:nvPr/>
        </p:nvPicPr>
        <p:blipFill>
          <a:blip r:embed="rId5"/>
          <a:stretch/>
        </p:blipFill>
        <p:spPr>
          <a:xfrm>
            <a:off x="1371600" y="316224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94" name="9 Imagen" descr="Boton-redondo-griss.png"/>
          <p:cNvPicPr/>
          <p:nvPr/>
        </p:nvPicPr>
        <p:blipFill>
          <a:blip r:embed="rId6"/>
          <a:stretch/>
        </p:blipFill>
        <p:spPr>
          <a:xfrm>
            <a:off x="1371600" y="284148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95" name="9 Imagen" descr="Boton-redondo-griss.png"/>
          <p:cNvPicPr/>
          <p:nvPr/>
        </p:nvPicPr>
        <p:blipFill>
          <a:blip r:embed="rId7"/>
          <a:stretch/>
        </p:blipFill>
        <p:spPr>
          <a:xfrm>
            <a:off x="1371600" y="472428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96" name="9 Imagen" descr="Boton-redondo-griss.png"/>
          <p:cNvPicPr/>
          <p:nvPr/>
        </p:nvPicPr>
        <p:blipFill>
          <a:blip r:embed="rId8"/>
          <a:stretch/>
        </p:blipFill>
        <p:spPr>
          <a:xfrm>
            <a:off x="1371600" y="548640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97" name="9 Imagen" descr="Boton-redondo-griss.png"/>
          <p:cNvPicPr/>
          <p:nvPr/>
        </p:nvPicPr>
        <p:blipFill>
          <a:blip r:embed="rId9"/>
          <a:stretch/>
        </p:blipFill>
        <p:spPr>
          <a:xfrm>
            <a:off x="1371600" y="5105520"/>
            <a:ext cx="2318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8 Rectángulo redondeado"/>
          <p:cNvSpPr/>
          <p:nvPr/>
        </p:nvSpPr>
        <p:spPr>
          <a:xfrm>
            <a:off x="762120" y="16002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7"/>
          <p:cNvGrpSpPr/>
          <p:nvPr/>
        </p:nvGrpSpPr>
        <p:grpSpPr>
          <a:xfrm>
            <a:off x="838080" y="1447920"/>
            <a:ext cx="7272000" cy="474480"/>
            <a:chOff x="838080" y="1447920"/>
            <a:chExt cx="7272000" cy="474480"/>
          </a:xfrm>
        </p:grpSpPr>
        <p:pic>
          <p:nvPicPr>
            <p:cNvPr id="101" name="Rectangle 17" descr=""/>
            <p:cNvPicPr/>
            <p:nvPr/>
          </p:nvPicPr>
          <p:blipFill>
            <a:blip r:embed="rId1"/>
            <a:stretch/>
          </p:blipFill>
          <p:spPr>
            <a:xfrm>
              <a:off x="838080" y="14479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19800" y="15051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EL PROGRAMA HO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447920" y="1904040"/>
            <a:ext cx="632448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 constituye en el único canal del Organismo para la recepción de reclamos, quejas y sugerenci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Atendido por personal especializado en cualquier Dependencia de Afip (Asistente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 dispone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n las agencias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 instalación de un espacio físico que permita una atención personalizada al ciudadano asisti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 adoptan las pautas del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lo de Atención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dentro del ejercicio de las funciones a cargo del Asist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omunicación del estado de la presentación dentro de las 48 hor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 definen los tiempos máximos de respuesta por parte de las distintas áreas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nformación al Contribuyente sobre sus derechos y obligacio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30 Grupo"/>
          <p:cNvGrpSpPr/>
          <p:nvPr/>
        </p:nvGrpSpPr>
        <p:grpSpPr>
          <a:xfrm>
            <a:off x="1143000" y="1917720"/>
            <a:ext cx="6595920" cy="406080"/>
            <a:chOff x="1143000" y="1917720"/>
            <a:chExt cx="6595920" cy="406080"/>
          </a:xfrm>
        </p:grpSpPr>
        <p:grpSp>
          <p:nvGrpSpPr>
            <p:cNvPr id="105" name="36 Rectángulo redondeado"/>
            <p:cNvGrpSpPr/>
            <p:nvPr/>
          </p:nvGrpSpPr>
          <p:grpSpPr>
            <a:xfrm>
              <a:off x="1143000" y="1917720"/>
              <a:ext cx="6595920" cy="368280"/>
              <a:chOff x="1143000" y="1917720"/>
              <a:chExt cx="6595920" cy="368280"/>
            </a:xfrm>
          </p:grpSpPr>
          <p:pic>
            <p:nvPicPr>
              <p:cNvPr id="106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1917720"/>
                <a:ext cx="6595920" cy="3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262520" y="1940040"/>
                <a:ext cx="636660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37 CuadroTexto"/>
            <p:cNvSpPr/>
            <p:nvPr/>
          </p:nvSpPr>
          <p:spPr>
            <a:xfrm>
              <a:off x="1563120" y="1955520"/>
              <a:ext cx="582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CARACTERÍSTIC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9 Imagen" descr="Boton-redondo-griss.png"/>
          <p:cNvPicPr/>
          <p:nvPr/>
        </p:nvPicPr>
        <p:blipFill>
          <a:blip r:embed="rId3"/>
          <a:stretch/>
        </p:blipFill>
        <p:spPr>
          <a:xfrm>
            <a:off x="1212840" y="276876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0" name="9 Imagen" descr="Boton-redondo-griss.png"/>
          <p:cNvPicPr/>
          <p:nvPr/>
        </p:nvPicPr>
        <p:blipFill>
          <a:blip r:embed="rId4"/>
          <a:stretch/>
        </p:blipFill>
        <p:spPr>
          <a:xfrm>
            <a:off x="1212840" y="335268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111" name="9 Imagen" descr="Boton-redondo-griss.png"/>
          <p:cNvPicPr/>
          <p:nvPr/>
        </p:nvPicPr>
        <p:blipFill>
          <a:blip r:embed="rId5"/>
          <a:stretch/>
        </p:blipFill>
        <p:spPr>
          <a:xfrm>
            <a:off x="1216080" y="368316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2" name="9 Imagen" descr="Boton-redondo-griss.png"/>
          <p:cNvPicPr/>
          <p:nvPr/>
        </p:nvPicPr>
        <p:blipFill>
          <a:blip r:embed="rId6"/>
          <a:stretch/>
        </p:blipFill>
        <p:spPr>
          <a:xfrm>
            <a:off x="1216080" y="421632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113" name="9 Imagen" descr="Boton-redondo-griss.png"/>
          <p:cNvPicPr/>
          <p:nvPr/>
        </p:nvPicPr>
        <p:blipFill>
          <a:blip r:embed="rId7"/>
          <a:stretch/>
        </p:blipFill>
        <p:spPr>
          <a:xfrm>
            <a:off x="1216080" y="474984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4" name="9 Imagen" descr="Boton-redondo-griss.png"/>
          <p:cNvPicPr/>
          <p:nvPr/>
        </p:nvPicPr>
        <p:blipFill>
          <a:blip r:embed="rId8"/>
          <a:stretch/>
        </p:blipFill>
        <p:spPr>
          <a:xfrm>
            <a:off x="1212840" y="510552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5" name="9 Imagen" descr="Boton-redondo-griss.png"/>
          <p:cNvPicPr/>
          <p:nvPr/>
        </p:nvPicPr>
        <p:blipFill>
          <a:blip r:embed="rId9"/>
          <a:stretch/>
        </p:blipFill>
        <p:spPr>
          <a:xfrm>
            <a:off x="1216080" y="5410080"/>
            <a:ext cx="231840" cy="2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36 Rectángulo redondeado"/>
          <p:cNvGrpSpPr/>
          <p:nvPr/>
        </p:nvGrpSpPr>
        <p:grpSpPr>
          <a:xfrm>
            <a:off x="2209680" y="2060640"/>
            <a:ext cx="6021360" cy="1873080"/>
            <a:chOff x="2209680" y="2060640"/>
            <a:chExt cx="6021360" cy="1873080"/>
          </a:xfrm>
        </p:grpSpPr>
        <p:pic>
          <p:nvPicPr>
            <p:cNvPr id="118" name="36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09680" y="2060640"/>
              <a:ext cx="60213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318760" y="2174400"/>
              <a:ext cx="581184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122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SISTENTE AL CIUDADAN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428920" y="2400840"/>
            <a:ext cx="5807160" cy="1262520"/>
          </a:xfrm>
          <a:prstGeom prst="roundRect">
            <a:avLst>
              <a:gd name="adj" fmla="val 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doneidad, Integridad y Vocación de servici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edisposición para desarrollar la tarea encomendada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ocimientos técnicos en materia: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positiva,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uanera y de los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cursos de la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uridad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cial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7 CuadroTexto"/>
          <p:cNvSpPr/>
          <p:nvPr/>
        </p:nvSpPr>
        <p:spPr>
          <a:xfrm>
            <a:off x="900000" y="256536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Arial"/>
              </a:rPr>
              <a:t>PERF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36 Rectángulo redondeado"/>
          <p:cNvGrpSpPr/>
          <p:nvPr/>
        </p:nvGrpSpPr>
        <p:grpSpPr>
          <a:xfrm>
            <a:off x="2209680" y="4005360"/>
            <a:ext cx="6019920" cy="1944720"/>
            <a:chOff x="2209680" y="4005360"/>
            <a:chExt cx="6019920" cy="1944720"/>
          </a:xfrm>
        </p:grpSpPr>
        <p:pic>
          <p:nvPicPr>
            <p:cNvPr id="127" name="36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09680" y="4005360"/>
              <a:ext cx="60199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318760" y="4123800"/>
              <a:ext cx="581040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406600" y="4019400"/>
            <a:ext cx="6032520" cy="1747080"/>
          </a:xfrm>
          <a:prstGeom prst="roundRect">
            <a:avLst>
              <a:gd name="adj" fmla="val 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tender los reclamos y sugerenci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Proteger los derechos garantías e intereses de los administra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niciar o proseguir cualquier tramitación conducente a solucionar el reclamo presenta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niciar proyectos con objeto de incrementar la calidad en el servici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7 CuadroTexto"/>
          <p:cNvSpPr/>
          <p:nvPr/>
        </p:nvSpPr>
        <p:spPr>
          <a:xfrm>
            <a:off x="900000" y="451008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Arial"/>
              </a:rPr>
              <a:t>FUN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9 Imagen" descr="Boton-redondo-griss.png"/>
          <p:cNvPicPr/>
          <p:nvPr/>
        </p:nvPicPr>
        <p:blipFill>
          <a:blip r:embed="rId4"/>
          <a:stretch/>
        </p:blipFill>
        <p:spPr>
          <a:xfrm>
            <a:off x="2362320" y="251460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2" name="9 Imagen" descr="Boton-redondo-griss.png"/>
          <p:cNvPicPr/>
          <p:nvPr/>
        </p:nvPicPr>
        <p:blipFill>
          <a:blip r:embed="rId5"/>
          <a:stretch/>
        </p:blipFill>
        <p:spPr>
          <a:xfrm>
            <a:off x="2362320" y="283860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3" name="9 Imagen" descr="Boton-redondo-griss.png"/>
          <p:cNvPicPr/>
          <p:nvPr/>
        </p:nvPicPr>
        <p:blipFill>
          <a:blip r:embed="rId6"/>
          <a:stretch/>
        </p:blipFill>
        <p:spPr>
          <a:xfrm>
            <a:off x="2362320" y="320040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4" name="9 Imagen" descr="Boton-redondo-griss.png"/>
          <p:cNvPicPr/>
          <p:nvPr/>
        </p:nvPicPr>
        <p:blipFill>
          <a:blip r:embed="rId7"/>
          <a:stretch/>
        </p:blipFill>
        <p:spPr>
          <a:xfrm>
            <a:off x="2362320" y="4267080"/>
            <a:ext cx="152280" cy="133560"/>
          </a:xfrm>
          <a:prstGeom prst="rect">
            <a:avLst/>
          </a:prstGeom>
          <a:ln w="0">
            <a:noFill/>
          </a:ln>
        </p:spPr>
      </p:pic>
      <p:pic>
        <p:nvPicPr>
          <p:cNvPr id="135" name="9 Imagen" descr="Boton-redondo-griss.png"/>
          <p:cNvPicPr/>
          <p:nvPr/>
        </p:nvPicPr>
        <p:blipFill>
          <a:blip r:embed="rId8"/>
          <a:stretch/>
        </p:blipFill>
        <p:spPr>
          <a:xfrm>
            <a:off x="2362320" y="459108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6" name="9 Imagen" descr="Boton-redondo-griss.png"/>
          <p:cNvPicPr/>
          <p:nvPr/>
        </p:nvPicPr>
        <p:blipFill>
          <a:blip r:embed="rId9"/>
          <a:stretch/>
        </p:blipFill>
        <p:spPr>
          <a:xfrm>
            <a:off x="2362320" y="4952880"/>
            <a:ext cx="152280" cy="1335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Boton-redondo-griss.png"/>
          <p:cNvPicPr/>
          <p:nvPr/>
        </p:nvPicPr>
        <p:blipFill>
          <a:blip r:embed="rId10"/>
          <a:stretch/>
        </p:blipFill>
        <p:spPr>
          <a:xfrm>
            <a:off x="2362320" y="5486400"/>
            <a:ext cx="15228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Rectangle 17"/>
          <p:cNvGrpSpPr/>
          <p:nvPr/>
        </p:nvGrpSpPr>
        <p:grpSpPr>
          <a:xfrm>
            <a:off x="900000" y="1585800"/>
            <a:ext cx="7272000" cy="474480"/>
            <a:chOff x="900000" y="1585800"/>
            <a:chExt cx="7272000" cy="474480"/>
          </a:xfrm>
        </p:grpSpPr>
        <p:pic>
          <p:nvPicPr>
            <p:cNvPr id="141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8580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981720" y="164304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ALC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CuadroTexto 4"/>
          <p:cNvSpPr/>
          <p:nvPr/>
        </p:nvSpPr>
        <p:spPr>
          <a:xfrm>
            <a:off x="1600200" y="2381760"/>
            <a:ext cx="631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presentación de un reclamo no interrumpe la vía recursi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resentación de un reclamo no podrá ser utilizada como medio de prueba para oponer recursos ante Afip u otra autoridad compete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ama de Asistencia al Ciudadano no recepciona denuncias impositivas, previsionales y/o aduane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9 Imagen" descr="Boton-redondo-griss.png"/>
          <p:cNvPicPr/>
          <p:nvPr/>
        </p:nvPicPr>
        <p:blipFill>
          <a:blip r:embed="rId2"/>
          <a:stretch/>
        </p:blipFill>
        <p:spPr>
          <a:xfrm>
            <a:off x="1046160" y="4356000"/>
            <a:ext cx="285840" cy="292320"/>
          </a:xfrm>
          <a:prstGeom prst="rect">
            <a:avLst/>
          </a:prstGeom>
          <a:ln w="0">
            <a:noFill/>
          </a:ln>
        </p:spPr>
      </p:pic>
      <p:pic>
        <p:nvPicPr>
          <p:cNvPr id="145" name="9 Imagen" descr="Boton-redondo-griss.png"/>
          <p:cNvPicPr/>
          <p:nvPr/>
        </p:nvPicPr>
        <p:blipFill>
          <a:blip r:embed="rId3"/>
          <a:stretch/>
        </p:blipFill>
        <p:spPr>
          <a:xfrm>
            <a:off x="1066680" y="3276720"/>
            <a:ext cx="285840" cy="291960"/>
          </a:xfrm>
          <a:prstGeom prst="rect">
            <a:avLst/>
          </a:prstGeom>
          <a:ln w="0">
            <a:noFill/>
          </a:ln>
        </p:spPr>
      </p:pic>
      <p:pic>
        <p:nvPicPr>
          <p:cNvPr id="146" name="9 Imagen" descr="Boton-redondo-griss.png"/>
          <p:cNvPicPr/>
          <p:nvPr/>
        </p:nvPicPr>
        <p:blipFill>
          <a:blip r:embed="rId4"/>
          <a:stretch/>
        </p:blipFill>
        <p:spPr>
          <a:xfrm>
            <a:off x="1066680" y="2743200"/>
            <a:ext cx="2858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30 Grupo"/>
          <p:cNvGrpSpPr/>
          <p:nvPr/>
        </p:nvGrpSpPr>
        <p:grpSpPr>
          <a:xfrm>
            <a:off x="3492360" y="2924280"/>
            <a:ext cx="2016360" cy="2714400"/>
            <a:chOff x="3492360" y="2924280"/>
            <a:chExt cx="2016360" cy="2714400"/>
          </a:xfrm>
        </p:grpSpPr>
        <p:grpSp>
          <p:nvGrpSpPr>
            <p:cNvPr id="151" name="36 Rectángulo redondeado"/>
            <p:cNvGrpSpPr/>
            <p:nvPr/>
          </p:nvGrpSpPr>
          <p:grpSpPr>
            <a:xfrm>
              <a:off x="3492360" y="2924280"/>
              <a:ext cx="2016360" cy="2714400"/>
              <a:chOff x="3492360" y="2924280"/>
              <a:chExt cx="2016360" cy="2714400"/>
            </a:xfrm>
          </p:grpSpPr>
          <p:pic>
            <p:nvPicPr>
              <p:cNvPr id="152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2360" y="2924280"/>
                <a:ext cx="2016360" cy="27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3528720" y="3089520"/>
                <a:ext cx="1946160" cy="23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37 CuadroTexto"/>
            <p:cNvSpPr/>
            <p:nvPr/>
          </p:nvSpPr>
          <p:spPr>
            <a:xfrm>
              <a:off x="3620880" y="3322440"/>
              <a:ext cx="17798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30 Grupo"/>
          <p:cNvGrpSpPr/>
          <p:nvPr/>
        </p:nvGrpSpPr>
        <p:grpSpPr>
          <a:xfrm>
            <a:off x="5651640" y="2924280"/>
            <a:ext cx="2016000" cy="2714400"/>
            <a:chOff x="5651640" y="2924280"/>
            <a:chExt cx="2016000" cy="2714400"/>
          </a:xfrm>
        </p:grpSpPr>
        <p:grpSp>
          <p:nvGrpSpPr>
            <p:cNvPr id="156" name="36 Rectángulo redondeado"/>
            <p:cNvGrpSpPr/>
            <p:nvPr/>
          </p:nvGrpSpPr>
          <p:grpSpPr>
            <a:xfrm>
              <a:off x="5651640" y="2924280"/>
              <a:ext cx="2016000" cy="2714400"/>
              <a:chOff x="5651640" y="2924280"/>
              <a:chExt cx="2016000" cy="2714400"/>
            </a:xfrm>
          </p:grpSpPr>
          <p:pic>
            <p:nvPicPr>
              <p:cNvPr id="157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1640" y="2924280"/>
                <a:ext cx="2016000" cy="27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688000" y="3089520"/>
                <a:ext cx="1946160" cy="23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37 CuadroTexto"/>
            <p:cNvSpPr/>
            <p:nvPr/>
          </p:nvSpPr>
          <p:spPr>
            <a:xfrm>
              <a:off x="5780160" y="3322440"/>
              <a:ext cx="1779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Rectangle 17"/>
          <p:cNvGrpSpPr/>
          <p:nvPr/>
        </p:nvGrpSpPr>
        <p:grpSpPr>
          <a:xfrm>
            <a:off x="900000" y="1628640"/>
            <a:ext cx="7078680" cy="474480"/>
            <a:chOff x="900000" y="1628640"/>
            <a:chExt cx="7078680" cy="474480"/>
          </a:xfrm>
        </p:grpSpPr>
        <p:pic>
          <p:nvPicPr>
            <p:cNvPr id="161" name="Rectangle 17" descr=""/>
            <p:cNvPicPr/>
            <p:nvPr/>
          </p:nvPicPr>
          <p:blipFill>
            <a:blip r:embed="rId3"/>
            <a:stretch/>
          </p:blipFill>
          <p:spPr>
            <a:xfrm>
              <a:off x="900000" y="162864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979560" y="16858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SIDERACIONES GENER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30 Grupo"/>
          <p:cNvGrpSpPr/>
          <p:nvPr/>
        </p:nvGrpSpPr>
        <p:grpSpPr>
          <a:xfrm>
            <a:off x="1330200" y="2924280"/>
            <a:ext cx="2016360" cy="2714400"/>
            <a:chOff x="1330200" y="2924280"/>
            <a:chExt cx="2016360" cy="2714400"/>
          </a:xfrm>
        </p:grpSpPr>
        <p:grpSp>
          <p:nvGrpSpPr>
            <p:cNvPr id="164" name="36 Rectángulo redondeado"/>
            <p:cNvGrpSpPr/>
            <p:nvPr/>
          </p:nvGrpSpPr>
          <p:grpSpPr>
            <a:xfrm>
              <a:off x="1330200" y="2924280"/>
              <a:ext cx="2016360" cy="2714400"/>
              <a:chOff x="1330200" y="2924280"/>
              <a:chExt cx="2016360" cy="2714400"/>
            </a:xfrm>
          </p:grpSpPr>
          <p:pic>
            <p:nvPicPr>
              <p:cNvPr id="165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1330200" y="2924280"/>
                <a:ext cx="2016360" cy="27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366560" y="3089520"/>
                <a:ext cx="1946160" cy="23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" name="37 CuadroTexto"/>
            <p:cNvSpPr/>
            <p:nvPr/>
          </p:nvSpPr>
          <p:spPr>
            <a:xfrm>
              <a:off x="1458720" y="3322440"/>
              <a:ext cx="1779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Rectangle 9"/>
          <p:cNvGrpSpPr/>
          <p:nvPr/>
        </p:nvGrpSpPr>
        <p:grpSpPr>
          <a:xfrm>
            <a:off x="1042920" y="2133720"/>
            <a:ext cx="6842160" cy="720720"/>
            <a:chOff x="1042920" y="2133720"/>
            <a:chExt cx="6842160" cy="720720"/>
          </a:xfrm>
        </p:grpSpPr>
        <p:pic>
          <p:nvPicPr>
            <p:cNvPr id="169" name="Rectangle 9" descr=""/>
            <p:cNvPicPr/>
            <p:nvPr/>
          </p:nvPicPr>
          <p:blipFill>
            <a:blip r:embed="rId5"/>
            <a:stretch/>
          </p:blipFill>
          <p:spPr>
            <a:xfrm>
              <a:off x="1042920" y="2133720"/>
              <a:ext cx="68421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287360" y="2217240"/>
              <a:ext cx="636480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ARA DISTINGUI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447920" y="3048120"/>
            <a:ext cx="182880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RECLAM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xpresión de disgusto, insatisfacción 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isconformida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 los ciudadanos,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r cualquier inconveniente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que altere la relación Fisco-Contribuyente.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3068640"/>
            <a:ext cx="1828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QUEJ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xpresión de desazón, producto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 d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nconveniente que altera la relación Fisco-Contribuyent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5794200" y="3044880"/>
            <a:ext cx="1729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SUGERENC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ciativa formulada por los ciudadanos para mejorar la calidad de los servicios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8 Rectángulo redondeado"/>
          <p:cNvSpPr/>
          <p:nvPr/>
        </p:nvSpPr>
        <p:spPr>
          <a:xfrm>
            <a:off x="685800" y="13716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177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CANALES DE RECEPC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CuadroTexto 17"/>
          <p:cNvSpPr/>
          <p:nvPr/>
        </p:nvSpPr>
        <p:spPr>
          <a:xfrm>
            <a:off x="2141640" y="2651040"/>
            <a:ext cx="273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afip.gob.ar/reclam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CuadroTexto 20"/>
          <p:cNvSpPr/>
          <p:nvPr/>
        </p:nvSpPr>
        <p:spPr>
          <a:xfrm>
            <a:off x="5915160" y="2666880"/>
            <a:ext cx="1780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810 999 234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ción 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uadroTexto 21"/>
          <p:cNvSpPr/>
          <p:nvPr/>
        </p:nvSpPr>
        <p:spPr>
          <a:xfrm>
            <a:off x="3962520" y="3962520"/>
            <a:ext cx="216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todas las dependencias del paí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30 Grupo"/>
          <p:cNvGrpSpPr/>
          <p:nvPr/>
        </p:nvGrpSpPr>
        <p:grpSpPr>
          <a:xfrm>
            <a:off x="3809880" y="3429000"/>
            <a:ext cx="2449800" cy="431640"/>
            <a:chOff x="3809880" y="3429000"/>
            <a:chExt cx="2449800" cy="431640"/>
          </a:xfrm>
        </p:grpSpPr>
        <p:grpSp>
          <p:nvGrpSpPr>
            <p:cNvPr id="183" name="36 Rectángulo redondeado"/>
            <p:cNvGrpSpPr/>
            <p:nvPr/>
          </p:nvGrpSpPr>
          <p:grpSpPr>
            <a:xfrm>
              <a:off x="3809880" y="3429000"/>
              <a:ext cx="2449800" cy="431640"/>
              <a:chOff x="3809880" y="3429000"/>
              <a:chExt cx="2449800" cy="431640"/>
            </a:xfrm>
          </p:grpSpPr>
          <p:pic>
            <p:nvPicPr>
              <p:cNvPr id="184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9880" y="3429000"/>
                <a:ext cx="24498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3854160" y="3455280"/>
                <a:ext cx="23648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37 CuadroTexto"/>
            <p:cNvSpPr/>
            <p:nvPr/>
          </p:nvSpPr>
          <p:spPr>
            <a:xfrm>
              <a:off x="3965400" y="3473280"/>
              <a:ext cx="21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Calibri"/>
                </a:rPr>
                <a:t>PRESE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30 Grupo"/>
          <p:cNvGrpSpPr/>
          <p:nvPr/>
        </p:nvGrpSpPr>
        <p:grpSpPr>
          <a:xfrm>
            <a:off x="2286000" y="2286000"/>
            <a:ext cx="1962000" cy="345960"/>
            <a:chOff x="2286000" y="2286000"/>
            <a:chExt cx="1962000" cy="345960"/>
          </a:xfrm>
        </p:grpSpPr>
        <p:grpSp>
          <p:nvGrpSpPr>
            <p:cNvPr id="188" name="36 Rectángulo redondeado"/>
            <p:cNvGrpSpPr/>
            <p:nvPr/>
          </p:nvGrpSpPr>
          <p:grpSpPr>
            <a:xfrm>
              <a:off x="2286000" y="2286000"/>
              <a:ext cx="1962000" cy="345960"/>
              <a:chOff x="2286000" y="2286000"/>
              <a:chExt cx="1962000" cy="345960"/>
            </a:xfrm>
          </p:grpSpPr>
          <p:pic>
            <p:nvPicPr>
              <p:cNvPr id="189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0" y="2286000"/>
                <a:ext cx="1962000" cy="3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2321280" y="2306880"/>
                <a:ext cx="1893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1" name="37 CuadroTexto"/>
            <p:cNvSpPr/>
            <p:nvPr/>
          </p:nvSpPr>
          <p:spPr>
            <a:xfrm>
              <a:off x="2411280" y="232092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VÍA W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30 Grupo"/>
          <p:cNvGrpSpPr/>
          <p:nvPr/>
        </p:nvGrpSpPr>
        <p:grpSpPr>
          <a:xfrm>
            <a:off x="5810400" y="2209680"/>
            <a:ext cx="1962000" cy="346320"/>
            <a:chOff x="5810400" y="2209680"/>
            <a:chExt cx="1962000" cy="346320"/>
          </a:xfrm>
        </p:grpSpPr>
        <p:grpSp>
          <p:nvGrpSpPr>
            <p:cNvPr id="193" name="36 Rectángulo redondeado"/>
            <p:cNvGrpSpPr/>
            <p:nvPr/>
          </p:nvGrpSpPr>
          <p:grpSpPr>
            <a:xfrm>
              <a:off x="5810400" y="2209680"/>
              <a:ext cx="1962000" cy="346320"/>
              <a:chOff x="5810400" y="2209680"/>
              <a:chExt cx="1962000" cy="346320"/>
            </a:xfrm>
          </p:grpSpPr>
          <p:pic>
            <p:nvPicPr>
              <p:cNvPr id="194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5810400" y="2209680"/>
                <a:ext cx="19620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5845680" y="2230560"/>
                <a:ext cx="18939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37 CuadroTexto"/>
            <p:cNvSpPr/>
            <p:nvPr/>
          </p:nvSpPr>
          <p:spPr>
            <a:xfrm>
              <a:off x="5935680" y="224460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ELEFÓN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762120" y="4800600"/>
          <a:ext cx="2514600" cy="10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800600"/>
                    <a:ext cx="2514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30481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1371600" y="217008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4952880" y="2131920"/>
            <a:ext cx="692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20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ROCEDIMIENTO DE CAR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876640" cy="3800520"/>
          </a:xfrm>
          <a:prstGeom prst="rect">
            <a:avLst/>
          </a:prstGeom>
          <a:ln w="0">
            <a:noFill/>
          </a:ln>
        </p:spPr>
      </p:pic>
      <p:sp>
        <p:nvSpPr>
          <p:cNvPr id="208" name="Oval 9"/>
          <p:cNvSpPr/>
          <p:nvPr/>
        </p:nvSpPr>
        <p:spPr>
          <a:xfrm>
            <a:off x="1981080" y="2057400"/>
            <a:ext cx="297180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1981080" y="3200400"/>
            <a:ext cx="297180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5T17:07:40Z</dcterms:modified>
  <cp:revision>296</cp:revision>
  <dc:subject/>
  <dc:title>Diapositiva 1</dc:title>
</cp:coreProperties>
</file>