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386D-F3D6-4CB3-BB03-76DB13456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FD53-3915-4FB5-AC0C-03FC835C5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3007-2BE2-4712-B867-A1D60B324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0C68-FAD8-485C-8BE0-D451C907C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40DB9-F191-4377-A01B-8664956E7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F0A10-7A8E-421C-A5A8-01D07400F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0D230-A4E9-475B-895B-5C985C043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A4F7B-F1EC-41F8-8C84-BEDE30241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AD097-3FB5-4F0E-A001-8362BD7DC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BCB65-B2EF-4C26-8718-584B344CE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D6B53-1BC7-4169-BB88-4ED6322DA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728D-311B-4B49-8AFA-296E2DB6F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306E7-ACC0-4A0F-B417-0B7606D8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89877-C445-4799-92E3-9B020699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EB212-1ECA-4B8C-AA65-3B2B780F7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FE11D-B04F-4047-AEB7-5715CF183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3D7C8-CAE7-4349-A444-F6BDEFC38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F3FA-0704-4AE3-B69B-4B4C685DA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97FF-65C3-4D23-870E-04EC6723A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3058-C0BE-4109-A242-F03DE11EF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6640-638B-4751-9898-A6FF11ADD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D102-9D8E-44C0-A8E6-C3E574FE0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440E-7358-4340-8D4F-FE75DA876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03F4-5A5C-4269-A418-67FF5BC86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D6DF1-FDFA-4CFF-92EF-CCAC827E82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6 Imagen" descr="fondo-negro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8 Rectángulo"/>
          <p:cNvSpPr/>
          <p:nvPr/>
        </p:nvSpPr>
        <p:spPr>
          <a:xfrm>
            <a:off x="0" y="6643800"/>
            <a:ext cx="9144000" cy="712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9 Rectángulo"/>
          <p:cNvSpPr/>
          <p:nvPr/>
        </p:nvSpPr>
        <p:spPr>
          <a:xfrm>
            <a:off x="0" y="109440"/>
            <a:ext cx="9144000" cy="7164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18 Grupo" descr=""/>
          <p:cNvPicPr/>
          <p:nvPr/>
        </p:nvPicPr>
        <p:blipFill>
          <a:blip r:embed="rId3"/>
          <a:stretch/>
        </p:blipFill>
        <p:spPr>
          <a:xfrm>
            <a:off x="19080" y="249120"/>
            <a:ext cx="9118440" cy="6407280"/>
          </a:xfrm>
          <a:prstGeom prst="rect">
            <a:avLst/>
          </a:prstGeom>
          <a:ln w="0">
            <a:noFill/>
          </a:ln>
        </p:spPr>
      </p:pic>
      <p:pic>
        <p:nvPicPr>
          <p:cNvPr id="9" name="17 Imagen" descr="logo AFIP TRANSP.png"/>
          <p:cNvPicPr/>
          <p:nvPr/>
        </p:nvPicPr>
        <p:blipFill>
          <a:blip r:embed="rId4"/>
          <a:stretch/>
        </p:blipFill>
        <p:spPr>
          <a:xfrm>
            <a:off x="496800" y="665280"/>
            <a:ext cx="1428840" cy="417240"/>
          </a:xfrm>
          <a:prstGeom prst="rect">
            <a:avLst/>
          </a:prstGeom>
          <a:ln w="0">
            <a:noFill/>
          </a:ln>
        </p:spPr>
      </p:pic>
      <p:sp>
        <p:nvSpPr>
          <p:cNvPr id="10" name="16 Rectángulo"/>
          <p:cNvSpPr/>
          <p:nvPr/>
        </p:nvSpPr>
        <p:spPr>
          <a:xfrm>
            <a:off x="2268360" y="606600"/>
            <a:ext cx="571680" cy="428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18 Rectángulo"/>
          <p:cNvSpPr/>
          <p:nvPr/>
        </p:nvSpPr>
        <p:spPr>
          <a:xfrm>
            <a:off x="2911320" y="606600"/>
            <a:ext cx="5643720" cy="428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6 Imagen" descr="fondo-negro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8 Rectángulo"/>
          <p:cNvSpPr/>
          <p:nvPr/>
        </p:nvSpPr>
        <p:spPr>
          <a:xfrm>
            <a:off x="0" y="6643800"/>
            <a:ext cx="9144000" cy="712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9 Rectángulo"/>
          <p:cNvSpPr/>
          <p:nvPr/>
        </p:nvSpPr>
        <p:spPr>
          <a:xfrm>
            <a:off x="0" y="109440"/>
            <a:ext cx="9144000" cy="7164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18 Grupo" descr=""/>
          <p:cNvPicPr/>
          <p:nvPr/>
        </p:nvPicPr>
        <p:blipFill>
          <a:blip r:embed="rId3"/>
          <a:stretch/>
        </p:blipFill>
        <p:spPr>
          <a:xfrm>
            <a:off x="19080" y="249120"/>
            <a:ext cx="9118440" cy="6407280"/>
          </a:xfrm>
          <a:prstGeom prst="rect">
            <a:avLst/>
          </a:prstGeom>
          <a:ln w="0">
            <a:noFill/>
          </a:ln>
        </p:spPr>
      </p:pic>
      <p:pic>
        <p:nvPicPr>
          <p:cNvPr id="52" name="17 Imagen" descr="logo AFIP TRANSP.png"/>
          <p:cNvPicPr/>
          <p:nvPr/>
        </p:nvPicPr>
        <p:blipFill>
          <a:blip r:embed="rId4"/>
          <a:stretch/>
        </p:blipFill>
        <p:spPr>
          <a:xfrm>
            <a:off x="496800" y="665280"/>
            <a:ext cx="1428840" cy="417240"/>
          </a:xfrm>
          <a:prstGeom prst="rect">
            <a:avLst/>
          </a:prstGeom>
          <a:ln w="0">
            <a:noFill/>
          </a:ln>
        </p:spPr>
      </p:pic>
      <p:sp>
        <p:nvSpPr>
          <p:cNvPr id="53" name="16 Rectángulo"/>
          <p:cNvSpPr/>
          <p:nvPr/>
        </p:nvSpPr>
        <p:spPr>
          <a:xfrm>
            <a:off x="2268360" y="606600"/>
            <a:ext cx="571680" cy="428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18 Rectángulo"/>
          <p:cNvSpPr/>
          <p:nvPr/>
        </p:nvSpPr>
        <p:spPr>
          <a:xfrm>
            <a:off x="2911320" y="606600"/>
            <a:ext cx="5643720" cy="428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18 Grupo" descr=""/>
          <p:cNvPicPr/>
          <p:nvPr/>
        </p:nvPicPr>
        <p:blipFill>
          <a:blip r:embed="rId5"/>
          <a:stretch/>
        </p:blipFill>
        <p:spPr>
          <a:xfrm>
            <a:off x="19080" y="249120"/>
            <a:ext cx="9118440" cy="6407280"/>
          </a:xfrm>
          <a:prstGeom prst="rect">
            <a:avLst/>
          </a:prstGeom>
          <a:ln w="0">
            <a:noFill/>
          </a:ln>
        </p:spPr>
      </p:pic>
      <p:pic>
        <p:nvPicPr>
          <p:cNvPr id="56" name="22 Imagen" descr="Boton-redondo-griss.png"/>
          <p:cNvPicPr/>
          <p:nvPr/>
        </p:nvPicPr>
        <p:blipFill>
          <a:blip r:embed="rId6"/>
          <a:stretch/>
        </p:blipFill>
        <p:spPr>
          <a:xfrm>
            <a:off x="8429760" y="5929200"/>
            <a:ext cx="428400" cy="428760"/>
          </a:xfrm>
          <a:prstGeom prst="rect">
            <a:avLst/>
          </a:prstGeom>
          <a:ln w="0">
            <a:noFill/>
          </a:ln>
        </p:spPr>
      </p:pic>
      <p:pic>
        <p:nvPicPr>
          <p:cNvPr id="57" name="23 Imagen" descr="logo AFIP TRANSP.png"/>
          <p:cNvPicPr/>
          <p:nvPr/>
        </p:nvPicPr>
        <p:blipFill>
          <a:blip r:embed="rId7"/>
          <a:stretch/>
        </p:blipFill>
        <p:spPr>
          <a:xfrm>
            <a:off x="369720" y="561960"/>
            <a:ext cx="1428840" cy="4190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39CF4-4E0D-4F39-9026-9ADDC274D6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4 Imagen" descr="tapa-jpg-plantilla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23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38 Rectángulo redondeado"/>
          <p:cNvSpPr/>
          <p:nvPr/>
        </p:nvSpPr>
        <p:spPr>
          <a:xfrm>
            <a:off x="611280" y="1413000"/>
            <a:ext cx="7572240" cy="460836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Text Box 13"/>
          <p:cNvSpPr/>
          <p:nvPr/>
        </p:nvSpPr>
        <p:spPr>
          <a:xfrm>
            <a:off x="2771640" y="692280"/>
            <a:ext cx="57740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CENTRO DE INFORMACIÓN TELEFÓNICA (CIT) - ESTRUCTU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1" name="30 Grupo"/>
          <p:cNvGrpSpPr/>
          <p:nvPr/>
        </p:nvGrpSpPr>
        <p:grpSpPr>
          <a:xfrm>
            <a:off x="1116000" y="2133720"/>
            <a:ext cx="6335640" cy="503280"/>
            <a:chOff x="1116000" y="2133720"/>
            <a:chExt cx="6335640" cy="503280"/>
          </a:xfrm>
        </p:grpSpPr>
        <p:grpSp>
          <p:nvGrpSpPr>
            <p:cNvPr id="302" name="36 Rectángulo redondeado"/>
            <p:cNvGrpSpPr/>
            <p:nvPr/>
          </p:nvGrpSpPr>
          <p:grpSpPr>
            <a:xfrm>
              <a:off x="1116000" y="2133720"/>
              <a:ext cx="6335640" cy="503280"/>
              <a:chOff x="1116000" y="2133720"/>
              <a:chExt cx="6335640" cy="503280"/>
            </a:xfrm>
          </p:grpSpPr>
          <p:pic>
            <p:nvPicPr>
              <p:cNvPr id="303" name="36 Rectángulo redondeado" descr=""/>
              <p:cNvPicPr/>
              <p:nvPr/>
            </p:nvPicPr>
            <p:blipFill>
              <a:blip r:embed="rId1"/>
              <a:stretch/>
            </p:blipFill>
            <p:spPr>
              <a:xfrm>
                <a:off x="1116000" y="2133720"/>
                <a:ext cx="6335640" cy="50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4" name=""/>
              <p:cNvSpPr/>
              <p:nvPr/>
            </p:nvSpPr>
            <p:spPr>
              <a:xfrm>
                <a:off x="1230840" y="2164320"/>
                <a:ext cx="6115320" cy="43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05" name="37 CuadroTexto"/>
            <p:cNvSpPr/>
            <p:nvPr/>
          </p:nvSpPr>
          <p:spPr>
            <a:xfrm>
              <a:off x="1519200" y="2185920"/>
              <a:ext cx="559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Calibri"/>
                </a:rPr>
                <a:t>TEMÁTICA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6" name="15 Grupo"/>
          <p:cNvGrpSpPr/>
          <p:nvPr/>
        </p:nvGrpSpPr>
        <p:grpSpPr>
          <a:xfrm>
            <a:off x="1258920" y="3068640"/>
            <a:ext cx="6680160" cy="642600"/>
            <a:chOff x="1258920" y="3068640"/>
            <a:chExt cx="6680160" cy="642600"/>
          </a:xfrm>
        </p:grpSpPr>
        <p:pic>
          <p:nvPicPr>
            <p:cNvPr id="307" name="9 Imagen" descr="Boton-redondo-griss.png"/>
            <p:cNvPicPr/>
            <p:nvPr/>
          </p:nvPicPr>
          <p:blipFill>
            <a:blip r:embed="rId2"/>
            <a:stretch/>
          </p:blipFill>
          <p:spPr>
            <a:xfrm>
              <a:off x="1258920" y="3102480"/>
              <a:ext cx="285480" cy="29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14 CuadroTexto"/>
            <p:cNvSpPr/>
            <p:nvPr/>
          </p:nvSpPr>
          <p:spPr>
            <a:xfrm>
              <a:off x="1581120" y="3068640"/>
              <a:ext cx="6357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Normativa: entiende sobre normas legales, procedimientos, trámites y cuestiones generales del organismo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9" name="15 Grupo"/>
          <p:cNvGrpSpPr/>
          <p:nvPr/>
        </p:nvGrpSpPr>
        <p:grpSpPr>
          <a:xfrm>
            <a:off x="1258920" y="3860640"/>
            <a:ext cx="6680160" cy="642600"/>
            <a:chOff x="1258920" y="3860640"/>
            <a:chExt cx="6680160" cy="642600"/>
          </a:xfrm>
        </p:grpSpPr>
        <p:pic>
          <p:nvPicPr>
            <p:cNvPr id="310" name="9 Imagen" descr="Boton-redondo-griss.png"/>
            <p:cNvPicPr/>
            <p:nvPr/>
          </p:nvPicPr>
          <p:blipFill>
            <a:blip r:embed="rId3"/>
            <a:stretch/>
          </p:blipFill>
          <p:spPr>
            <a:xfrm>
              <a:off x="1258920" y="3894480"/>
              <a:ext cx="285480" cy="29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14 CuadroTexto"/>
            <p:cNvSpPr/>
            <p:nvPr/>
          </p:nvSpPr>
          <p:spPr>
            <a:xfrm>
              <a:off x="1581120" y="3860640"/>
              <a:ext cx="6357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Aplicativos y sistemas: entiende sobre la instalación y utilización de aplicativos, sistemas, servicios web y la resolución de errores.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2" name="15 Grupo"/>
          <p:cNvGrpSpPr/>
          <p:nvPr/>
        </p:nvGrpSpPr>
        <p:grpSpPr>
          <a:xfrm>
            <a:off x="1258920" y="4653000"/>
            <a:ext cx="6680160" cy="916920"/>
            <a:chOff x="1258920" y="4653000"/>
            <a:chExt cx="6680160" cy="916920"/>
          </a:xfrm>
        </p:grpSpPr>
        <p:pic>
          <p:nvPicPr>
            <p:cNvPr id="313" name="9 Imagen" descr="Boton-redondo-griss.png"/>
            <p:cNvPicPr/>
            <p:nvPr/>
          </p:nvPicPr>
          <p:blipFill>
            <a:blip r:embed="rId4"/>
            <a:stretch/>
          </p:blipFill>
          <p:spPr>
            <a:xfrm>
              <a:off x="1258920" y="4686840"/>
              <a:ext cx="285480" cy="29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14 CuadroTexto"/>
            <p:cNvSpPr/>
            <p:nvPr/>
          </p:nvSpPr>
          <p:spPr>
            <a:xfrm>
              <a:off x="1581120" y="4653000"/>
              <a:ext cx="6357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Calibri"/>
                </a:rPr>
                <a:t>Denuncias: conformado por un grupo de agentes especializados en la recepción de denuncias de índole impositiva, previsional y aduanera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23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38 Rectángulo redondeado"/>
          <p:cNvSpPr/>
          <p:nvPr/>
        </p:nvSpPr>
        <p:spPr>
          <a:xfrm>
            <a:off x="611280" y="1413000"/>
            <a:ext cx="7572240" cy="460836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Text Box 13"/>
          <p:cNvSpPr/>
          <p:nvPr/>
        </p:nvSpPr>
        <p:spPr>
          <a:xfrm>
            <a:off x="2771640" y="692280"/>
            <a:ext cx="572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CENTRO DE INFORMACIÓN TELEFÓNICA (CIT) - ESTRUCTU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8" name="30 Grupo"/>
          <p:cNvGrpSpPr/>
          <p:nvPr/>
        </p:nvGrpSpPr>
        <p:grpSpPr>
          <a:xfrm>
            <a:off x="1116000" y="1844640"/>
            <a:ext cx="6335640" cy="432000"/>
            <a:chOff x="1116000" y="1844640"/>
            <a:chExt cx="6335640" cy="432000"/>
          </a:xfrm>
        </p:grpSpPr>
        <p:grpSp>
          <p:nvGrpSpPr>
            <p:cNvPr id="319" name="36 Rectángulo redondeado"/>
            <p:cNvGrpSpPr/>
            <p:nvPr/>
          </p:nvGrpSpPr>
          <p:grpSpPr>
            <a:xfrm>
              <a:off x="1116000" y="1844640"/>
              <a:ext cx="6335640" cy="432000"/>
              <a:chOff x="1116000" y="1844640"/>
              <a:chExt cx="6335640" cy="432000"/>
            </a:xfrm>
          </p:grpSpPr>
          <p:pic>
            <p:nvPicPr>
              <p:cNvPr id="320" name="36 Rectángulo redondeado" descr=""/>
              <p:cNvPicPr/>
              <p:nvPr/>
            </p:nvPicPr>
            <p:blipFill>
              <a:blip r:embed="rId1"/>
              <a:stretch/>
            </p:blipFill>
            <p:spPr>
              <a:xfrm>
                <a:off x="1116000" y="1844640"/>
                <a:ext cx="633564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1" name=""/>
              <p:cNvSpPr/>
              <p:nvPr/>
            </p:nvSpPr>
            <p:spPr>
              <a:xfrm>
                <a:off x="1230840" y="1870920"/>
                <a:ext cx="6115320" cy="37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22" name="37 CuadroTexto"/>
            <p:cNvSpPr/>
            <p:nvPr/>
          </p:nvSpPr>
          <p:spPr>
            <a:xfrm>
              <a:off x="1519200" y="1888920"/>
              <a:ext cx="559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Calibri"/>
                </a:rPr>
                <a:t>GRUPO DE APOYO/CONTROL DE CALIDA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3" name="15 Grupo"/>
          <p:cNvGrpSpPr/>
          <p:nvPr/>
        </p:nvGrpSpPr>
        <p:grpSpPr>
          <a:xfrm>
            <a:off x="1042920" y="2852640"/>
            <a:ext cx="6842160" cy="2288520"/>
            <a:chOff x="1042920" y="2852640"/>
            <a:chExt cx="6842160" cy="2288520"/>
          </a:xfrm>
        </p:grpSpPr>
        <p:pic>
          <p:nvPicPr>
            <p:cNvPr id="324" name="9 Imagen" descr="Boton-redondo-griss.png"/>
            <p:cNvPicPr/>
            <p:nvPr/>
          </p:nvPicPr>
          <p:blipFill>
            <a:blip r:embed="rId2"/>
            <a:stretch/>
          </p:blipFill>
          <p:spPr>
            <a:xfrm>
              <a:off x="1042920" y="2886480"/>
              <a:ext cx="292680" cy="29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14 CuadroTexto"/>
            <p:cNvSpPr/>
            <p:nvPr/>
          </p:nvSpPr>
          <p:spPr>
            <a:xfrm>
              <a:off x="1373040" y="2852640"/>
              <a:ext cx="651204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Existe un equipo de trabajo destinado a asistir en las tareas correspondientes al CIT.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Brindando capacitaciones,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Realizando monitoreos del servicio brindado por los operadores 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Generando informes estadísticos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23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38 Rectángulo redondeado"/>
          <p:cNvSpPr/>
          <p:nvPr/>
        </p:nvSpPr>
        <p:spPr>
          <a:xfrm>
            <a:off x="611280" y="1413000"/>
            <a:ext cx="7572240" cy="460836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Text Box 13"/>
          <p:cNvSpPr/>
          <p:nvPr/>
        </p:nvSpPr>
        <p:spPr>
          <a:xfrm>
            <a:off x="2843280" y="692280"/>
            <a:ext cx="55864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CENTRO DE INFORMACIÓN TELEFÓNICA (CIT) - ESTRUCTU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9" name="30 Grupo"/>
          <p:cNvGrpSpPr/>
          <p:nvPr/>
        </p:nvGrpSpPr>
        <p:grpSpPr>
          <a:xfrm>
            <a:off x="1116000" y="1844640"/>
            <a:ext cx="6335640" cy="432000"/>
            <a:chOff x="1116000" y="1844640"/>
            <a:chExt cx="6335640" cy="432000"/>
          </a:xfrm>
        </p:grpSpPr>
        <p:grpSp>
          <p:nvGrpSpPr>
            <p:cNvPr id="330" name="36 Rectángulo redondeado"/>
            <p:cNvGrpSpPr/>
            <p:nvPr/>
          </p:nvGrpSpPr>
          <p:grpSpPr>
            <a:xfrm>
              <a:off x="1116000" y="1844640"/>
              <a:ext cx="6335640" cy="432000"/>
              <a:chOff x="1116000" y="1844640"/>
              <a:chExt cx="6335640" cy="432000"/>
            </a:xfrm>
          </p:grpSpPr>
          <p:pic>
            <p:nvPicPr>
              <p:cNvPr id="331" name="36 Rectángulo redondeado" descr=""/>
              <p:cNvPicPr/>
              <p:nvPr/>
            </p:nvPicPr>
            <p:blipFill>
              <a:blip r:embed="rId1"/>
              <a:stretch/>
            </p:blipFill>
            <p:spPr>
              <a:xfrm>
                <a:off x="1116000" y="1844640"/>
                <a:ext cx="633564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2" name=""/>
              <p:cNvSpPr/>
              <p:nvPr/>
            </p:nvSpPr>
            <p:spPr>
              <a:xfrm>
                <a:off x="1230840" y="1870920"/>
                <a:ext cx="6115320" cy="37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3" name="37 CuadroTexto"/>
            <p:cNvSpPr/>
            <p:nvPr/>
          </p:nvSpPr>
          <p:spPr>
            <a:xfrm>
              <a:off x="1519200" y="1888920"/>
              <a:ext cx="559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Calibri"/>
                </a:rPr>
                <a:t>CAPITAL HUMAN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4" name="15 Grupo"/>
          <p:cNvGrpSpPr/>
          <p:nvPr/>
        </p:nvGrpSpPr>
        <p:grpSpPr>
          <a:xfrm>
            <a:off x="1116000" y="2421000"/>
            <a:ext cx="6680160" cy="642600"/>
            <a:chOff x="1116000" y="2421000"/>
            <a:chExt cx="6680160" cy="642600"/>
          </a:xfrm>
        </p:grpSpPr>
        <p:pic>
          <p:nvPicPr>
            <p:cNvPr id="335" name="9 Imagen" descr="Boton-redondo-griss.png"/>
            <p:cNvPicPr/>
            <p:nvPr/>
          </p:nvPicPr>
          <p:blipFill>
            <a:blip r:embed="rId2"/>
            <a:stretch/>
          </p:blipFill>
          <p:spPr>
            <a:xfrm>
              <a:off x="1116000" y="2454840"/>
              <a:ext cx="285480" cy="29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14 CuadroTexto"/>
            <p:cNvSpPr/>
            <p:nvPr/>
          </p:nvSpPr>
          <p:spPr>
            <a:xfrm>
              <a:off x="1438200" y="2421000"/>
              <a:ext cx="6357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El personal es altamente capacitado y posee opciones de autodesarrollo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7" name="15 Grupo"/>
          <p:cNvGrpSpPr/>
          <p:nvPr/>
        </p:nvGrpSpPr>
        <p:grpSpPr>
          <a:xfrm>
            <a:off x="1116000" y="3141720"/>
            <a:ext cx="6680160" cy="642600"/>
            <a:chOff x="1116000" y="3141720"/>
            <a:chExt cx="6680160" cy="642600"/>
          </a:xfrm>
        </p:grpSpPr>
        <p:pic>
          <p:nvPicPr>
            <p:cNvPr id="338" name="9 Imagen" descr="Boton-redondo-griss.png"/>
            <p:cNvPicPr/>
            <p:nvPr/>
          </p:nvPicPr>
          <p:blipFill>
            <a:blip r:embed="rId3"/>
            <a:stretch/>
          </p:blipFill>
          <p:spPr>
            <a:xfrm>
              <a:off x="1116000" y="3175560"/>
              <a:ext cx="285480" cy="29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14 CuadroTexto"/>
            <p:cNvSpPr/>
            <p:nvPr/>
          </p:nvSpPr>
          <p:spPr>
            <a:xfrm>
              <a:off x="1438200" y="3141720"/>
              <a:ext cx="6357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Reasignación interna de personal, rotación de tareas, integración en proyectos e incentivación del trabajo en equipo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15 Grupo"/>
          <p:cNvGrpSpPr/>
          <p:nvPr/>
        </p:nvGrpSpPr>
        <p:grpSpPr>
          <a:xfrm>
            <a:off x="1116000" y="4724280"/>
            <a:ext cx="6680160" cy="642600"/>
            <a:chOff x="1116000" y="4724280"/>
            <a:chExt cx="6680160" cy="642600"/>
          </a:xfrm>
        </p:grpSpPr>
        <p:pic>
          <p:nvPicPr>
            <p:cNvPr id="341" name="9 Imagen" descr="Boton-redondo-griss.png"/>
            <p:cNvPicPr/>
            <p:nvPr/>
          </p:nvPicPr>
          <p:blipFill>
            <a:blip r:embed="rId4"/>
            <a:stretch/>
          </p:blipFill>
          <p:spPr>
            <a:xfrm>
              <a:off x="1116000" y="4758120"/>
              <a:ext cx="285480" cy="29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14 CuadroTexto"/>
            <p:cNvSpPr/>
            <p:nvPr/>
          </p:nvSpPr>
          <p:spPr>
            <a:xfrm>
              <a:off x="1438200" y="4724280"/>
              <a:ext cx="6357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Calibri"/>
                </a:rPr>
                <a:t>En el área se fomenta un clima de trabajo favorable, propiciando en todo momento el trabajo en equipo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3" name="15 Grupo"/>
          <p:cNvGrpSpPr/>
          <p:nvPr/>
        </p:nvGrpSpPr>
        <p:grpSpPr>
          <a:xfrm>
            <a:off x="1116000" y="3933720"/>
            <a:ext cx="6680160" cy="642600"/>
            <a:chOff x="1116000" y="3933720"/>
            <a:chExt cx="6680160" cy="642600"/>
          </a:xfrm>
        </p:grpSpPr>
        <p:pic>
          <p:nvPicPr>
            <p:cNvPr id="344" name="9 Imagen" descr="Boton-redondo-griss.png"/>
            <p:cNvPicPr/>
            <p:nvPr/>
          </p:nvPicPr>
          <p:blipFill>
            <a:blip r:embed="rId5"/>
            <a:stretch/>
          </p:blipFill>
          <p:spPr>
            <a:xfrm>
              <a:off x="1116000" y="3967560"/>
              <a:ext cx="285480" cy="29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14 CuadroTexto"/>
            <p:cNvSpPr/>
            <p:nvPr/>
          </p:nvSpPr>
          <p:spPr>
            <a:xfrm>
              <a:off x="1438200" y="3933720"/>
              <a:ext cx="6357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Calibri"/>
                </a:rPr>
                <a:t>Se identifica el perfil y potencial del personal para su  crecimiento y desarrollo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23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38 Rectángulo redondeado"/>
          <p:cNvSpPr/>
          <p:nvPr/>
        </p:nvSpPr>
        <p:spPr>
          <a:xfrm>
            <a:off x="611280" y="1413000"/>
            <a:ext cx="7572240" cy="482436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Text Box 13"/>
          <p:cNvSpPr/>
          <p:nvPr/>
        </p:nvSpPr>
        <p:spPr>
          <a:xfrm>
            <a:off x="2843280" y="692280"/>
            <a:ext cx="55864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CENTRO DE INFORMACIÓN TELEFÓNICA (CIT) - ESTRUCTU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9" name="30 Grupo"/>
          <p:cNvGrpSpPr/>
          <p:nvPr/>
        </p:nvGrpSpPr>
        <p:grpSpPr>
          <a:xfrm>
            <a:off x="1116000" y="1700280"/>
            <a:ext cx="6335640" cy="431640"/>
            <a:chOff x="1116000" y="1700280"/>
            <a:chExt cx="6335640" cy="431640"/>
          </a:xfrm>
        </p:grpSpPr>
        <p:grpSp>
          <p:nvGrpSpPr>
            <p:cNvPr id="350" name="36 Rectángulo redondeado"/>
            <p:cNvGrpSpPr/>
            <p:nvPr/>
          </p:nvGrpSpPr>
          <p:grpSpPr>
            <a:xfrm>
              <a:off x="1116000" y="1700280"/>
              <a:ext cx="6335640" cy="431640"/>
              <a:chOff x="1116000" y="1700280"/>
              <a:chExt cx="6335640" cy="431640"/>
            </a:xfrm>
          </p:grpSpPr>
          <p:pic>
            <p:nvPicPr>
              <p:cNvPr id="351" name="36 Rectángulo redondeado" descr=""/>
              <p:cNvPicPr/>
              <p:nvPr/>
            </p:nvPicPr>
            <p:blipFill>
              <a:blip r:embed="rId1"/>
              <a:stretch/>
            </p:blipFill>
            <p:spPr>
              <a:xfrm>
                <a:off x="1116000" y="1700280"/>
                <a:ext cx="633564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2" name=""/>
              <p:cNvSpPr/>
              <p:nvPr/>
            </p:nvSpPr>
            <p:spPr>
              <a:xfrm>
                <a:off x="1230840" y="1726560"/>
                <a:ext cx="6115320" cy="37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3" name="37 CuadroTexto"/>
            <p:cNvSpPr/>
            <p:nvPr/>
          </p:nvSpPr>
          <p:spPr>
            <a:xfrm>
              <a:off x="1519200" y="1744560"/>
              <a:ext cx="559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PROGRAMA DE CAPACITACI</a:t>
              </a:r>
              <a:r>
                <a:rPr b="1" lang="es-AR" sz="1800" spc="-1" strike="noStrike">
                  <a:solidFill>
                    <a:srgbClr val="000000"/>
                  </a:solidFill>
                  <a:latin typeface="Calibri"/>
                </a:rPr>
                <a:t>Ó</a:t>
              </a: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N E INTERCAMBI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4" name="15 Grupo"/>
          <p:cNvGrpSpPr/>
          <p:nvPr/>
        </p:nvGrpSpPr>
        <p:grpSpPr>
          <a:xfrm>
            <a:off x="1042920" y="2421000"/>
            <a:ext cx="6680160" cy="642600"/>
            <a:chOff x="1042920" y="2421000"/>
            <a:chExt cx="6680160" cy="642600"/>
          </a:xfrm>
        </p:grpSpPr>
        <p:pic>
          <p:nvPicPr>
            <p:cNvPr id="355" name="9 Imagen" descr="Boton-redondo-griss.png"/>
            <p:cNvPicPr/>
            <p:nvPr/>
          </p:nvPicPr>
          <p:blipFill>
            <a:blip r:embed="rId2"/>
            <a:stretch/>
          </p:blipFill>
          <p:spPr>
            <a:xfrm>
              <a:off x="1042920" y="2454840"/>
              <a:ext cx="285480" cy="29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14 CuadroTexto"/>
            <p:cNvSpPr/>
            <p:nvPr/>
          </p:nvSpPr>
          <p:spPr>
            <a:xfrm>
              <a:off x="1365120" y="2421000"/>
              <a:ext cx="6357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Se creó a partir de Noviembre de 2012 un Programa de Capacitación e Intercambio con las distintas áreas del Organismo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7" name=""/>
          <p:cNvSpPr/>
          <p:nvPr/>
        </p:nvSpPr>
        <p:spPr>
          <a:xfrm>
            <a:off x="1887480" y="3521160"/>
            <a:ext cx="4413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8" name="15 Grupo"/>
          <p:cNvGrpSpPr/>
          <p:nvPr/>
        </p:nvGrpSpPr>
        <p:grpSpPr>
          <a:xfrm>
            <a:off x="1042920" y="3213000"/>
            <a:ext cx="6680160" cy="3111480"/>
            <a:chOff x="1042920" y="3213000"/>
            <a:chExt cx="6680160" cy="3111480"/>
          </a:xfrm>
        </p:grpSpPr>
        <p:pic>
          <p:nvPicPr>
            <p:cNvPr id="359" name="9 Imagen" descr="Boton-redondo-griss.png"/>
            <p:cNvPicPr/>
            <p:nvPr/>
          </p:nvPicPr>
          <p:blipFill>
            <a:blip r:embed="rId3"/>
            <a:stretch/>
          </p:blipFill>
          <p:spPr>
            <a:xfrm>
              <a:off x="1042920" y="3246840"/>
              <a:ext cx="285480" cy="2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14 CuadroTexto"/>
            <p:cNvSpPr/>
            <p:nvPr/>
          </p:nvSpPr>
          <p:spPr>
            <a:xfrm>
              <a:off x="1365120" y="3213000"/>
              <a:ext cx="6357960" cy="31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Ventajas: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Calibri"/>
                </a:rPr>
                <a:t>Se aprovecha la estructura del CIT para las tareas de monitoreo, capacitación y seguimiento de llamadas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Calibri"/>
                </a:rPr>
                <a:t>Se trabaja en forma coordinada.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Calibri"/>
                </a:rPr>
                <a:t>El Organismo incrementa la atención de las llamadas; mientras que las Áreas capacitan a sus Agentes, para que luego vuelvan a sus puestos con nuevos conocimientos y habilidades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Calibri"/>
                </a:rPr>
                <a:t>Fomenta la rotación del personal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5 Imagen" descr="dorso-jpg-plantilla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0" y="3068640"/>
            <a:ext cx="9144000" cy="16358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Calibri"/>
              </a:rPr>
              <a:t>¡Muchas gracias por su atención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23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38 Rectángulo redondeado"/>
          <p:cNvSpPr/>
          <p:nvPr/>
        </p:nvSpPr>
        <p:spPr>
          <a:xfrm>
            <a:off x="539640" y="1341360"/>
            <a:ext cx="7704360" cy="468000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Rectangle 9"/>
          <p:cNvGrpSpPr/>
          <p:nvPr/>
        </p:nvGrpSpPr>
        <p:grpSpPr>
          <a:xfrm>
            <a:off x="1258920" y="2924280"/>
            <a:ext cx="1584360" cy="1368360"/>
            <a:chOff x="1258920" y="2924280"/>
            <a:chExt cx="1584360" cy="1368360"/>
          </a:xfrm>
        </p:grpSpPr>
        <p:pic>
          <p:nvPicPr>
            <p:cNvPr id="103" name="Rectangle 9" descr=""/>
            <p:cNvPicPr/>
            <p:nvPr/>
          </p:nvPicPr>
          <p:blipFill>
            <a:blip r:embed="rId1"/>
            <a:stretch/>
          </p:blipFill>
          <p:spPr>
            <a:xfrm>
              <a:off x="1258920" y="2924280"/>
              <a:ext cx="15843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1315440" y="3082680"/>
              <a:ext cx="14738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7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Servicios al Contribuyente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5" name="Text Box 13"/>
          <p:cNvSpPr/>
          <p:nvPr/>
        </p:nvSpPr>
        <p:spPr>
          <a:xfrm>
            <a:off x="2484360" y="692280"/>
            <a:ext cx="640872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SUBDIRECCIÓN GENERAL DE SERVICIOS AL CONTRIBUYEN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" name="30 Grupo"/>
          <p:cNvGrpSpPr/>
          <p:nvPr/>
        </p:nvGrpSpPr>
        <p:grpSpPr>
          <a:xfrm>
            <a:off x="3490920" y="1700280"/>
            <a:ext cx="1512720" cy="1008000"/>
            <a:chOff x="3490920" y="1700280"/>
            <a:chExt cx="1512720" cy="1008000"/>
          </a:xfrm>
        </p:grpSpPr>
        <p:grpSp>
          <p:nvGrpSpPr>
            <p:cNvPr id="107" name="36 Rectángulo redondeado"/>
            <p:cNvGrpSpPr/>
            <p:nvPr/>
          </p:nvGrpSpPr>
          <p:grpSpPr>
            <a:xfrm>
              <a:off x="3490920" y="1700280"/>
              <a:ext cx="1512720" cy="1008000"/>
              <a:chOff x="3490920" y="1700280"/>
              <a:chExt cx="1512720" cy="1008000"/>
            </a:xfrm>
          </p:grpSpPr>
          <p:pic>
            <p:nvPicPr>
              <p:cNvPr id="108" name="36 Rectángulo redondeado" descr=""/>
              <p:cNvPicPr/>
              <p:nvPr/>
            </p:nvPicPr>
            <p:blipFill>
              <a:blip r:embed="rId2"/>
              <a:stretch/>
            </p:blipFill>
            <p:spPr>
              <a:xfrm>
                <a:off x="3490920" y="1700280"/>
                <a:ext cx="1512720" cy="100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"/>
              <p:cNvSpPr/>
              <p:nvPr/>
            </p:nvSpPr>
            <p:spPr>
              <a:xfrm>
                <a:off x="3518280" y="1761480"/>
                <a:ext cx="1460160" cy="87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0" name="37 CuadroTexto"/>
            <p:cNvSpPr/>
            <p:nvPr/>
          </p:nvSpPr>
          <p:spPr>
            <a:xfrm>
              <a:off x="3587760" y="1847880"/>
              <a:ext cx="133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buClr>
                  <a:srgbClr val="e46c0a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2771640" y="3530520"/>
            <a:ext cx="792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/>
          <p:nvPr/>
        </p:nvSpPr>
        <p:spPr>
          <a:xfrm>
            <a:off x="3059280" y="2133720"/>
            <a:ext cx="1440" cy="28368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/>
          <p:nvPr/>
        </p:nvSpPr>
        <p:spPr>
          <a:xfrm>
            <a:off x="3060720" y="4970520"/>
            <a:ext cx="5032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/>
          <p:nvPr/>
        </p:nvSpPr>
        <p:spPr>
          <a:xfrm>
            <a:off x="3059280" y="2133720"/>
            <a:ext cx="433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/>
          <p:nvPr/>
        </p:nvSpPr>
        <p:spPr>
          <a:xfrm>
            <a:off x="5003640" y="222732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/>
          <p:nvPr/>
        </p:nvSpPr>
        <p:spPr>
          <a:xfrm>
            <a:off x="5796000" y="1874880"/>
            <a:ext cx="0" cy="792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/>
          <p:nvPr/>
        </p:nvSpPr>
        <p:spPr>
          <a:xfrm>
            <a:off x="5796000" y="1874880"/>
            <a:ext cx="4316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/>
          <p:nvPr/>
        </p:nvSpPr>
        <p:spPr>
          <a:xfrm>
            <a:off x="5796000" y="2666880"/>
            <a:ext cx="4316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/>
          <p:nvPr/>
        </p:nvSpPr>
        <p:spPr>
          <a:xfrm>
            <a:off x="4932360" y="47563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/>
          <p:nvPr/>
        </p:nvSpPr>
        <p:spPr>
          <a:xfrm>
            <a:off x="5724360" y="4251240"/>
            <a:ext cx="0" cy="9367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/>
          <p:nvPr/>
        </p:nvSpPr>
        <p:spPr>
          <a:xfrm>
            <a:off x="5724360" y="4251240"/>
            <a:ext cx="432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/>
          <p:nvPr/>
        </p:nvSpPr>
        <p:spPr>
          <a:xfrm>
            <a:off x="5724360" y="5187960"/>
            <a:ext cx="432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/>
          <p:nvPr/>
        </p:nvSpPr>
        <p:spPr>
          <a:xfrm>
            <a:off x="1116000" y="5732640"/>
            <a:ext cx="6769080" cy="14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BDIRECCIÓN GENERAL                          DEPARTAMENTO                                                    DIVISIÓ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4" name="30 Grupo"/>
          <p:cNvGrpSpPr/>
          <p:nvPr/>
        </p:nvGrpSpPr>
        <p:grpSpPr>
          <a:xfrm>
            <a:off x="3492360" y="2997360"/>
            <a:ext cx="1513080" cy="1008000"/>
            <a:chOff x="3492360" y="2997360"/>
            <a:chExt cx="1513080" cy="1008000"/>
          </a:xfrm>
        </p:grpSpPr>
        <p:grpSp>
          <p:nvGrpSpPr>
            <p:cNvPr id="125" name="36 Rectángulo redondeado"/>
            <p:cNvGrpSpPr/>
            <p:nvPr/>
          </p:nvGrpSpPr>
          <p:grpSpPr>
            <a:xfrm>
              <a:off x="3492360" y="2997360"/>
              <a:ext cx="1513080" cy="1008000"/>
              <a:chOff x="3492360" y="2997360"/>
              <a:chExt cx="1513080" cy="1008000"/>
            </a:xfrm>
          </p:grpSpPr>
          <p:pic>
            <p:nvPicPr>
              <p:cNvPr id="126" name="36 Rectángulo redondeado" descr=""/>
              <p:cNvPicPr/>
              <p:nvPr/>
            </p:nvPicPr>
            <p:blipFill>
              <a:blip r:embed="rId3"/>
              <a:stretch/>
            </p:blipFill>
            <p:spPr>
              <a:xfrm>
                <a:off x="3492360" y="2997360"/>
                <a:ext cx="1513080" cy="100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" name=""/>
              <p:cNvSpPr/>
              <p:nvPr/>
            </p:nvSpPr>
            <p:spPr>
              <a:xfrm>
                <a:off x="3519720" y="3058560"/>
                <a:ext cx="1460520" cy="87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8" name="37 CuadroTexto"/>
            <p:cNvSpPr/>
            <p:nvPr/>
          </p:nvSpPr>
          <p:spPr>
            <a:xfrm>
              <a:off x="3589200" y="3144960"/>
              <a:ext cx="133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buClr>
                  <a:srgbClr val="e46c0a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3592440" y="1916280"/>
            <a:ext cx="12956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" spc="-1" strike="noStrike">
                <a:solidFill>
                  <a:srgbClr val="000000"/>
                </a:solidFill>
                <a:latin typeface="Calibri"/>
              </a:rPr>
              <a:t>Servicios al Ciudadan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>
            <a:off x="3594240" y="3214800"/>
            <a:ext cx="12952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" spc="-1" strike="noStrike">
                <a:solidFill>
                  <a:srgbClr val="000000"/>
                </a:solidFill>
                <a:latin typeface="Calibri"/>
              </a:rPr>
              <a:t>Imagen instituciona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1" name="30 Grupo"/>
          <p:cNvGrpSpPr/>
          <p:nvPr/>
        </p:nvGrpSpPr>
        <p:grpSpPr>
          <a:xfrm>
            <a:off x="3492360" y="4365720"/>
            <a:ext cx="1513080" cy="1008000"/>
            <a:chOff x="3492360" y="4365720"/>
            <a:chExt cx="1513080" cy="1008000"/>
          </a:xfrm>
        </p:grpSpPr>
        <p:grpSp>
          <p:nvGrpSpPr>
            <p:cNvPr id="132" name="36 Rectángulo redondeado"/>
            <p:cNvGrpSpPr/>
            <p:nvPr/>
          </p:nvGrpSpPr>
          <p:grpSpPr>
            <a:xfrm>
              <a:off x="3492360" y="4365720"/>
              <a:ext cx="1513080" cy="1008000"/>
              <a:chOff x="3492360" y="4365720"/>
              <a:chExt cx="1513080" cy="1008000"/>
            </a:xfrm>
          </p:grpSpPr>
          <p:pic>
            <p:nvPicPr>
              <p:cNvPr id="133" name="36 Rectángulo redondeado" descr=""/>
              <p:cNvPicPr/>
              <p:nvPr/>
            </p:nvPicPr>
            <p:blipFill>
              <a:blip r:embed="rId4"/>
              <a:stretch/>
            </p:blipFill>
            <p:spPr>
              <a:xfrm>
                <a:off x="3492360" y="4365720"/>
                <a:ext cx="1513080" cy="100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" name=""/>
              <p:cNvSpPr/>
              <p:nvPr/>
            </p:nvSpPr>
            <p:spPr>
              <a:xfrm>
                <a:off x="3519720" y="4426920"/>
                <a:ext cx="1460520" cy="87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5" name="37 CuadroTexto"/>
            <p:cNvSpPr/>
            <p:nvPr/>
          </p:nvSpPr>
          <p:spPr>
            <a:xfrm>
              <a:off x="3589200" y="4513320"/>
              <a:ext cx="133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buClr>
                  <a:srgbClr val="e46c0a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3594240" y="4583160"/>
            <a:ext cx="12952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" spc="-1" strike="noStrike">
                <a:solidFill>
                  <a:srgbClr val="000000"/>
                </a:solidFill>
                <a:latin typeface="Calibri"/>
              </a:rPr>
              <a:t>Canales de Atenció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7" name="30 Grupo"/>
          <p:cNvGrpSpPr/>
          <p:nvPr/>
        </p:nvGrpSpPr>
        <p:grpSpPr>
          <a:xfrm>
            <a:off x="6156360" y="1413000"/>
            <a:ext cx="1512720" cy="792000"/>
            <a:chOff x="6156360" y="1413000"/>
            <a:chExt cx="1512720" cy="792000"/>
          </a:xfrm>
        </p:grpSpPr>
        <p:grpSp>
          <p:nvGrpSpPr>
            <p:cNvPr id="138" name="36 Rectángulo redondeado"/>
            <p:cNvGrpSpPr/>
            <p:nvPr/>
          </p:nvGrpSpPr>
          <p:grpSpPr>
            <a:xfrm>
              <a:off x="6156360" y="1413000"/>
              <a:ext cx="1512720" cy="792000"/>
              <a:chOff x="6156360" y="1413000"/>
              <a:chExt cx="1512720" cy="792000"/>
            </a:xfrm>
          </p:grpSpPr>
          <p:pic>
            <p:nvPicPr>
              <p:cNvPr id="139" name="36 Rectángulo redondeado" descr=""/>
              <p:cNvPicPr/>
              <p:nvPr/>
            </p:nvPicPr>
            <p:blipFill>
              <a:blip r:embed="rId5"/>
              <a:stretch/>
            </p:blipFill>
            <p:spPr>
              <a:xfrm>
                <a:off x="6156360" y="1413000"/>
                <a:ext cx="151272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" name=""/>
              <p:cNvSpPr/>
              <p:nvPr/>
            </p:nvSpPr>
            <p:spPr>
              <a:xfrm>
                <a:off x="6183720" y="1461240"/>
                <a:ext cx="1460160" cy="68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41" name="37 CuadroTexto"/>
            <p:cNvSpPr/>
            <p:nvPr/>
          </p:nvSpPr>
          <p:spPr>
            <a:xfrm>
              <a:off x="6253200" y="1528560"/>
              <a:ext cx="133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buClr>
                  <a:srgbClr val="e46c0a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6156360" y="1413000"/>
            <a:ext cx="1512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Calibri"/>
              </a:rPr>
              <a:t>Implementación operativa de servicio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3" name="30 Grupo"/>
          <p:cNvGrpSpPr/>
          <p:nvPr/>
        </p:nvGrpSpPr>
        <p:grpSpPr>
          <a:xfrm>
            <a:off x="6156360" y="2276640"/>
            <a:ext cx="1512720" cy="792000"/>
            <a:chOff x="6156360" y="2276640"/>
            <a:chExt cx="1512720" cy="792000"/>
          </a:xfrm>
        </p:grpSpPr>
        <p:grpSp>
          <p:nvGrpSpPr>
            <p:cNvPr id="144" name="36 Rectángulo redondeado"/>
            <p:cNvGrpSpPr/>
            <p:nvPr/>
          </p:nvGrpSpPr>
          <p:grpSpPr>
            <a:xfrm>
              <a:off x="6156360" y="2276640"/>
              <a:ext cx="1512720" cy="792000"/>
              <a:chOff x="6156360" y="2276640"/>
              <a:chExt cx="1512720" cy="792000"/>
            </a:xfrm>
          </p:grpSpPr>
          <p:pic>
            <p:nvPicPr>
              <p:cNvPr id="145" name="36 Rectángulo redondeado" descr=""/>
              <p:cNvPicPr/>
              <p:nvPr/>
            </p:nvPicPr>
            <p:blipFill>
              <a:blip r:embed="rId6"/>
              <a:stretch/>
            </p:blipFill>
            <p:spPr>
              <a:xfrm>
                <a:off x="6156360" y="2276640"/>
                <a:ext cx="151272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"/>
              <p:cNvSpPr/>
              <p:nvPr/>
            </p:nvSpPr>
            <p:spPr>
              <a:xfrm>
                <a:off x="6183720" y="2324880"/>
                <a:ext cx="1460160" cy="68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47" name="37 CuadroTexto"/>
            <p:cNvSpPr/>
            <p:nvPr/>
          </p:nvSpPr>
          <p:spPr>
            <a:xfrm>
              <a:off x="6253200" y="2392200"/>
              <a:ext cx="133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buClr>
                  <a:srgbClr val="e46c0a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156360" y="2276640"/>
            <a:ext cx="1512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Calibri"/>
              </a:rPr>
              <a:t>Programación de Información tributar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9" name="30 Grupo"/>
          <p:cNvGrpSpPr/>
          <p:nvPr/>
        </p:nvGrpSpPr>
        <p:grpSpPr>
          <a:xfrm>
            <a:off x="6154560" y="3789360"/>
            <a:ext cx="1513080" cy="792000"/>
            <a:chOff x="6154560" y="3789360"/>
            <a:chExt cx="1513080" cy="792000"/>
          </a:xfrm>
        </p:grpSpPr>
        <p:grpSp>
          <p:nvGrpSpPr>
            <p:cNvPr id="150" name="36 Rectángulo redondeado"/>
            <p:cNvGrpSpPr/>
            <p:nvPr/>
          </p:nvGrpSpPr>
          <p:grpSpPr>
            <a:xfrm>
              <a:off x="6154560" y="3789360"/>
              <a:ext cx="1513080" cy="792000"/>
              <a:chOff x="6154560" y="3789360"/>
              <a:chExt cx="1513080" cy="792000"/>
            </a:xfrm>
          </p:grpSpPr>
          <p:pic>
            <p:nvPicPr>
              <p:cNvPr id="151" name="36 Rectángulo redondeado" descr=""/>
              <p:cNvPicPr/>
              <p:nvPr/>
            </p:nvPicPr>
            <p:blipFill>
              <a:blip r:embed="rId7"/>
              <a:stretch/>
            </p:blipFill>
            <p:spPr>
              <a:xfrm>
                <a:off x="6154560" y="3789360"/>
                <a:ext cx="151308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" name=""/>
              <p:cNvSpPr/>
              <p:nvPr/>
            </p:nvSpPr>
            <p:spPr>
              <a:xfrm>
                <a:off x="6181920" y="3837600"/>
                <a:ext cx="1460520" cy="68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3" name="37 CuadroTexto"/>
            <p:cNvSpPr/>
            <p:nvPr/>
          </p:nvSpPr>
          <p:spPr>
            <a:xfrm>
              <a:off x="6251400" y="3904920"/>
              <a:ext cx="133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buClr>
                  <a:srgbClr val="e46c0a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6256440" y="3933720"/>
            <a:ext cx="129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Calibri"/>
              </a:rPr>
              <a:t>Atención Telefónic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5" name="30 Grupo"/>
          <p:cNvGrpSpPr/>
          <p:nvPr/>
        </p:nvGrpSpPr>
        <p:grpSpPr>
          <a:xfrm>
            <a:off x="6154560" y="4724280"/>
            <a:ext cx="1513080" cy="792360"/>
            <a:chOff x="6154560" y="4724280"/>
            <a:chExt cx="1513080" cy="792360"/>
          </a:xfrm>
        </p:grpSpPr>
        <p:grpSp>
          <p:nvGrpSpPr>
            <p:cNvPr id="156" name="36 Rectángulo redondeado"/>
            <p:cNvGrpSpPr/>
            <p:nvPr/>
          </p:nvGrpSpPr>
          <p:grpSpPr>
            <a:xfrm>
              <a:off x="6154560" y="4724280"/>
              <a:ext cx="1513080" cy="792360"/>
              <a:chOff x="6154560" y="4724280"/>
              <a:chExt cx="1513080" cy="792360"/>
            </a:xfrm>
          </p:grpSpPr>
          <p:pic>
            <p:nvPicPr>
              <p:cNvPr id="157" name="36 Rectángulo redondeado" descr=""/>
              <p:cNvPicPr/>
              <p:nvPr/>
            </p:nvPicPr>
            <p:blipFill>
              <a:blip r:embed="rId8"/>
              <a:stretch/>
            </p:blipFill>
            <p:spPr>
              <a:xfrm>
                <a:off x="6154560" y="4724280"/>
                <a:ext cx="1513080" cy="79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>
                <a:off x="6181920" y="4772520"/>
                <a:ext cx="1460520" cy="68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9" name="37 CuadroTexto"/>
            <p:cNvSpPr/>
            <p:nvPr/>
          </p:nvSpPr>
          <p:spPr>
            <a:xfrm>
              <a:off x="6251400" y="4840200"/>
              <a:ext cx="133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buClr>
                  <a:srgbClr val="e46c0a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6256440" y="4724280"/>
            <a:ext cx="129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anales informáticos de atenció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23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38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3" name="Rectangle 17"/>
          <p:cNvGrpSpPr/>
          <p:nvPr/>
        </p:nvGrpSpPr>
        <p:grpSpPr>
          <a:xfrm>
            <a:off x="1042920" y="1484280"/>
            <a:ext cx="7078680" cy="474480"/>
            <a:chOff x="1042920" y="1484280"/>
            <a:chExt cx="7078680" cy="474480"/>
          </a:xfrm>
        </p:grpSpPr>
        <p:pic>
          <p:nvPicPr>
            <p:cNvPr id="164" name="Rectangle 17" descr=""/>
            <p:cNvPicPr/>
            <p:nvPr/>
          </p:nvPicPr>
          <p:blipFill>
            <a:blip r:embed="rId1"/>
            <a:stretch/>
          </p:blipFill>
          <p:spPr>
            <a:xfrm>
              <a:off x="1042920" y="1484280"/>
              <a:ext cx="707868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1122480" y="1541520"/>
              <a:ext cx="69278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DEPARTAMENTO SERVICIOS AL CIUDADAN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6" name="Text Box 13"/>
          <p:cNvSpPr/>
          <p:nvPr/>
        </p:nvSpPr>
        <p:spPr>
          <a:xfrm>
            <a:off x="2627280" y="692280"/>
            <a:ext cx="612792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SUBDIRECCIÓN GENERAL DE SERVICIOS AL CONTRIBUYEN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7" name="30 Grupo"/>
          <p:cNvGrpSpPr/>
          <p:nvPr/>
        </p:nvGrpSpPr>
        <p:grpSpPr>
          <a:xfrm>
            <a:off x="1763640" y="2349360"/>
            <a:ext cx="5688000" cy="432000"/>
            <a:chOff x="1763640" y="2349360"/>
            <a:chExt cx="5688000" cy="432000"/>
          </a:xfrm>
        </p:grpSpPr>
        <p:grpSp>
          <p:nvGrpSpPr>
            <p:cNvPr id="168" name="36 Rectángulo redondeado"/>
            <p:cNvGrpSpPr/>
            <p:nvPr/>
          </p:nvGrpSpPr>
          <p:grpSpPr>
            <a:xfrm>
              <a:off x="1763640" y="2349360"/>
              <a:ext cx="5688000" cy="432000"/>
              <a:chOff x="1763640" y="2349360"/>
              <a:chExt cx="5688000" cy="432000"/>
            </a:xfrm>
          </p:grpSpPr>
          <p:pic>
            <p:nvPicPr>
              <p:cNvPr id="169" name="36 Rectángulo redondeado" descr=""/>
              <p:cNvPicPr/>
              <p:nvPr/>
            </p:nvPicPr>
            <p:blipFill>
              <a:blip r:embed="rId2"/>
              <a:stretch/>
            </p:blipFill>
            <p:spPr>
              <a:xfrm>
                <a:off x="1763640" y="2349360"/>
                <a:ext cx="56880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"/>
              <p:cNvSpPr/>
              <p:nvPr/>
            </p:nvSpPr>
            <p:spPr>
              <a:xfrm>
                <a:off x="1866600" y="2375640"/>
                <a:ext cx="5490000" cy="37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71" name="37 CuadroTexto"/>
            <p:cNvSpPr/>
            <p:nvPr/>
          </p:nvSpPr>
          <p:spPr>
            <a:xfrm>
              <a:off x="2125440" y="2393640"/>
              <a:ext cx="502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Calibri"/>
                </a:rPr>
                <a:t>ACCIONE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2" name="15 Grupo"/>
          <p:cNvGrpSpPr/>
          <p:nvPr/>
        </p:nvGrpSpPr>
        <p:grpSpPr>
          <a:xfrm>
            <a:off x="1347840" y="2997360"/>
            <a:ext cx="6680160" cy="916920"/>
            <a:chOff x="1347840" y="2997360"/>
            <a:chExt cx="6680160" cy="916920"/>
          </a:xfrm>
        </p:grpSpPr>
        <p:pic>
          <p:nvPicPr>
            <p:cNvPr id="173" name="9 Imagen" descr="Boton-redondo-griss.png"/>
            <p:cNvPicPr/>
            <p:nvPr/>
          </p:nvPicPr>
          <p:blipFill>
            <a:blip r:embed="rId3"/>
            <a:stretch/>
          </p:blipFill>
          <p:spPr>
            <a:xfrm>
              <a:off x="1347840" y="3031200"/>
              <a:ext cx="285480" cy="29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14 CuadroTexto"/>
            <p:cNvSpPr/>
            <p:nvPr/>
          </p:nvSpPr>
          <p:spPr>
            <a:xfrm>
              <a:off x="1670040" y="2997360"/>
              <a:ext cx="6357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Definición del modelo de atención institucional a aplicar en todos los espacios de contacto con los ciudadanos, contribuyentes y usuarios aduaneros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5" name="15 Grupo"/>
          <p:cNvGrpSpPr/>
          <p:nvPr/>
        </p:nvGrpSpPr>
        <p:grpSpPr>
          <a:xfrm>
            <a:off x="1347840" y="4398840"/>
            <a:ext cx="6680160" cy="916920"/>
            <a:chOff x="1347840" y="4398840"/>
            <a:chExt cx="6680160" cy="916920"/>
          </a:xfrm>
        </p:grpSpPr>
        <p:pic>
          <p:nvPicPr>
            <p:cNvPr id="176" name="9 Imagen" descr="Boton-redondo-griss.png"/>
            <p:cNvPicPr/>
            <p:nvPr/>
          </p:nvPicPr>
          <p:blipFill>
            <a:blip r:embed="rId4"/>
            <a:stretch/>
          </p:blipFill>
          <p:spPr>
            <a:xfrm>
              <a:off x="1347840" y="4432680"/>
              <a:ext cx="285480" cy="29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14 CuadroTexto"/>
            <p:cNvSpPr/>
            <p:nvPr/>
          </p:nvSpPr>
          <p:spPr>
            <a:xfrm>
              <a:off x="1670040" y="4398840"/>
              <a:ext cx="6357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Diseño y coordinación de programas y acciones de promoción e instrucción destinadas a elevar la conciencia fiscal de la comunidad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23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38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0" name="Rectangle 17"/>
          <p:cNvGrpSpPr/>
          <p:nvPr/>
        </p:nvGrpSpPr>
        <p:grpSpPr>
          <a:xfrm>
            <a:off x="1042920" y="1484280"/>
            <a:ext cx="7078680" cy="474480"/>
            <a:chOff x="1042920" y="1484280"/>
            <a:chExt cx="7078680" cy="474480"/>
          </a:xfrm>
        </p:grpSpPr>
        <p:pic>
          <p:nvPicPr>
            <p:cNvPr id="181" name="Rectangle 17" descr=""/>
            <p:cNvPicPr/>
            <p:nvPr/>
          </p:nvPicPr>
          <p:blipFill>
            <a:blip r:embed="rId1"/>
            <a:stretch/>
          </p:blipFill>
          <p:spPr>
            <a:xfrm>
              <a:off x="1042920" y="1484280"/>
              <a:ext cx="707868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1122480" y="1541520"/>
              <a:ext cx="69278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DEPARTAMENTO IMAGEN INSTITUCIONAL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3" name="30 Grupo"/>
          <p:cNvGrpSpPr/>
          <p:nvPr/>
        </p:nvGrpSpPr>
        <p:grpSpPr>
          <a:xfrm>
            <a:off x="1763640" y="2349360"/>
            <a:ext cx="5688000" cy="432000"/>
            <a:chOff x="1763640" y="2349360"/>
            <a:chExt cx="5688000" cy="432000"/>
          </a:xfrm>
        </p:grpSpPr>
        <p:grpSp>
          <p:nvGrpSpPr>
            <p:cNvPr id="184" name="36 Rectángulo redondeado"/>
            <p:cNvGrpSpPr/>
            <p:nvPr/>
          </p:nvGrpSpPr>
          <p:grpSpPr>
            <a:xfrm>
              <a:off x="1763640" y="2349360"/>
              <a:ext cx="5688000" cy="432000"/>
              <a:chOff x="1763640" y="2349360"/>
              <a:chExt cx="5688000" cy="432000"/>
            </a:xfrm>
          </p:grpSpPr>
          <p:pic>
            <p:nvPicPr>
              <p:cNvPr id="185" name="36 Rectángulo redondeado" descr=""/>
              <p:cNvPicPr/>
              <p:nvPr/>
            </p:nvPicPr>
            <p:blipFill>
              <a:blip r:embed="rId2"/>
              <a:stretch/>
            </p:blipFill>
            <p:spPr>
              <a:xfrm>
                <a:off x="1763640" y="2349360"/>
                <a:ext cx="56880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" name=""/>
              <p:cNvSpPr/>
              <p:nvPr/>
            </p:nvSpPr>
            <p:spPr>
              <a:xfrm>
                <a:off x="1866600" y="2375640"/>
                <a:ext cx="5490000" cy="37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7" name="37 CuadroTexto"/>
            <p:cNvSpPr/>
            <p:nvPr/>
          </p:nvSpPr>
          <p:spPr>
            <a:xfrm>
              <a:off x="2125440" y="2393640"/>
              <a:ext cx="502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Calibri"/>
                </a:rPr>
                <a:t>ACCIONE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8" name="15 Grupo"/>
          <p:cNvGrpSpPr/>
          <p:nvPr/>
        </p:nvGrpSpPr>
        <p:grpSpPr>
          <a:xfrm>
            <a:off x="1347840" y="3259080"/>
            <a:ext cx="6680160" cy="1191240"/>
            <a:chOff x="1347840" y="3259080"/>
            <a:chExt cx="6680160" cy="1191240"/>
          </a:xfrm>
        </p:grpSpPr>
        <p:pic>
          <p:nvPicPr>
            <p:cNvPr id="189" name="9 Imagen" descr="Boton-redondo-griss.png"/>
            <p:cNvPicPr/>
            <p:nvPr/>
          </p:nvPicPr>
          <p:blipFill>
            <a:blip r:embed="rId3"/>
            <a:stretch/>
          </p:blipFill>
          <p:spPr>
            <a:xfrm>
              <a:off x="1347840" y="3292920"/>
              <a:ext cx="285480" cy="29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14 CuadroTexto"/>
            <p:cNvSpPr/>
            <p:nvPr/>
          </p:nvSpPr>
          <p:spPr>
            <a:xfrm>
              <a:off x="1670040" y="3259080"/>
              <a:ext cx="6357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Definición y elaboración de criterios y estrategias de comunicación necesarias, para la correcta difusión de contenidos, que requiera la Administración Federal de Ingresos Públicos, ya sean gráficos, audiovisuales y Web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1" name="Text Box 13"/>
          <p:cNvSpPr/>
          <p:nvPr/>
        </p:nvSpPr>
        <p:spPr>
          <a:xfrm>
            <a:off x="2627280" y="692280"/>
            <a:ext cx="612792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SUBDIRECCIÓN GENERAL DE SERVICIOS AL CONTRIBUYEN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23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38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4" name="Rectangle 17"/>
          <p:cNvGrpSpPr/>
          <p:nvPr/>
        </p:nvGrpSpPr>
        <p:grpSpPr>
          <a:xfrm>
            <a:off x="1042920" y="1484280"/>
            <a:ext cx="7078680" cy="474480"/>
            <a:chOff x="1042920" y="1484280"/>
            <a:chExt cx="7078680" cy="474480"/>
          </a:xfrm>
        </p:grpSpPr>
        <p:pic>
          <p:nvPicPr>
            <p:cNvPr id="195" name="Rectangle 17" descr=""/>
            <p:cNvPicPr/>
            <p:nvPr/>
          </p:nvPicPr>
          <p:blipFill>
            <a:blip r:embed="rId1"/>
            <a:stretch/>
          </p:blipFill>
          <p:spPr>
            <a:xfrm>
              <a:off x="1042920" y="1484280"/>
              <a:ext cx="707868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1122480" y="1541520"/>
              <a:ext cx="69278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DEPARTAMENTO CANALES DE ATENCIÓ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7" name="30 Grupo"/>
          <p:cNvGrpSpPr/>
          <p:nvPr/>
        </p:nvGrpSpPr>
        <p:grpSpPr>
          <a:xfrm>
            <a:off x="1763640" y="2349360"/>
            <a:ext cx="5688000" cy="432000"/>
            <a:chOff x="1763640" y="2349360"/>
            <a:chExt cx="5688000" cy="432000"/>
          </a:xfrm>
        </p:grpSpPr>
        <p:grpSp>
          <p:nvGrpSpPr>
            <p:cNvPr id="198" name="36 Rectángulo redondeado"/>
            <p:cNvGrpSpPr/>
            <p:nvPr/>
          </p:nvGrpSpPr>
          <p:grpSpPr>
            <a:xfrm>
              <a:off x="1763640" y="2349360"/>
              <a:ext cx="5688000" cy="432000"/>
              <a:chOff x="1763640" y="2349360"/>
              <a:chExt cx="5688000" cy="432000"/>
            </a:xfrm>
          </p:grpSpPr>
          <p:pic>
            <p:nvPicPr>
              <p:cNvPr id="199" name="36 Rectángulo redondeado" descr=""/>
              <p:cNvPicPr/>
              <p:nvPr/>
            </p:nvPicPr>
            <p:blipFill>
              <a:blip r:embed="rId2"/>
              <a:stretch/>
            </p:blipFill>
            <p:spPr>
              <a:xfrm>
                <a:off x="1763640" y="2349360"/>
                <a:ext cx="56880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>
                <a:off x="1866600" y="2375640"/>
                <a:ext cx="5490000" cy="37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1" name="37 CuadroTexto"/>
            <p:cNvSpPr/>
            <p:nvPr/>
          </p:nvSpPr>
          <p:spPr>
            <a:xfrm>
              <a:off x="2125440" y="2393640"/>
              <a:ext cx="502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Calibri"/>
                </a:rPr>
                <a:t>ACCIONE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2" name="15 Grupo"/>
          <p:cNvGrpSpPr/>
          <p:nvPr/>
        </p:nvGrpSpPr>
        <p:grpSpPr>
          <a:xfrm>
            <a:off x="1347840" y="3141720"/>
            <a:ext cx="6680160" cy="368280"/>
            <a:chOff x="1347840" y="3141720"/>
            <a:chExt cx="6680160" cy="368280"/>
          </a:xfrm>
        </p:grpSpPr>
        <p:pic>
          <p:nvPicPr>
            <p:cNvPr id="203" name="9 Imagen" descr="Boton-redondo-griss.png"/>
            <p:cNvPicPr/>
            <p:nvPr/>
          </p:nvPicPr>
          <p:blipFill>
            <a:blip r:embed="rId3"/>
            <a:stretch/>
          </p:blipFill>
          <p:spPr>
            <a:xfrm>
              <a:off x="1347840" y="3175560"/>
              <a:ext cx="285480" cy="29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14 CuadroTexto"/>
            <p:cNvSpPr/>
            <p:nvPr/>
          </p:nvSpPr>
          <p:spPr>
            <a:xfrm>
              <a:off x="1670040" y="3141720"/>
              <a:ext cx="63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Definición y supervisión de los servicios de información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5" name="15 Grupo"/>
          <p:cNvGrpSpPr/>
          <p:nvPr/>
        </p:nvGrpSpPr>
        <p:grpSpPr>
          <a:xfrm>
            <a:off x="1347840" y="4003560"/>
            <a:ext cx="6680160" cy="1191240"/>
            <a:chOff x="1347840" y="4003560"/>
            <a:chExt cx="6680160" cy="1191240"/>
          </a:xfrm>
        </p:grpSpPr>
        <p:pic>
          <p:nvPicPr>
            <p:cNvPr id="206" name="9 Imagen" descr="Boton-redondo-griss.png"/>
            <p:cNvPicPr/>
            <p:nvPr/>
          </p:nvPicPr>
          <p:blipFill>
            <a:blip r:embed="rId4"/>
            <a:stretch/>
          </p:blipFill>
          <p:spPr>
            <a:xfrm>
              <a:off x="1347840" y="4037400"/>
              <a:ext cx="285480" cy="29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14 CuadroTexto"/>
            <p:cNvSpPr/>
            <p:nvPr/>
          </p:nvSpPr>
          <p:spPr>
            <a:xfrm>
              <a:off x="1670040" y="4003560"/>
              <a:ext cx="6357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Definición de los criterios y contenidos de los mensajes de respuesta a dar vía telefónica, correo electrónico o página institucional del Organismo, como consecuencia de las consultas de los ciudadanos en general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8" name="Text Box 13"/>
          <p:cNvSpPr/>
          <p:nvPr/>
        </p:nvSpPr>
        <p:spPr>
          <a:xfrm>
            <a:off x="2627280" y="692280"/>
            <a:ext cx="612792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SUBDIRECCIÓN GENERAL DE SERVICIOS AL CONTRIBUYEN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23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38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1" name="Rectangle 17"/>
          <p:cNvGrpSpPr/>
          <p:nvPr/>
        </p:nvGrpSpPr>
        <p:grpSpPr>
          <a:xfrm>
            <a:off x="1042920" y="1484280"/>
            <a:ext cx="7078680" cy="474480"/>
            <a:chOff x="1042920" y="1484280"/>
            <a:chExt cx="7078680" cy="474480"/>
          </a:xfrm>
        </p:grpSpPr>
        <p:pic>
          <p:nvPicPr>
            <p:cNvPr id="212" name="Rectangle 17" descr=""/>
            <p:cNvPicPr/>
            <p:nvPr/>
          </p:nvPicPr>
          <p:blipFill>
            <a:blip r:embed="rId1"/>
            <a:stretch/>
          </p:blipFill>
          <p:spPr>
            <a:xfrm>
              <a:off x="1042920" y="1484280"/>
              <a:ext cx="707868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1122480" y="1541520"/>
              <a:ext cx="69278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DEPARTAMENTO CANALES DE ATENCIÓ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4" name="30 Grupo"/>
          <p:cNvGrpSpPr/>
          <p:nvPr/>
        </p:nvGrpSpPr>
        <p:grpSpPr>
          <a:xfrm>
            <a:off x="1763640" y="2133720"/>
            <a:ext cx="5688000" cy="431640"/>
            <a:chOff x="1763640" y="2133720"/>
            <a:chExt cx="5688000" cy="431640"/>
          </a:xfrm>
        </p:grpSpPr>
        <p:grpSp>
          <p:nvGrpSpPr>
            <p:cNvPr id="215" name="36 Rectángulo redondeado"/>
            <p:cNvGrpSpPr/>
            <p:nvPr/>
          </p:nvGrpSpPr>
          <p:grpSpPr>
            <a:xfrm>
              <a:off x="1763640" y="2133720"/>
              <a:ext cx="5688000" cy="431640"/>
              <a:chOff x="1763640" y="2133720"/>
              <a:chExt cx="5688000" cy="431640"/>
            </a:xfrm>
          </p:grpSpPr>
          <p:pic>
            <p:nvPicPr>
              <p:cNvPr id="216" name="36 Rectángulo redondeado" descr=""/>
              <p:cNvPicPr/>
              <p:nvPr/>
            </p:nvPicPr>
            <p:blipFill>
              <a:blip r:embed="rId2"/>
              <a:stretch/>
            </p:blipFill>
            <p:spPr>
              <a:xfrm>
                <a:off x="1763640" y="2133720"/>
                <a:ext cx="568800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7" name=""/>
              <p:cNvSpPr/>
              <p:nvPr/>
            </p:nvSpPr>
            <p:spPr>
              <a:xfrm>
                <a:off x="1866600" y="2160000"/>
                <a:ext cx="5490000" cy="37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18" name="37 CuadroTexto"/>
            <p:cNvSpPr/>
            <p:nvPr/>
          </p:nvSpPr>
          <p:spPr>
            <a:xfrm>
              <a:off x="2125440" y="2178000"/>
              <a:ext cx="502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Calibri"/>
                </a:rPr>
                <a:t>MISIÓ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9" name="15 Grupo"/>
          <p:cNvGrpSpPr/>
          <p:nvPr/>
        </p:nvGrpSpPr>
        <p:grpSpPr>
          <a:xfrm>
            <a:off x="1332000" y="2637000"/>
            <a:ext cx="6680160" cy="1191240"/>
            <a:chOff x="1332000" y="2637000"/>
            <a:chExt cx="6680160" cy="1191240"/>
          </a:xfrm>
        </p:grpSpPr>
        <p:pic>
          <p:nvPicPr>
            <p:cNvPr id="220" name="9 Imagen" descr="Boton-redondo-griss.png"/>
            <p:cNvPicPr/>
            <p:nvPr/>
          </p:nvPicPr>
          <p:blipFill>
            <a:blip r:embed="rId3"/>
            <a:stretch/>
          </p:blipFill>
          <p:spPr>
            <a:xfrm>
              <a:off x="1332000" y="2670840"/>
              <a:ext cx="285480" cy="29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14 CuadroTexto"/>
            <p:cNvSpPr/>
            <p:nvPr/>
          </p:nvSpPr>
          <p:spPr>
            <a:xfrm>
              <a:off x="1654200" y="2637000"/>
              <a:ext cx="6357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Facilitar a los ciudadanos el cumplimiento de sus obligaciones, a través de acciones de asistencia e información, internas y externas, personalizadas y virtuales, definiendo un modelo de atención claro y eficiente.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2" name="15 Grupo"/>
          <p:cNvGrpSpPr/>
          <p:nvPr/>
        </p:nvGrpSpPr>
        <p:grpSpPr>
          <a:xfrm>
            <a:off x="1347840" y="4437000"/>
            <a:ext cx="6680160" cy="1465560"/>
            <a:chOff x="1347840" y="4437000"/>
            <a:chExt cx="6680160" cy="1465560"/>
          </a:xfrm>
        </p:grpSpPr>
        <p:pic>
          <p:nvPicPr>
            <p:cNvPr id="223" name="9 Imagen" descr="Boton-redondo-griss.png"/>
            <p:cNvPicPr/>
            <p:nvPr/>
          </p:nvPicPr>
          <p:blipFill>
            <a:blip r:embed="rId4"/>
            <a:stretch/>
          </p:blipFill>
          <p:spPr>
            <a:xfrm>
              <a:off x="1347840" y="4470840"/>
              <a:ext cx="285480" cy="29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14 CuadroTexto"/>
            <p:cNvSpPr/>
            <p:nvPr/>
          </p:nvSpPr>
          <p:spPr>
            <a:xfrm>
              <a:off x="1670040" y="4437000"/>
              <a:ext cx="63579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spiramos a brindar un servicio de excelencia orientado a satisfacer las necesidades del ciudadano, implementando un modelo de atención eficiente, apoyándonos en el capital humano altamente calificado y haciendo uso de las nuevas tecnologías de información y comunicación.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5" name="30 Grupo"/>
          <p:cNvGrpSpPr/>
          <p:nvPr/>
        </p:nvGrpSpPr>
        <p:grpSpPr>
          <a:xfrm>
            <a:off x="1763640" y="4005360"/>
            <a:ext cx="5688000" cy="431640"/>
            <a:chOff x="1763640" y="4005360"/>
            <a:chExt cx="5688000" cy="431640"/>
          </a:xfrm>
        </p:grpSpPr>
        <p:grpSp>
          <p:nvGrpSpPr>
            <p:cNvPr id="226" name="36 Rectángulo redondeado"/>
            <p:cNvGrpSpPr/>
            <p:nvPr/>
          </p:nvGrpSpPr>
          <p:grpSpPr>
            <a:xfrm>
              <a:off x="1763640" y="4005360"/>
              <a:ext cx="5688000" cy="431640"/>
              <a:chOff x="1763640" y="4005360"/>
              <a:chExt cx="5688000" cy="431640"/>
            </a:xfrm>
          </p:grpSpPr>
          <p:pic>
            <p:nvPicPr>
              <p:cNvPr id="227" name="36 Rectángulo redondeado" descr=""/>
              <p:cNvPicPr/>
              <p:nvPr/>
            </p:nvPicPr>
            <p:blipFill>
              <a:blip r:embed="rId5"/>
              <a:stretch/>
            </p:blipFill>
            <p:spPr>
              <a:xfrm>
                <a:off x="1763640" y="4005360"/>
                <a:ext cx="568800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8" name=""/>
              <p:cNvSpPr/>
              <p:nvPr/>
            </p:nvSpPr>
            <p:spPr>
              <a:xfrm>
                <a:off x="1866600" y="4031640"/>
                <a:ext cx="5490000" cy="37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9" name="37 CuadroTexto"/>
            <p:cNvSpPr/>
            <p:nvPr/>
          </p:nvSpPr>
          <p:spPr>
            <a:xfrm>
              <a:off x="2125440" y="4049640"/>
              <a:ext cx="502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Calibri"/>
                </a:rPr>
                <a:t>VISIÓ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0" name="Text Box 13"/>
          <p:cNvSpPr/>
          <p:nvPr/>
        </p:nvSpPr>
        <p:spPr>
          <a:xfrm>
            <a:off x="2627280" y="692280"/>
            <a:ext cx="612792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SUBDIRECCIÓN GENERAL DE SERVICIOS AL CONTRIBUYEN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23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38 Rectángulo redondeado"/>
          <p:cNvSpPr/>
          <p:nvPr/>
        </p:nvSpPr>
        <p:spPr>
          <a:xfrm>
            <a:off x="611280" y="1413000"/>
            <a:ext cx="7572240" cy="460836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 Box 13"/>
          <p:cNvSpPr/>
          <p:nvPr/>
        </p:nvSpPr>
        <p:spPr>
          <a:xfrm>
            <a:off x="2411280" y="692280"/>
            <a:ext cx="62643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CENTRO DE INFORMACIÓN TELEFÓNICA (CIT) - ESTRUCTU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4" name="30 Grupo"/>
          <p:cNvGrpSpPr/>
          <p:nvPr/>
        </p:nvGrpSpPr>
        <p:grpSpPr>
          <a:xfrm>
            <a:off x="1116000" y="2133720"/>
            <a:ext cx="6335640" cy="503280"/>
            <a:chOff x="1116000" y="2133720"/>
            <a:chExt cx="6335640" cy="503280"/>
          </a:xfrm>
        </p:grpSpPr>
        <p:grpSp>
          <p:nvGrpSpPr>
            <p:cNvPr id="235" name="36 Rectángulo redondeado"/>
            <p:cNvGrpSpPr/>
            <p:nvPr/>
          </p:nvGrpSpPr>
          <p:grpSpPr>
            <a:xfrm>
              <a:off x="1116000" y="2133720"/>
              <a:ext cx="6335640" cy="503280"/>
              <a:chOff x="1116000" y="2133720"/>
              <a:chExt cx="6335640" cy="503280"/>
            </a:xfrm>
          </p:grpSpPr>
          <p:pic>
            <p:nvPicPr>
              <p:cNvPr id="236" name="36 Rectángulo redondeado" descr=""/>
              <p:cNvPicPr/>
              <p:nvPr/>
            </p:nvPicPr>
            <p:blipFill>
              <a:blip r:embed="rId1"/>
              <a:stretch/>
            </p:blipFill>
            <p:spPr>
              <a:xfrm>
                <a:off x="1116000" y="2133720"/>
                <a:ext cx="6335640" cy="50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7" name=""/>
              <p:cNvSpPr/>
              <p:nvPr/>
            </p:nvSpPr>
            <p:spPr>
              <a:xfrm>
                <a:off x="1230840" y="2164320"/>
                <a:ext cx="6115320" cy="43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8" name="37 CuadroTexto"/>
            <p:cNvSpPr/>
            <p:nvPr/>
          </p:nvSpPr>
          <p:spPr>
            <a:xfrm>
              <a:off x="1519200" y="2185920"/>
              <a:ext cx="559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Calibri"/>
                </a:rPr>
                <a:t>ORGANIZACIÓN DEL CI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9" name="15 Grupo"/>
          <p:cNvGrpSpPr/>
          <p:nvPr/>
        </p:nvGrpSpPr>
        <p:grpSpPr>
          <a:xfrm>
            <a:off x="1258920" y="3068640"/>
            <a:ext cx="6680160" cy="368280"/>
            <a:chOff x="1258920" y="3068640"/>
            <a:chExt cx="6680160" cy="368280"/>
          </a:xfrm>
        </p:grpSpPr>
        <p:pic>
          <p:nvPicPr>
            <p:cNvPr id="240" name="9 Imagen" descr="Boton-redondo-griss.png"/>
            <p:cNvPicPr/>
            <p:nvPr/>
          </p:nvPicPr>
          <p:blipFill>
            <a:blip r:embed="rId2"/>
            <a:stretch/>
          </p:blipFill>
          <p:spPr>
            <a:xfrm>
              <a:off x="1258920" y="3102480"/>
              <a:ext cx="285480" cy="29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14 CuadroTexto"/>
            <p:cNvSpPr/>
            <p:nvPr/>
          </p:nvSpPr>
          <p:spPr>
            <a:xfrm>
              <a:off x="1581120" y="3068640"/>
              <a:ext cx="63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Horario extendido de 8 a 20 hs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2" name="15 Grupo"/>
          <p:cNvGrpSpPr/>
          <p:nvPr/>
        </p:nvGrpSpPr>
        <p:grpSpPr>
          <a:xfrm>
            <a:off x="1258920" y="3573360"/>
            <a:ext cx="6680160" cy="368280"/>
            <a:chOff x="1258920" y="3573360"/>
            <a:chExt cx="6680160" cy="368280"/>
          </a:xfrm>
        </p:grpSpPr>
        <p:pic>
          <p:nvPicPr>
            <p:cNvPr id="243" name="9 Imagen" descr="Boton-redondo-griss.png"/>
            <p:cNvPicPr/>
            <p:nvPr/>
          </p:nvPicPr>
          <p:blipFill>
            <a:blip r:embed="rId3"/>
            <a:stretch/>
          </p:blipFill>
          <p:spPr>
            <a:xfrm>
              <a:off x="1258920" y="3607200"/>
              <a:ext cx="285480" cy="29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14 CuadroTexto"/>
            <p:cNvSpPr/>
            <p:nvPr/>
          </p:nvSpPr>
          <p:spPr>
            <a:xfrm>
              <a:off x="1581120" y="3573360"/>
              <a:ext cx="63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100 puestos de atención.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5" name="15 Grupo"/>
          <p:cNvGrpSpPr/>
          <p:nvPr/>
        </p:nvGrpSpPr>
        <p:grpSpPr>
          <a:xfrm>
            <a:off x="1258920" y="4653000"/>
            <a:ext cx="6680160" cy="642600"/>
            <a:chOff x="1258920" y="4653000"/>
            <a:chExt cx="6680160" cy="642600"/>
          </a:xfrm>
        </p:grpSpPr>
        <p:pic>
          <p:nvPicPr>
            <p:cNvPr id="246" name="9 Imagen" descr="Boton-redondo-griss.png"/>
            <p:cNvPicPr/>
            <p:nvPr/>
          </p:nvPicPr>
          <p:blipFill>
            <a:blip r:embed="rId4"/>
            <a:stretch/>
          </p:blipFill>
          <p:spPr>
            <a:xfrm>
              <a:off x="1258920" y="4686840"/>
              <a:ext cx="285480" cy="29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14 CuadroTexto"/>
            <p:cNvSpPr/>
            <p:nvPr/>
          </p:nvSpPr>
          <p:spPr>
            <a:xfrm>
              <a:off x="1581120" y="4653000"/>
              <a:ext cx="6357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Tarifa promocional uniforme (Tarifa homogénea para todo el país. Costo llamada local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8" name="15 Grupo"/>
          <p:cNvGrpSpPr/>
          <p:nvPr/>
        </p:nvGrpSpPr>
        <p:grpSpPr>
          <a:xfrm>
            <a:off x="1258920" y="4149720"/>
            <a:ext cx="6680160" cy="368280"/>
            <a:chOff x="1258920" y="4149720"/>
            <a:chExt cx="6680160" cy="368280"/>
          </a:xfrm>
        </p:grpSpPr>
        <p:pic>
          <p:nvPicPr>
            <p:cNvPr id="249" name="9 Imagen" descr="Boton-redondo-griss.png"/>
            <p:cNvPicPr/>
            <p:nvPr/>
          </p:nvPicPr>
          <p:blipFill>
            <a:blip r:embed="rId5"/>
            <a:stretch/>
          </p:blipFill>
          <p:spPr>
            <a:xfrm>
              <a:off x="1258920" y="4183560"/>
              <a:ext cx="285480" cy="29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14 CuadroTexto"/>
            <p:cNvSpPr/>
            <p:nvPr/>
          </p:nvSpPr>
          <p:spPr>
            <a:xfrm>
              <a:off x="1581120" y="4149720"/>
              <a:ext cx="63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Personal altamente capacitado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23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38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3" name="Rectangle 17"/>
          <p:cNvGrpSpPr/>
          <p:nvPr/>
        </p:nvGrpSpPr>
        <p:grpSpPr>
          <a:xfrm>
            <a:off x="2270160" y="1989000"/>
            <a:ext cx="2879640" cy="720360"/>
            <a:chOff x="2270160" y="1989000"/>
            <a:chExt cx="2879640" cy="720360"/>
          </a:xfrm>
        </p:grpSpPr>
        <p:pic>
          <p:nvPicPr>
            <p:cNvPr id="254" name="Rectangle 17" descr=""/>
            <p:cNvPicPr/>
            <p:nvPr/>
          </p:nvPicPr>
          <p:blipFill>
            <a:blip r:embed="rId1"/>
            <a:stretch/>
          </p:blipFill>
          <p:spPr>
            <a:xfrm>
              <a:off x="2270160" y="1989000"/>
              <a:ext cx="2879640" cy="72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2302200" y="2075760"/>
              <a:ext cx="281844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División Atención Telefónic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6" name="Text Box 13"/>
          <p:cNvSpPr/>
          <p:nvPr/>
        </p:nvSpPr>
        <p:spPr>
          <a:xfrm>
            <a:off x="2843280" y="692280"/>
            <a:ext cx="57322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CENTRO DE INFORMACIÓN TELEFÓNICA (CIT) - ESTRUCTU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637080" y="2925720"/>
            <a:ext cx="2519280" cy="574560"/>
            <a:chOff x="3637080" y="2925720"/>
            <a:chExt cx="2519280" cy="574560"/>
          </a:xfrm>
        </p:grpSpPr>
        <p:grpSp>
          <p:nvGrpSpPr>
            <p:cNvPr id="258" name="36 Rectángulo redondeado"/>
            <p:cNvGrpSpPr/>
            <p:nvPr/>
          </p:nvGrpSpPr>
          <p:grpSpPr>
            <a:xfrm>
              <a:off x="3637080" y="2925720"/>
              <a:ext cx="2519280" cy="574560"/>
              <a:chOff x="3637080" y="2925720"/>
              <a:chExt cx="2519280" cy="574560"/>
            </a:xfrm>
          </p:grpSpPr>
          <p:pic>
            <p:nvPicPr>
              <p:cNvPr id="259" name="36 Rectángulo redondeado" descr=""/>
              <p:cNvPicPr/>
              <p:nvPr/>
            </p:nvPicPr>
            <p:blipFill>
              <a:blip r:embed="rId2"/>
              <a:stretch/>
            </p:blipFill>
            <p:spPr>
              <a:xfrm>
                <a:off x="3637080" y="2925720"/>
                <a:ext cx="2519280" cy="57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" name=""/>
              <p:cNvSpPr/>
              <p:nvPr/>
            </p:nvSpPr>
            <p:spPr>
              <a:xfrm>
                <a:off x="3682440" y="2960640"/>
                <a:ext cx="2431800" cy="49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61" name="37 CuadroTexto"/>
            <p:cNvSpPr/>
            <p:nvPr/>
          </p:nvSpPr>
          <p:spPr>
            <a:xfrm>
              <a:off x="3708360" y="2925720"/>
              <a:ext cx="230508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500" spc="-1" strike="noStrike">
                  <a:solidFill>
                    <a:srgbClr val="000000"/>
                  </a:solidFill>
                  <a:latin typeface="Calibri"/>
                </a:rPr>
                <a:t>Sección Consultas Normativas “A”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262" name="29 Conector angular"/>
          <p:cNvCxnSpPr/>
          <p:nvPr/>
        </p:nvCxnSpPr>
        <p:spPr>
          <a:xfrm flipH="1" rot="16200000">
            <a:off x="2347560" y="3813840"/>
            <a:ext cx="2523240" cy="168840"/>
          </a:xfrm>
          <a:prstGeom prst="bentConnector2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3" name="44 Conector angular"/>
          <p:cNvCxnSpPr/>
          <p:nvPr/>
        </p:nvCxnSpPr>
        <p:spPr>
          <a:xfrm flipH="1" rot="16200000">
            <a:off x="3319200" y="2842200"/>
            <a:ext cx="579960" cy="168840"/>
          </a:xfrm>
          <a:prstGeom prst="bentConnector2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4" name="47 Conector angular"/>
          <p:cNvCxnSpPr>
            <a:endCxn id="265" idx="1"/>
          </p:cNvCxnSpPr>
          <p:nvPr/>
        </p:nvCxnSpPr>
        <p:spPr>
          <a:xfrm flipH="1" rot="16200000">
            <a:off x="2676600" y="3499560"/>
            <a:ext cx="1869120" cy="143640"/>
          </a:xfrm>
          <a:prstGeom prst="bentConnector2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6" name="51 Conector angular"/>
          <p:cNvCxnSpPr/>
          <p:nvPr/>
        </p:nvCxnSpPr>
        <p:spPr>
          <a:xfrm flipH="1" rot="16200000">
            <a:off x="2977560" y="3184920"/>
            <a:ext cx="1227240" cy="131040"/>
          </a:xfrm>
          <a:prstGeom prst="bentConnector2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67" name=""/>
          <p:cNvGrpSpPr/>
          <p:nvPr/>
        </p:nvGrpSpPr>
        <p:grpSpPr>
          <a:xfrm>
            <a:off x="3637080" y="3573360"/>
            <a:ext cx="2519280" cy="574560"/>
            <a:chOff x="3637080" y="3573360"/>
            <a:chExt cx="2519280" cy="574560"/>
          </a:xfrm>
        </p:grpSpPr>
        <p:grpSp>
          <p:nvGrpSpPr>
            <p:cNvPr id="268" name="36 Rectángulo redondeado"/>
            <p:cNvGrpSpPr/>
            <p:nvPr/>
          </p:nvGrpSpPr>
          <p:grpSpPr>
            <a:xfrm>
              <a:off x="3637080" y="3573360"/>
              <a:ext cx="2519280" cy="574560"/>
              <a:chOff x="3637080" y="3573360"/>
              <a:chExt cx="2519280" cy="574560"/>
            </a:xfrm>
          </p:grpSpPr>
          <p:pic>
            <p:nvPicPr>
              <p:cNvPr id="269" name="36 Rectángulo redondeado" descr=""/>
              <p:cNvPicPr/>
              <p:nvPr/>
            </p:nvPicPr>
            <p:blipFill>
              <a:blip r:embed="rId3"/>
              <a:stretch/>
            </p:blipFill>
            <p:spPr>
              <a:xfrm>
                <a:off x="3637080" y="3573360"/>
                <a:ext cx="2519280" cy="57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0" name=""/>
              <p:cNvSpPr/>
              <p:nvPr/>
            </p:nvSpPr>
            <p:spPr>
              <a:xfrm>
                <a:off x="3682440" y="3608280"/>
                <a:ext cx="2431800" cy="49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1" name="37 CuadroTexto"/>
            <p:cNvSpPr/>
            <p:nvPr/>
          </p:nvSpPr>
          <p:spPr>
            <a:xfrm>
              <a:off x="3708360" y="3573360"/>
              <a:ext cx="230508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500" spc="-1" strike="noStrike">
                  <a:solidFill>
                    <a:srgbClr val="000000"/>
                  </a:solidFill>
                  <a:latin typeface="Calibri"/>
                </a:rPr>
                <a:t>Sección Consultas Normativas “B”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3637080" y="4221000"/>
            <a:ext cx="2519280" cy="574560"/>
            <a:chOff x="3637080" y="4221000"/>
            <a:chExt cx="2519280" cy="574560"/>
          </a:xfrm>
        </p:grpSpPr>
        <p:grpSp>
          <p:nvGrpSpPr>
            <p:cNvPr id="273" name="36 Rectángulo redondeado"/>
            <p:cNvGrpSpPr/>
            <p:nvPr/>
          </p:nvGrpSpPr>
          <p:grpSpPr>
            <a:xfrm>
              <a:off x="3637080" y="4221000"/>
              <a:ext cx="2519280" cy="574560"/>
              <a:chOff x="3637080" y="4221000"/>
              <a:chExt cx="2519280" cy="574560"/>
            </a:xfrm>
          </p:grpSpPr>
          <p:pic>
            <p:nvPicPr>
              <p:cNvPr id="274" name="36 Rectángulo redondeado" descr=""/>
              <p:cNvPicPr/>
              <p:nvPr/>
            </p:nvPicPr>
            <p:blipFill>
              <a:blip r:embed="rId4"/>
              <a:stretch/>
            </p:blipFill>
            <p:spPr>
              <a:xfrm>
                <a:off x="3637080" y="4221000"/>
                <a:ext cx="2519280" cy="57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5" name=""/>
              <p:cNvSpPr/>
              <p:nvPr/>
            </p:nvSpPr>
            <p:spPr>
              <a:xfrm>
                <a:off x="3682440" y="4255920"/>
                <a:ext cx="2431800" cy="49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5" name="37 CuadroTexto"/>
            <p:cNvSpPr/>
            <p:nvPr/>
          </p:nvSpPr>
          <p:spPr>
            <a:xfrm>
              <a:off x="3708360" y="4221000"/>
              <a:ext cx="230508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500" spc="-1" strike="noStrike">
                  <a:solidFill>
                    <a:srgbClr val="000000"/>
                  </a:solidFill>
                  <a:latin typeface="Calibri"/>
                </a:rPr>
                <a:t>Sección Mesa de Ayuda Aplicativos “A”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3637080" y="4869000"/>
            <a:ext cx="2519280" cy="574560"/>
            <a:chOff x="3637080" y="4869000"/>
            <a:chExt cx="2519280" cy="574560"/>
          </a:xfrm>
        </p:grpSpPr>
        <p:grpSp>
          <p:nvGrpSpPr>
            <p:cNvPr id="277" name="36 Rectángulo redondeado"/>
            <p:cNvGrpSpPr/>
            <p:nvPr/>
          </p:nvGrpSpPr>
          <p:grpSpPr>
            <a:xfrm>
              <a:off x="3637080" y="4869000"/>
              <a:ext cx="2519280" cy="574560"/>
              <a:chOff x="3637080" y="4869000"/>
              <a:chExt cx="2519280" cy="574560"/>
            </a:xfrm>
          </p:grpSpPr>
          <p:pic>
            <p:nvPicPr>
              <p:cNvPr id="278" name="36 Rectángulo redondeado" descr=""/>
              <p:cNvPicPr/>
              <p:nvPr/>
            </p:nvPicPr>
            <p:blipFill>
              <a:blip r:embed="rId5"/>
              <a:stretch/>
            </p:blipFill>
            <p:spPr>
              <a:xfrm>
                <a:off x="3637080" y="4869000"/>
                <a:ext cx="2519280" cy="57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9" name=""/>
              <p:cNvSpPr/>
              <p:nvPr/>
            </p:nvSpPr>
            <p:spPr>
              <a:xfrm>
                <a:off x="3682440" y="4903920"/>
                <a:ext cx="2431800" cy="49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80" name="37 CuadroTexto"/>
            <p:cNvSpPr/>
            <p:nvPr/>
          </p:nvSpPr>
          <p:spPr>
            <a:xfrm>
              <a:off x="3708360" y="4869000"/>
              <a:ext cx="230508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500" spc="-1" strike="noStrike">
                  <a:solidFill>
                    <a:srgbClr val="000000"/>
                  </a:solidFill>
                  <a:latin typeface="Calibri"/>
                </a:rPr>
                <a:t>Sección Mesa de Ayuda Aplicativos “B”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23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38 Rectángulo redondeado"/>
          <p:cNvSpPr/>
          <p:nvPr/>
        </p:nvSpPr>
        <p:spPr>
          <a:xfrm>
            <a:off x="611280" y="1413000"/>
            <a:ext cx="7572240" cy="460836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 Box 13"/>
          <p:cNvSpPr/>
          <p:nvPr/>
        </p:nvSpPr>
        <p:spPr>
          <a:xfrm>
            <a:off x="2771640" y="692280"/>
            <a:ext cx="5732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CENTRO DE INFORMACIÓN TELEFÓNICA (CIT) - ESTRUCTU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4" name="30 Grupo"/>
          <p:cNvGrpSpPr/>
          <p:nvPr/>
        </p:nvGrpSpPr>
        <p:grpSpPr>
          <a:xfrm>
            <a:off x="1116000" y="2133720"/>
            <a:ext cx="6335640" cy="503280"/>
            <a:chOff x="1116000" y="2133720"/>
            <a:chExt cx="6335640" cy="503280"/>
          </a:xfrm>
        </p:grpSpPr>
        <p:grpSp>
          <p:nvGrpSpPr>
            <p:cNvPr id="285" name="36 Rectángulo redondeado"/>
            <p:cNvGrpSpPr/>
            <p:nvPr/>
          </p:nvGrpSpPr>
          <p:grpSpPr>
            <a:xfrm>
              <a:off x="1116000" y="2133720"/>
              <a:ext cx="6335640" cy="503280"/>
              <a:chOff x="1116000" y="2133720"/>
              <a:chExt cx="6335640" cy="503280"/>
            </a:xfrm>
          </p:grpSpPr>
          <p:pic>
            <p:nvPicPr>
              <p:cNvPr id="286" name="36 Rectángulo redondeado" descr=""/>
              <p:cNvPicPr/>
              <p:nvPr/>
            </p:nvPicPr>
            <p:blipFill>
              <a:blip r:embed="rId1"/>
              <a:stretch/>
            </p:blipFill>
            <p:spPr>
              <a:xfrm>
                <a:off x="1116000" y="2133720"/>
                <a:ext cx="6335640" cy="50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7" name=""/>
              <p:cNvSpPr/>
              <p:nvPr/>
            </p:nvSpPr>
            <p:spPr>
              <a:xfrm>
                <a:off x="1230840" y="2164320"/>
                <a:ext cx="6115320" cy="43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88" name="37 CuadroTexto"/>
            <p:cNvSpPr/>
            <p:nvPr/>
          </p:nvSpPr>
          <p:spPr>
            <a:xfrm>
              <a:off x="1519200" y="2185920"/>
              <a:ext cx="559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Calibri"/>
                </a:rPr>
                <a:t>SECCIONE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9" name="15 Grupo"/>
          <p:cNvGrpSpPr/>
          <p:nvPr/>
        </p:nvGrpSpPr>
        <p:grpSpPr>
          <a:xfrm>
            <a:off x="1258920" y="3068640"/>
            <a:ext cx="6680160" cy="368280"/>
            <a:chOff x="1258920" y="3068640"/>
            <a:chExt cx="6680160" cy="368280"/>
          </a:xfrm>
        </p:grpSpPr>
        <p:pic>
          <p:nvPicPr>
            <p:cNvPr id="290" name="9 Imagen" descr="Boton-redondo-griss.png"/>
            <p:cNvPicPr/>
            <p:nvPr/>
          </p:nvPicPr>
          <p:blipFill>
            <a:blip r:embed="rId2"/>
            <a:stretch/>
          </p:blipFill>
          <p:spPr>
            <a:xfrm>
              <a:off x="1258920" y="3102480"/>
              <a:ext cx="285480" cy="29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14 CuadroTexto"/>
            <p:cNvSpPr/>
            <p:nvPr/>
          </p:nvSpPr>
          <p:spPr>
            <a:xfrm>
              <a:off x="1581120" y="3068640"/>
              <a:ext cx="63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Cada Sección posee un Jefe con un equipo de 20 Agentes a cargo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2" name="15 Grupo"/>
          <p:cNvGrpSpPr/>
          <p:nvPr/>
        </p:nvGrpSpPr>
        <p:grpSpPr>
          <a:xfrm>
            <a:off x="1258920" y="3860640"/>
            <a:ext cx="6680160" cy="642600"/>
            <a:chOff x="1258920" y="3860640"/>
            <a:chExt cx="6680160" cy="642600"/>
          </a:xfrm>
        </p:grpSpPr>
        <p:pic>
          <p:nvPicPr>
            <p:cNvPr id="293" name="9 Imagen" descr="Boton-redondo-griss.png"/>
            <p:cNvPicPr/>
            <p:nvPr/>
          </p:nvPicPr>
          <p:blipFill>
            <a:blip r:embed="rId3"/>
            <a:stretch/>
          </p:blipFill>
          <p:spPr>
            <a:xfrm>
              <a:off x="1258920" y="3894480"/>
              <a:ext cx="285480" cy="29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14 CuadroTexto"/>
            <p:cNvSpPr/>
            <p:nvPr/>
          </p:nvSpPr>
          <p:spPr>
            <a:xfrm>
              <a:off x="1581120" y="3860640"/>
              <a:ext cx="6357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Los Agentes atienden consultas telefónicas, por correo electrónico,  gestionan trámites telefónicos y reciben denuncias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5" name="15 Grupo"/>
          <p:cNvGrpSpPr/>
          <p:nvPr/>
        </p:nvGrpSpPr>
        <p:grpSpPr>
          <a:xfrm>
            <a:off x="1258920" y="4653000"/>
            <a:ext cx="6680160" cy="642600"/>
            <a:chOff x="1258920" y="4653000"/>
            <a:chExt cx="6680160" cy="642600"/>
          </a:xfrm>
        </p:grpSpPr>
        <p:pic>
          <p:nvPicPr>
            <p:cNvPr id="296" name="9 Imagen" descr="Boton-redondo-griss.png"/>
            <p:cNvPicPr/>
            <p:nvPr/>
          </p:nvPicPr>
          <p:blipFill>
            <a:blip r:embed="rId4"/>
            <a:stretch/>
          </p:blipFill>
          <p:spPr>
            <a:xfrm>
              <a:off x="1258920" y="4686840"/>
              <a:ext cx="285480" cy="29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14 CuadroTexto"/>
            <p:cNvSpPr/>
            <p:nvPr/>
          </p:nvSpPr>
          <p:spPr>
            <a:xfrm>
              <a:off x="1581120" y="4653000"/>
              <a:ext cx="6357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Cada Sección cuenta con un equipo de Referentes/Facilitadores (Agentes calificados)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1T16:54:15Z</dcterms:created>
  <dc:creator>Administrador</dc:creator>
  <dc:description/>
  <dc:language>en-US</dc:language>
  <cp:lastModifiedBy>User</cp:lastModifiedBy>
  <dcterms:modified xsi:type="dcterms:W3CDTF">2013-09-09T13:29:49Z</dcterms:modified>
  <cp:revision>231</cp:revision>
  <dc:subject/>
  <dc:title>Diapositiva 1</dc:title>
</cp:coreProperties>
</file>