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96B-BB5E-493A-94C1-84B2716808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417-388E-419D-8F9A-5F4E546922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0C8B-6668-43C0-9105-3FB3F76886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87560" y="866880"/>
            <a:ext cx="46274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6E58-ED48-43B2-A4FA-C75BDF3548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D1E3-DF41-45B7-A055-8B485BC169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144E-C7D9-49D9-AC0C-AC425A5ECA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1822-68CA-48D3-924B-5B61D304A0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C8E5-7D40-46C2-B98E-151A73A5F3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BA3-1048-4AC2-ACE7-E9696A348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7FC-B02A-4442-B14F-450B21DF86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392-8830-4C88-9EEF-1C52FE7244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7ACE-D693-4094-B38E-41A5E9B8DC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122-0D32-4E5F-AA4F-6D59FA7A3F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14240" y="1071720"/>
            <a:ext cx="807732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4357800"/>
            <a:ext cx="7000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Eladio Bobo Mar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Jefe de la Dependencia Regional de Gestión Tributaria de Castilla-La Man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</a:t>
            </a: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214280"/>
            <a:ext cx="75726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: Procedimientos de Verificación de Datos y Comprobación Limit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281160" y="2352600"/>
            <a:ext cx="4132080" cy="408456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Info-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Zúja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 y tram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toliquid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g45000zi</cp:lastModifiedBy>
  <dcterms:modified xsi:type="dcterms:W3CDTF">2013-08-14T10:28:25Z</dcterms:modified>
  <cp:revision>171</cp:revision>
  <dc:subject/>
  <dc:title>Presentación de PowerPoint</dc:title>
</cp:coreProperties>
</file>