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0.png" ContentType="image/png"/>
  <Override PartName="/ppt/media/image1.jpeg" ContentType="image/jpeg"/>
  <Override PartName="/ppt/media/image29.png" ContentType="image/png"/>
  <Override PartName="/ppt/media/image14.wmf" ContentType="image/x-wmf"/>
  <Override PartName="/ppt/media/image6.png" ContentType="image/png"/>
  <Override PartName="/ppt/media/image36.png" ContentType="image/png"/>
  <Override PartName="/ppt/media/image41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32.png" ContentType="image/png"/>
  <Override PartName="/ppt/media/image15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7.png" ContentType="image/png"/>
  <Override PartName="/ppt/media/image3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2"/>
          </p:nvPr>
        </p:nvSpPr>
        <p:spPr>
          <a:xfrm>
            <a:off x="385452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3"/>
          </p:nvPr>
        </p:nvSpPr>
        <p:spPr>
          <a:xfrm>
            <a:off x="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4"/>
          </p:nvPr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3CC1-FCB0-4C52-8AFC-E8D01C5ED30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C205-8A0E-4744-B494-B00B3BA665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ORT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0F76-9653-4607-BF5D-1382DF01AF1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93680" y="866880"/>
            <a:ext cx="4614840" cy="3471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06120" y="4734000"/>
            <a:ext cx="4987800" cy="44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1AFE-241F-48C1-ABE4-9560A40BA9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DCC2-F7F9-4F16-8810-1644830C3E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6B09-982F-4C1B-BA5A-78B192B0AA3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055E-0898-4639-AB36-F089BDF9E48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58DB-49D6-454A-83BA-3770A9A3D56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65EE-36BC-4155-BB77-22391A5E05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3 Marcador de número de diapositiva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4035-DCC9-43D9-AC0B-A6145FAF233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3 Marcador de número de diapositiva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F257-99FB-4321-836E-A219462AE3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4A25-C8EE-4E41-B090-939B42953C7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TRAPORT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3788-86D2-4CD7-AB8D-EE8F6BABC0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Javier Rodriguez (F00993WM)\presentaciones\plantilla AEAT\optimizada\plantilla-freehand-nueva-c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9" descr="C:\Javier Rodriguez (F00993WM)\presentaciones\plantilla AEAT\optimizada\plantilla-freehand-nueva-c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ftr" idx="1"/>
          </p:nvPr>
        </p:nvSpPr>
        <p:spPr>
          <a:xfrm>
            <a:off x="739800" y="6453000"/>
            <a:ext cx="44798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C:\Javier Rodriguez (F00993WM)\presentaciones\plantilla AEAT\optimizada\portadarrrrrr-copia-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785880" y="1500120"/>
            <a:ext cx="8076960" cy="283716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c6d5e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CONTROL MAS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n 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gencia Estatal de 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(ESPAÑ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1785960" y="50007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Times New Roman"/>
              </a:rPr>
              <a:t>EUROSOCIAL: “Visita de Intercambio de experiencia Sur-Sur entre Administraciones Tributarias sobre control Masivo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imes New Roman"/>
              </a:rPr>
              <a:t>Buenos Aires, 27 a 30 de agosto de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úmero Autoliquid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2000160" y="1528920"/>
            <a:ext cx="5477040" cy="497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3 Rectángulo"/>
          <p:cNvSpPr/>
          <p:nvPr/>
        </p:nvSpPr>
        <p:spPr>
          <a:xfrm>
            <a:off x="4429080" y="1857240"/>
            <a:ext cx="3071880" cy="214560"/>
          </a:xfrm>
          <a:prstGeom prst="rect">
            <a:avLst/>
          </a:prstGeom>
          <a:noFill/>
          <a:ln w="381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647640" y="1722600"/>
            <a:ext cx="7848720" cy="40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Tahoma"/>
              </a:rPr>
              <a:t>TRIBUTARIAS (TERRITORIALES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Comunidades Autónomas (Transmisiones patrimoniale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Entidades Municipales (Impuestos locale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Tahoma"/>
              </a:rPr>
              <a:t>NO TRIBUTARI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Seguridad Social (cuotas Seguridad Social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Banco de España (transacciones económicas con el exterior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Catastro (información inmobiliaria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000080" y="928800"/>
            <a:ext cx="750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INFORMACIÓN</a:t>
            </a:r>
            <a:r>
              <a:rPr b="1" i="1" lang="es-ES_tradnl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DE OTRAS ADMINIST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val 2"/>
          <p:cNvSpPr/>
          <p:nvPr/>
        </p:nvSpPr>
        <p:spPr>
          <a:xfrm>
            <a:off x="3160800" y="2220840"/>
            <a:ext cx="2387520" cy="2344680"/>
          </a:xfrm>
          <a:prstGeom prst="ellipse">
            <a:avLst/>
          </a:prstGeom>
          <a:gradFill rotWithShape="0">
            <a:gsLst>
              <a:gs pos="0">
                <a:srgbClr val="3a5698"/>
              </a:gs>
              <a:gs pos="100000">
                <a:srgbClr val="618ffd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"/>
          <p:cNvSpPr/>
          <p:nvPr/>
        </p:nvSpPr>
        <p:spPr>
          <a:xfrm>
            <a:off x="3908520" y="2994120"/>
            <a:ext cx="944640" cy="887400"/>
          </a:xfrm>
          <a:prstGeom prst="ellipse">
            <a:avLst/>
          </a:prstGeom>
          <a:gradFill rotWithShape="0">
            <a:gsLst>
              <a:gs pos="0">
                <a:srgbClr val="f0f0f0"/>
              </a:gs>
              <a:gs pos="100000">
                <a:srgbClr val="cecece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313080" y="2982960"/>
            <a:ext cx="21337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 Narrow"/>
              </a:rPr>
              <a:t>Sistema de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2832120" y="4672080"/>
            <a:ext cx="2504880" cy="1554480"/>
            <a:chOff x="2832120" y="4672080"/>
            <a:chExt cx="2504880" cy="1554480"/>
          </a:xfrm>
        </p:grpSpPr>
        <p:graphicFrame>
          <p:nvGraphicFramePr>
            <p:cNvPr id="149" name="Object 6"/>
            <p:cNvGraphicFramePr/>
            <p:nvPr/>
          </p:nvGraphicFramePr>
          <p:xfrm>
            <a:off x="3611520" y="4976640"/>
            <a:ext cx="876240" cy="91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1520" y="4976640"/>
                      <a:ext cx="876240" cy="91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7"/>
            <p:cNvSpPr/>
            <p:nvPr/>
          </p:nvSpPr>
          <p:spPr>
            <a:xfrm>
              <a:off x="2832120" y="5894280"/>
              <a:ext cx="2504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información exter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 flipV="1">
              <a:off x="4157640" y="4672080"/>
              <a:ext cx="5220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1801800" y="692280"/>
            <a:ext cx="2368440" cy="1551960"/>
            <a:chOff x="1801800" y="692280"/>
            <a:chExt cx="2368440" cy="1551960"/>
          </a:xfrm>
        </p:grpSpPr>
        <p:graphicFrame>
          <p:nvGraphicFramePr>
            <p:cNvPr id="154" name="Object 10"/>
            <p:cNvGraphicFramePr/>
            <p:nvPr/>
          </p:nvGraphicFramePr>
          <p:xfrm>
            <a:off x="3735360" y="692280"/>
            <a:ext cx="434880" cy="110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5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5360" y="692280"/>
                      <a:ext cx="434880" cy="110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Line 11"/>
            <p:cNvSpPr/>
            <p:nvPr/>
          </p:nvSpPr>
          <p:spPr>
            <a:xfrm>
              <a:off x="3970080" y="1839600"/>
              <a:ext cx="9540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1801800" y="841320"/>
              <a:ext cx="2092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sueldos, salari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13"/>
          <p:cNvGrpSpPr/>
          <p:nvPr/>
        </p:nvGrpSpPr>
        <p:grpSpPr>
          <a:xfrm>
            <a:off x="468360" y="2068560"/>
            <a:ext cx="2872800" cy="685800"/>
            <a:chOff x="468360" y="2068560"/>
            <a:chExt cx="2872800" cy="685800"/>
          </a:xfrm>
        </p:grpSpPr>
        <p:graphicFrame>
          <p:nvGraphicFramePr>
            <p:cNvPr id="159" name="Object 14"/>
            <p:cNvGraphicFramePr/>
            <p:nvPr/>
          </p:nvGraphicFramePr>
          <p:xfrm>
            <a:off x="2198520" y="2297160"/>
            <a:ext cx="936360" cy="403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98520" y="2297160"/>
                      <a:ext cx="93636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Line 15"/>
            <p:cNvSpPr/>
            <p:nvPr/>
          </p:nvSpPr>
          <p:spPr>
            <a:xfrm>
              <a:off x="2998800" y="2562480"/>
              <a:ext cx="342360" cy="19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6"/>
            <p:cNvSpPr/>
            <p:nvPr/>
          </p:nvSpPr>
          <p:spPr>
            <a:xfrm>
              <a:off x="468360" y="2068560"/>
              <a:ext cx="1828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rendimientos del c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7"/>
          <p:cNvGrpSpPr/>
          <p:nvPr/>
        </p:nvGrpSpPr>
        <p:grpSpPr>
          <a:xfrm>
            <a:off x="5622840" y="3059280"/>
            <a:ext cx="3557160" cy="771120"/>
            <a:chOff x="5622840" y="3059280"/>
            <a:chExt cx="3557160" cy="771120"/>
          </a:xfrm>
        </p:grpSpPr>
        <p:sp>
          <p:nvSpPr>
            <p:cNvPr id="164" name="Rectangle 18"/>
            <p:cNvSpPr/>
            <p:nvPr/>
          </p:nvSpPr>
          <p:spPr>
            <a:xfrm>
              <a:off x="7158240" y="3148200"/>
              <a:ext cx="2021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autoliquida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 flipH="1">
              <a:off x="5622840" y="3430800"/>
              <a:ext cx="60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20"/>
            <p:cNvGrpSpPr/>
            <p:nvPr/>
          </p:nvGrpSpPr>
          <p:grpSpPr>
            <a:xfrm>
              <a:off x="6457320" y="3059280"/>
              <a:ext cx="700560" cy="771120"/>
              <a:chOff x="6457320" y="3059280"/>
              <a:chExt cx="700560" cy="771120"/>
            </a:xfrm>
          </p:grpSpPr>
          <p:sp>
            <p:nvSpPr>
              <p:cNvPr id="167" name="Rectangle 21"/>
              <p:cNvSpPr/>
              <p:nvPr/>
            </p:nvSpPr>
            <p:spPr>
              <a:xfrm>
                <a:off x="6612840" y="3059280"/>
                <a:ext cx="545040" cy="68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22"/>
              <p:cNvSpPr/>
              <p:nvPr/>
            </p:nvSpPr>
            <p:spPr>
              <a:xfrm>
                <a:off x="6570000" y="3092040"/>
                <a:ext cx="545040" cy="68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23"/>
              <p:cNvSpPr/>
              <p:nvPr/>
            </p:nvSpPr>
            <p:spPr>
              <a:xfrm>
                <a:off x="6531840" y="3128760"/>
                <a:ext cx="545040" cy="68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Group 24"/>
              <p:cNvGrpSpPr/>
              <p:nvPr/>
            </p:nvGrpSpPr>
            <p:grpSpPr>
              <a:xfrm>
                <a:off x="6457320" y="3160800"/>
                <a:ext cx="563760" cy="669600"/>
                <a:chOff x="6457320" y="3160800"/>
                <a:chExt cx="563760" cy="669600"/>
              </a:xfrm>
            </p:grpSpPr>
            <p:sp>
              <p:nvSpPr>
                <p:cNvPr id="171" name="Rectangle 25"/>
                <p:cNvSpPr/>
                <p:nvPr/>
              </p:nvSpPr>
              <p:spPr>
                <a:xfrm>
                  <a:off x="6457320" y="3160800"/>
                  <a:ext cx="563760" cy="669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26"/>
                <p:cNvSpPr/>
                <p:nvPr/>
              </p:nvSpPr>
              <p:spPr>
                <a:xfrm>
                  <a:off x="6571440" y="3198240"/>
                  <a:ext cx="154080" cy="51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Rectangle 27"/>
                <p:cNvSpPr/>
                <p:nvPr/>
              </p:nvSpPr>
              <p:spPr>
                <a:xfrm>
                  <a:off x="6932160" y="3193560"/>
                  <a:ext cx="52560" cy="60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AutoShape 28"/>
                <p:cNvSpPr/>
                <p:nvPr/>
              </p:nvSpPr>
              <p:spPr>
                <a:xfrm>
                  <a:off x="6493680" y="3290400"/>
                  <a:ext cx="491040" cy="11988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AutoShape 29"/>
                <p:cNvSpPr/>
                <p:nvPr/>
              </p:nvSpPr>
              <p:spPr>
                <a:xfrm>
                  <a:off x="6495120" y="3447000"/>
                  <a:ext cx="491040" cy="1897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AutoShape 30"/>
                <p:cNvSpPr/>
                <p:nvPr/>
              </p:nvSpPr>
              <p:spPr>
                <a:xfrm>
                  <a:off x="6496920" y="3672360"/>
                  <a:ext cx="490680" cy="1296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31"/>
                <p:cNvSpPr/>
                <p:nvPr/>
              </p:nvSpPr>
              <p:spPr>
                <a:xfrm>
                  <a:off x="6830640" y="3291480"/>
                  <a:ext cx="0" cy="378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32"/>
                <p:cNvSpPr/>
                <p:nvPr/>
              </p:nvSpPr>
              <p:spPr>
                <a:xfrm>
                  <a:off x="6841800" y="3335400"/>
                  <a:ext cx="1364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33"/>
                <p:cNvSpPr/>
                <p:nvPr/>
              </p:nvSpPr>
              <p:spPr>
                <a:xfrm>
                  <a:off x="6516000" y="3201840"/>
                  <a:ext cx="0" cy="2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34"/>
                <p:cNvSpPr/>
                <p:nvPr/>
              </p:nvSpPr>
              <p:spPr>
                <a:xfrm>
                  <a:off x="6527160" y="3325680"/>
                  <a:ext cx="30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35"/>
                <p:cNvSpPr/>
                <p:nvPr/>
              </p:nvSpPr>
              <p:spPr>
                <a:xfrm>
                  <a:off x="6528600" y="335880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36"/>
                <p:cNvSpPr/>
                <p:nvPr/>
              </p:nvSpPr>
              <p:spPr>
                <a:xfrm>
                  <a:off x="6768720" y="3708000"/>
                  <a:ext cx="1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37"/>
                <p:cNvSpPr/>
                <p:nvPr/>
              </p:nvSpPr>
              <p:spPr>
                <a:xfrm>
                  <a:off x="6771960" y="3193560"/>
                  <a:ext cx="123840" cy="608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38"/>
                <p:cNvSpPr/>
                <p:nvPr/>
              </p:nvSpPr>
              <p:spPr>
                <a:xfrm>
                  <a:off x="6531840" y="338688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39"/>
                <p:cNvSpPr/>
                <p:nvPr/>
              </p:nvSpPr>
              <p:spPr>
                <a:xfrm>
                  <a:off x="6771960" y="3726360"/>
                  <a:ext cx="188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40"/>
                <p:cNvSpPr/>
                <p:nvPr/>
              </p:nvSpPr>
              <p:spPr>
                <a:xfrm>
                  <a:off x="6778080" y="3771360"/>
                  <a:ext cx="1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Line 41"/>
                <p:cNvSpPr/>
                <p:nvPr/>
              </p:nvSpPr>
              <p:spPr>
                <a:xfrm>
                  <a:off x="6749640" y="3679560"/>
                  <a:ext cx="0" cy="11988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Line 42"/>
                <p:cNvSpPr/>
                <p:nvPr/>
              </p:nvSpPr>
              <p:spPr>
                <a:xfrm>
                  <a:off x="6506280" y="3705480"/>
                  <a:ext cx="2332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Line 43"/>
                <p:cNvSpPr/>
                <p:nvPr/>
              </p:nvSpPr>
              <p:spPr>
                <a:xfrm>
                  <a:off x="6504840" y="3494520"/>
                  <a:ext cx="4716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Line 44"/>
                <p:cNvSpPr/>
                <p:nvPr/>
              </p:nvSpPr>
              <p:spPr>
                <a:xfrm>
                  <a:off x="6504840" y="3536280"/>
                  <a:ext cx="4716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45"/>
                <p:cNvSpPr/>
                <p:nvPr/>
              </p:nvSpPr>
              <p:spPr>
                <a:xfrm>
                  <a:off x="6504840" y="3583080"/>
                  <a:ext cx="4716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46"/>
                <p:cNvSpPr/>
                <p:nvPr/>
              </p:nvSpPr>
              <p:spPr>
                <a:xfrm>
                  <a:off x="6557040" y="347616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Line 47"/>
                <p:cNvSpPr/>
                <p:nvPr/>
              </p:nvSpPr>
              <p:spPr>
                <a:xfrm>
                  <a:off x="6558840" y="346392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Line 48"/>
                <p:cNvSpPr/>
                <p:nvPr/>
              </p:nvSpPr>
              <p:spPr>
                <a:xfrm>
                  <a:off x="6557040" y="352296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49"/>
                <p:cNvSpPr/>
                <p:nvPr/>
              </p:nvSpPr>
              <p:spPr>
                <a:xfrm>
                  <a:off x="6558840" y="351072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50"/>
                <p:cNvSpPr/>
                <p:nvPr/>
              </p:nvSpPr>
              <p:spPr>
                <a:xfrm>
                  <a:off x="6558840" y="356724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Line 51"/>
                <p:cNvSpPr/>
                <p:nvPr/>
              </p:nvSpPr>
              <p:spPr>
                <a:xfrm>
                  <a:off x="6557040" y="355464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Line 52"/>
                <p:cNvSpPr/>
                <p:nvPr/>
              </p:nvSpPr>
              <p:spPr>
                <a:xfrm>
                  <a:off x="6564960" y="360720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Line 53"/>
                <p:cNvSpPr/>
                <p:nvPr/>
              </p:nvSpPr>
              <p:spPr>
                <a:xfrm>
                  <a:off x="6563520" y="359496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Line 54"/>
                <p:cNvSpPr/>
                <p:nvPr/>
              </p:nvSpPr>
              <p:spPr>
                <a:xfrm>
                  <a:off x="6756120" y="3753000"/>
                  <a:ext cx="2235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1" name="Group 55"/>
          <p:cNvGrpSpPr/>
          <p:nvPr/>
        </p:nvGrpSpPr>
        <p:grpSpPr>
          <a:xfrm>
            <a:off x="5510160" y="4010040"/>
            <a:ext cx="3332160" cy="1293840"/>
            <a:chOff x="5510160" y="4010040"/>
            <a:chExt cx="3332160" cy="1293840"/>
          </a:xfrm>
        </p:grpSpPr>
        <p:graphicFrame>
          <p:nvGraphicFramePr>
            <p:cNvPr id="202" name="Object 56"/>
            <p:cNvGraphicFramePr/>
            <p:nvPr/>
          </p:nvGraphicFramePr>
          <p:xfrm>
            <a:off x="6591240" y="4260960"/>
            <a:ext cx="841320" cy="1042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3" name="Object 5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91240" y="4260960"/>
                      <a:ext cx="841320" cy="10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Line 57"/>
            <p:cNvSpPr/>
            <p:nvPr/>
          </p:nvSpPr>
          <p:spPr>
            <a:xfrm flipH="1" flipV="1">
              <a:off x="5510160" y="4010040"/>
              <a:ext cx="914400" cy="45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58"/>
            <p:cNvSpPr/>
            <p:nvPr/>
          </p:nvSpPr>
          <p:spPr>
            <a:xfrm>
              <a:off x="7165800" y="4638960"/>
              <a:ext cx="1676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Catastro inmobilia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59"/>
          <p:cNvGrpSpPr/>
          <p:nvPr/>
        </p:nvGrpSpPr>
        <p:grpSpPr>
          <a:xfrm>
            <a:off x="498600" y="3019320"/>
            <a:ext cx="2622600" cy="1657080"/>
            <a:chOff x="498600" y="3019320"/>
            <a:chExt cx="2622600" cy="1657080"/>
          </a:xfrm>
        </p:grpSpPr>
        <p:sp>
          <p:nvSpPr>
            <p:cNvPr id="207" name="Rectangle 60"/>
            <p:cNvSpPr/>
            <p:nvPr/>
          </p:nvSpPr>
          <p:spPr>
            <a:xfrm>
              <a:off x="498600" y="3857400"/>
              <a:ext cx="19004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rendimientos de actividades económ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Object 61" descr=""/>
            <p:cNvPicPr/>
            <p:nvPr/>
          </p:nvPicPr>
          <p:blipFill>
            <a:blip r:embed="rId9"/>
            <a:stretch/>
          </p:blipFill>
          <p:spPr>
            <a:xfrm>
              <a:off x="1463760" y="3019320"/>
              <a:ext cx="10670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62"/>
            <p:cNvSpPr/>
            <p:nvPr/>
          </p:nvSpPr>
          <p:spPr>
            <a:xfrm flipV="1">
              <a:off x="2592720" y="3417840"/>
              <a:ext cx="5284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63"/>
          <p:cNvGrpSpPr/>
          <p:nvPr/>
        </p:nvGrpSpPr>
        <p:grpSpPr>
          <a:xfrm>
            <a:off x="925560" y="4273560"/>
            <a:ext cx="2558520" cy="2071440"/>
            <a:chOff x="925560" y="4273560"/>
            <a:chExt cx="2558520" cy="2071440"/>
          </a:xfrm>
        </p:grpSpPr>
        <p:sp>
          <p:nvSpPr>
            <p:cNvPr id="211" name="Rectangle 64"/>
            <p:cNvSpPr/>
            <p:nvPr/>
          </p:nvSpPr>
          <p:spPr>
            <a:xfrm>
              <a:off x="925560" y="5526000"/>
              <a:ext cx="20732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declaración informativa de compras y ven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65"/>
            <p:cNvSpPr/>
            <p:nvPr/>
          </p:nvSpPr>
          <p:spPr>
            <a:xfrm flipV="1">
              <a:off x="2630160" y="4273560"/>
              <a:ext cx="853920" cy="86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Object 66" descr=""/>
            <p:cNvPicPr/>
            <p:nvPr/>
          </p:nvPicPr>
          <p:blipFill>
            <a:blip r:embed="rId10"/>
            <a:stretch/>
          </p:blipFill>
          <p:spPr>
            <a:xfrm>
              <a:off x="1604880" y="4870080"/>
              <a:ext cx="855360" cy="68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Group 67"/>
          <p:cNvGrpSpPr/>
          <p:nvPr/>
        </p:nvGrpSpPr>
        <p:grpSpPr>
          <a:xfrm>
            <a:off x="5522760" y="4506840"/>
            <a:ext cx="3352680" cy="1811160"/>
            <a:chOff x="5522760" y="4506840"/>
            <a:chExt cx="3352680" cy="1811160"/>
          </a:xfrm>
        </p:grpSpPr>
        <p:sp>
          <p:nvSpPr>
            <p:cNvPr id="215" name="Line 68"/>
            <p:cNvSpPr/>
            <p:nvPr/>
          </p:nvSpPr>
          <p:spPr>
            <a:xfrm flipH="1" flipV="1">
              <a:off x="5522760" y="4506840"/>
              <a:ext cx="65736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6" name="Object 69" descr=""/>
            <p:cNvPicPr/>
            <p:nvPr/>
          </p:nvPicPr>
          <p:blipFill>
            <a:blip r:embed="rId11"/>
            <a:stretch/>
          </p:blipFill>
          <p:spPr>
            <a:xfrm flipH="1" rot="10800000">
              <a:off x="6329880" y="5672160"/>
              <a:ext cx="6724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70"/>
            <p:cNvSpPr/>
            <p:nvPr/>
          </p:nvSpPr>
          <p:spPr>
            <a:xfrm>
              <a:off x="6701040" y="5746680"/>
              <a:ext cx="2174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   </a:t>
              </a: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comercio exter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71"/>
          <p:cNvGrpSpPr/>
          <p:nvPr/>
        </p:nvGrpSpPr>
        <p:grpSpPr>
          <a:xfrm>
            <a:off x="4572360" y="941400"/>
            <a:ext cx="2787120" cy="2025360"/>
            <a:chOff x="4572360" y="941400"/>
            <a:chExt cx="2787120" cy="2025360"/>
          </a:xfrm>
        </p:grpSpPr>
        <p:sp>
          <p:nvSpPr>
            <p:cNvPr id="219" name="Rectangle 72"/>
            <p:cNvSpPr/>
            <p:nvPr/>
          </p:nvSpPr>
          <p:spPr>
            <a:xfrm>
              <a:off x="5001840" y="941400"/>
              <a:ext cx="235764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retroali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Group 73"/>
            <p:cNvGrpSpPr/>
            <p:nvPr/>
          </p:nvGrpSpPr>
          <p:grpSpPr>
            <a:xfrm>
              <a:off x="4572360" y="1507680"/>
              <a:ext cx="1427400" cy="1459080"/>
              <a:chOff x="4572360" y="1507680"/>
              <a:chExt cx="1427400" cy="1459080"/>
            </a:xfrm>
          </p:grpSpPr>
          <p:sp>
            <p:nvSpPr>
              <p:cNvPr id="221" name="AutoShape 74"/>
              <p:cNvSpPr/>
              <p:nvPr/>
            </p:nvSpPr>
            <p:spPr>
              <a:xfrm rot="2265600">
                <a:off x="4816080" y="1678320"/>
                <a:ext cx="939960" cy="1117440"/>
              </a:xfrm>
              <a:custGeom>
                <a:avLst/>
                <a:gdLst>
                  <a:gd name="textAreaLeft" fmla="*/ 0 w 939960"/>
                  <a:gd name="textAreaRight" fmla="*/ 940320 w 939960"/>
                  <a:gd name="textAreaTop" fmla="*/ 0 h 1117440"/>
                  <a:gd name="textAreaBottom" fmla="*/ 836640 h 1117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68" y="17968"/>
                    </a:moveTo>
                    <a:cubicBezTo>
                      <a:pt x="1176" y="16011"/>
                      <a:pt x="183" y="13453"/>
                      <a:pt x="183" y="10800"/>
                    </a:cubicBezTo>
                    <a:cubicBezTo>
                      <a:pt x="183" y="4936"/>
                      <a:pt x="4936" y="183"/>
                      <a:pt x="10800" y="183"/>
                    </a:cubicBezTo>
                    <a:cubicBezTo>
                      <a:pt x="16663" y="183"/>
                      <a:pt x="21417" y="4936"/>
                      <a:pt x="21417" y="10800"/>
                    </a:cubicBezTo>
                    <a:cubicBezTo>
                      <a:pt x="21417" y="13453"/>
                      <a:pt x="20423" y="16011"/>
                      <a:pt x="18631" y="17968"/>
                    </a:cubicBezTo>
                    <a:lnTo>
                      <a:pt x="18766" y="18092"/>
                    </a:lnTo>
                    <a:cubicBezTo>
                      <a:pt x="20589" y="16100"/>
                      <a:pt x="21600" y="1349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499"/>
                      <a:pt x="1010" y="16100"/>
                      <a:pt x="2833" y="18092"/>
                    </a:cubicBez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75"/>
              <p:cNvSpPr/>
              <p:nvPr/>
            </p:nvSpPr>
            <p:spPr>
              <a:xfrm flipH="1">
                <a:off x="4782600" y="2211480"/>
                <a:ext cx="1260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" name="Group 76"/>
          <p:cNvGrpSpPr/>
          <p:nvPr/>
        </p:nvGrpSpPr>
        <p:grpSpPr>
          <a:xfrm>
            <a:off x="2477880" y="2906640"/>
            <a:ext cx="3935520" cy="947880"/>
            <a:chOff x="2477880" y="2906640"/>
            <a:chExt cx="3935520" cy="947880"/>
          </a:xfrm>
        </p:grpSpPr>
        <p:sp>
          <p:nvSpPr>
            <p:cNvPr id="224" name="Rectangle 77"/>
            <p:cNvSpPr/>
            <p:nvPr/>
          </p:nvSpPr>
          <p:spPr>
            <a:xfrm>
              <a:off x="2477880" y="2906640"/>
              <a:ext cx="3935520" cy="4269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3333cc"/>
                  </a:solidFill>
                  <a:latin typeface="Times New Roman"/>
                </a:rPr>
                <a:t>datos anuales procesado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78"/>
            <p:cNvSpPr/>
            <p:nvPr/>
          </p:nvSpPr>
          <p:spPr>
            <a:xfrm>
              <a:off x="2526840" y="3427560"/>
              <a:ext cx="3787920" cy="4269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3333cc"/>
                  </a:solidFill>
                  <a:latin typeface="Times New Roman"/>
                </a:rPr>
                <a:t>3.374.315.558 de registr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rcRect l="0" t="7939" r="517" b="7393"/>
          <a:stretch/>
        </p:blipFill>
        <p:spPr>
          <a:xfrm>
            <a:off x="428760" y="571680"/>
            <a:ext cx="85010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-360" y="1357200"/>
            <a:ext cx="871524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istro de todas las declar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cruzan informáticamente y se controlan la totalidad de las declaraciones registradas: especial énfasis en las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volucione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lección de declaraciones incorrec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287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rr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287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la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287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tección de discrepancias: calificación del riesgo fis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mitación informática de los procedimientos de control: automatización y estandarización de las actu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traer da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713880"/>
            <a:ext cx="8076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3. HERRAMENTA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533520" y="571680"/>
            <a:ext cx="8076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CARACTERÍSTICA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14240" y="1428840"/>
            <a:ext cx="75726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lidad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cruzan y comprueban TODAS las declar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ácter parcial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controla una declaración concreta o un presunto incumplimiento, no la situación tributaria general. Es decir, discrepancias concretas relativas  a un solo impuesto o un solo perio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ácter abreviad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rapidez): se utilizan facultades y medios de prueba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imitad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por lo que las actuaciones no se extienden much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competencias son reducidas, en actividades económicas no se pue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probar la economía real (no se sale del despach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probar la economía financiera (movimientos bancari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probar la contabilidad mercan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533520" y="571680"/>
            <a:ext cx="8076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CARACTERÍSTICA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57120" y="1428840"/>
            <a:ext cx="8501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mediatez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el control se acerca al momento del incumplimiento (último año o perio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uaciones normalizada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standarizadas) Se basan en el uso de aplicaciones informáticas y documentos pro-for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ácter masiv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el número de actuaciones de control se extiende a un gran número de contribuy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relación con las actuaciones “preventiv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”: “programas de ayuda” para la confección de declaraciones, uso del “borrador” de declaración, presentación telemática obligatori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La mejor forma de controlar los errores es impedir que se produz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2 Título"/>
          <p:cNvGrpSpPr/>
          <p:nvPr/>
        </p:nvGrpSpPr>
        <p:grpSpPr>
          <a:xfrm>
            <a:off x="328680" y="596880"/>
            <a:ext cx="8480520" cy="897120"/>
            <a:chOff x="328680" y="596880"/>
            <a:chExt cx="8480520" cy="897120"/>
          </a:xfrm>
        </p:grpSpPr>
        <p:pic>
          <p:nvPicPr>
            <p:cNvPr id="237" name="2 Título" descr=""/>
            <p:cNvPicPr/>
            <p:nvPr/>
          </p:nvPicPr>
          <p:blipFill>
            <a:blip r:embed="rId1"/>
            <a:stretch/>
          </p:blipFill>
          <p:spPr>
            <a:xfrm>
              <a:off x="328680" y="596880"/>
              <a:ext cx="848052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57200" y="714240"/>
              <a:ext cx="8229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cc"/>
                  </a:solidFill>
                  <a:latin typeface="Arial"/>
                </a:rPr>
                <a:t>Tipos de control audi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CONTROL EXTEN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CONTROL INTEN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25 Marcador de contenido" descr=""/>
          <p:cNvPicPr/>
          <p:nvPr/>
        </p:nvPicPr>
        <p:blipFill>
          <a:blip r:embed="rId2"/>
          <a:stretch/>
        </p:blipFill>
        <p:spPr>
          <a:xfrm>
            <a:off x="347760" y="2279520"/>
            <a:ext cx="4138560" cy="4370400"/>
          </a:xfrm>
          <a:prstGeom prst="rect">
            <a:avLst/>
          </a:prstGeom>
          <a:ln w="0">
            <a:noFill/>
          </a:ln>
        </p:spPr>
      </p:pic>
      <p:pic>
        <p:nvPicPr>
          <p:cNvPr id="242" name="26 Marcador de contenido" descr=""/>
          <p:cNvPicPr/>
          <p:nvPr/>
        </p:nvPicPr>
        <p:blipFill>
          <a:blip r:embed="rId3"/>
          <a:stretch/>
        </p:blipFill>
        <p:spPr>
          <a:xfrm>
            <a:off x="4591080" y="2236680"/>
            <a:ext cx="417492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533520" y="571680"/>
            <a:ext cx="8076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VENTAJA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85840" y="121428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icacia y eficie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el uso de la informática y el carácter normalizado de las actuaciones exige una menor dedicación del personal más cualificado, que se puede de dedicar a controlar formas más complejas de frau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omogeneidad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las actuaciones en todo el terri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ecto directo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yor índice de cobro de la deuda, por la inmediatez de las actuaciones de contr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ecto diferido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nduce la conducta del mismo contribuyente  en el futu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ecto inducido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bre el conjunto de contribuyentes): la mera existencia del control masivo favorece el cumplimiento voluntario, ante la certeza de la actuación de la Administración en caso de incumpl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mplementari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(no sustitutivo) del control intensivo:  permite llegar donde no puede llegar la actuación selectiva de la Inspección. Con ello, se cierra el “ciclo de control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33520" y="500040"/>
            <a:ext cx="8076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ALGUNAS BUENAS PRÁCTICAS en la A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285840" y="100008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Dos herramientas informát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fo-clase de contribuyent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corporación de expedientes (declara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lificación (cruce de da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rramienta de selección:  en función del “riesgo fiscal normalizado”: sistema de FILTROS (definición de una lista de riesgos fiscales fij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rramienta para la tramitación “guiada” de expedi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ón directiva (decisiones en devolu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újar (sistema de “almacén de datos” – “data warehouse” 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mite selecciones específicas en base a riesgos “no normalizad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ne infinidad de posibilidades: permite la explotación de toda la información disponible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“a demand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conveniente: no permite tramitar expedientes desde la aplic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exión entre aplicaciones (envío de colectivos al Info-clase desde Zújar: “refinamiento de colectivo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500120" y="57168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PILARES FUNDAMENTALE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 Elipse"/>
          <p:cNvSpPr/>
          <p:nvPr/>
        </p:nvSpPr>
        <p:spPr>
          <a:xfrm>
            <a:off x="2071800" y="1357200"/>
            <a:ext cx="5000400" cy="157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Registro de contribuyen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6 Elipse"/>
          <p:cNvSpPr/>
          <p:nvPr/>
        </p:nvSpPr>
        <p:spPr>
          <a:xfrm>
            <a:off x="4714920" y="4000680"/>
            <a:ext cx="4214880" cy="19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ERRAMIENTAS INFORMÁ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cru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7 Elipse"/>
          <p:cNvSpPr/>
          <p:nvPr/>
        </p:nvSpPr>
        <p:spPr>
          <a:xfrm>
            <a:off x="285840" y="4000680"/>
            <a:ext cx="4286160" cy="1857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claraciones inform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12 Rectángulo"/>
          <p:cNvSpPr/>
          <p:nvPr/>
        </p:nvSpPr>
        <p:spPr>
          <a:xfrm>
            <a:off x="571680" y="2928960"/>
            <a:ext cx="8001000" cy="1000080"/>
          </a:xfrm>
          <a:prstGeom prst="rect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 NORMATIVO: ORGANIZACIÓN ADMINISRATIVA Y TRIBUT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entaj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Uniformidad en la definición 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gilidad proced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esventaj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riterios diferentes de s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enor flex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INFO-CL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200"/>
            </a:br>
            <a:r>
              <a:rPr b="1" lang="es-ES" sz="22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1" descr=""/>
          <p:cNvPicPr/>
          <p:nvPr/>
        </p:nvPicPr>
        <p:blipFill>
          <a:blip r:embed="rId1"/>
          <a:stretch/>
        </p:blipFill>
        <p:spPr>
          <a:xfrm>
            <a:off x="692280" y="1600200"/>
            <a:ext cx="7759440" cy="4525920"/>
          </a:xfrm>
          <a:prstGeom prst="rect">
            <a:avLst/>
          </a:prstGeom>
          <a:ln w="0">
            <a:noFill/>
          </a:ln>
        </p:spPr>
      </p:pic>
      <p:sp>
        <p:nvSpPr>
          <p:cNvPr id="253" name="6 Rectángulo"/>
          <p:cNvSpPr/>
          <p:nvPr/>
        </p:nvSpPr>
        <p:spPr>
          <a:xfrm>
            <a:off x="1785960" y="2643120"/>
            <a:ext cx="3857760" cy="14292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4 Flecha abajo"/>
          <p:cNvSpPr/>
          <p:nvPr/>
        </p:nvSpPr>
        <p:spPr>
          <a:xfrm>
            <a:off x="6786720" y="2571840"/>
            <a:ext cx="21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5 Flecha abajo"/>
          <p:cNvSpPr/>
          <p:nvPr/>
        </p:nvSpPr>
        <p:spPr>
          <a:xfrm>
            <a:off x="2428920" y="2571840"/>
            <a:ext cx="21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7 Flecha abajo"/>
          <p:cNvSpPr/>
          <p:nvPr/>
        </p:nvSpPr>
        <p:spPr>
          <a:xfrm>
            <a:off x="7715160" y="2571840"/>
            <a:ext cx="21456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7477200" cy="4525920"/>
          </a:xfrm>
          <a:prstGeom prst="rect">
            <a:avLst/>
          </a:prstGeom>
          <a:ln w="0">
            <a:noFill/>
          </a:ln>
        </p:spPr>
      </p:pic>
      <p:sp>
        <p:nvSpPr>
          <p:cNvPr id="259" name="3 Rectángulo"/>
          <p:cNvSpPr/>
          <p:nvPr/>
        </p:nvSpPr>
        <p:spPr>
          <a:xfrm>
            <a:off x="3286080" y="2357280"/>
            <a:ext cx="2571840" cy="357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771480" y="1600200"/>
            <a:ext cx="7601040" cy="4525920"/>
          </a:xfrm>
          <a:prstGeom prst="rect">
            <a:avLst/>
          </a:prstGeom>
          <a:ln w="0">
            <a:noFill/>
          </a:ln>
        </p:spPr>
      </p:pic>
      <p:sp>
        <p:nvSpPr>
          <p:cNvPr id="262" name="5 Rectángulo"/>
          <p:cNvSpPr/>
          <p:nvPr/>
        </p:nvSpPr>
        <p:spPr>
          <a:xfrm>
            <a:off x="1071720" y="3929040"/>
            <a:ext cx="3214440" cy="12859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4 Rectángulo"/>
          <p:cNvSpPr/>
          <p:nvPr/>
        </p:nvSpPr>
        <p:spPr>
          <a:xfrm>
            <a:off x="2643120" y="3000240"/>
            <a:ext cx="3714840" cy="14292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6 Rectángulo"/>
          <p:cNvSpPr/>
          <p:nvPr/>
        </p:nvSpPr>
        <p:spPr>
          <a:xfrm>
            <a:off x="1071720" y="2500200"/>
            <a:ext cx="5357520" cy="285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7 Flecha derecha"/>
          <p:cNvSpPr/>
          <p:nvPr/>
        </p:nvSpPr>
        <p:spPr>
          <a:xfrm>
            <a:off x="642960" y="350028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812880" y="1600200"/>
            <a:ext cx="7518240" cy="4525920"/>
          </a:xfrm>
          <a:prstGeom prst="rect">
            <a:avLst/>
          </a:prstGeom>
          <a:ln w="0">
            <a:noFill/>
          </a:ln>
        </p:spPr>
      </p:pic>
      <p:sp>
        <p:nvSpPr>
          <p:cNvPr id="268" name="5 Rectángulo"/>
          <p:cNvSpPr/>
          <p:nvPr/>
        </p:nvSpPr>
        <p:spPr>
          <a:xfrm>
            <a:off x="2571840" y="3000240"/>
            <a:ext cx="4357440" cy="21456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6 Rectángulo"/>
          <p:cNvSpPr/>
          <p:nvPr/>
        </p:nvSpPr>
        <p:spPr>
          <a:xfrm>
            <a:off x="1000080" y="4000680"/>
            <a:ext cx="4071960" cy="857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7 Rectángulo"/>
          <p:cNvSpPr/>
          <p:nvPr/>
        </p:nvSpPr>
        <p:spPr>
          <a:xfrm>
            <a:off x="928800" y="2571840"/>
            <a:ext cx="5357880" cy="214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8 Flecha derecha"/>
          <p:cNvSpPr/>
          <p:nvPr/>
        </p:nvSpPr>
        <p:spPr>
          <a:xfrm>
            <a:off x="500040" y="350028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(XVI)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865080" y="1600200"/>
            <a:ext cx="7413840" cy="4525920"/>
          </a:xfrm>
          <a:prstGeom prst="rect">
            <a:avLst/>
          </a:prstGeom>
          <a:ln w="0">
            <a:noFill/>
          </a:ln>
        </p:spPr>
      </p:pic>
      <p:sp>
        <p:nvSpPr>
          <p:cNvPr id="274" name="5 Rectángulo"/>
          <p:cNvSpPr/>
          <p:nvPr/>
        </p:nvSpPr>
        <p:spPr>
          <a:xfrm>
            <a:off x="2143080" y="2428920"/>
            <a:ext cx="2714760" cy="21420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7493040" cy="45259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7599240" cy="4525920"/>
          </a:xfrm>
          <a:prstGeom prst="rect">
            <a:avLst/>
          </a:prstGeom>
          <a:ln w="0">
            <a:noFill/>
          </a:ln>
        </p:spPr>
      </p:pic>
      <p:sp>
        <p:nvSpPr>
          <p:cNvPr id="278" name="4 Rectángulo"/>
          <p:cNvSpPr/>
          <p:nvPr/>
        </p:nvSpPr>
        <p:spPr>
          <a:xfrm>
            <a:off x="6500880" y="2143080"/>
            <a:ext cx="1714320" cy="357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2 Título"/>
          <p:cNvSpPr/>
          <p:nvPr/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752400" y="1600200"/>
            <a:ext cx="7639200" cy="4525920"/>
          </a:xfrm>
          <a:prstGeom prst="rect">
            <a:avLst/>
          </a:prstGeom>
          <a:ln w="0">
            <a:noFill/>
          </a:ln>
        </p:spPr>
      </p:pic>
      <p:sp>
        <p:nvSpPr>
          <p:cNvPr id="281" name="3 Rectángulo"/>
          <p:cNvSpPr/>
          <p:nvPr/>
        </p:nvSpPr>
        <p:spPr>
          <a:xfrm>
            <a:off x="6572160" y="2214720"/>
            <a:ext cx="1643040" cy="357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OTIVACIÓN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671400" y="1830240"/>
            <a:ext cx="7801200" cy="4067280"/>
          </a:xfrm>
          <a:prstGeom prst="rect">
            <a:avLst/>
          </a:prstGeom>
          <a:ln w="0">
            <a:noFill/>
          </a:ln>
        </p:spPr>
      </p:pic>
      <p:sp>
        <p:nvSpPr>
          <p:cNvPr id="285" name="4 Flecha izquierda"/>
          <p:cNvSpPr/>
          <p:nvPr/>
        </p:nvSpPr>
        <p:spPr>
          <a:xfrm>
            <a:off x="7858080" y="50720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5 Flecha izquierda"/>
          <p:cNvSpPr/>
          <p:nvPr/>
        </p:nvSpPr>
        <p:spPr>
          <a:xfrm>
            <a:off x="7858080" y="342900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12"/>
          <p:cNvSpPr/>
          <p:nvPr/>
        </p:nvSpPr>
        <p:spPr>
          <a:xfrm>
            <a:off x="3452760" y="4019400"/>
            <a:ext cx="0" cy="0"/>
          </a:xfrm>
          <a:prstGeom prst="line">
            <a:avLst/>
          </a:prstGeom>
          <a:ln w="1062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4784760" y="4148280"/>
            <a:ext cx="1440" cy="0"/>
          </a:xfrm>
          <a:prstGeom prst="line">
            <a:avLst/>
          </a:prstGeom>
          <a:ln w="1062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3"/>
          <p:cNvSpPr/>
          <p:nvPr/>
        </p:nvSpPr>
        <p:spPr>
          <a:xfrm>
            <a:off x="938160" y="1285920"/>
            <a:ext cx="4419720" cy="4357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776240" y="1743120"/>
            <a:ext cx="25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  <a:ea typeface="Arial"/>
              </a:rPr>
              <a:t>CENSO DE OBLIG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1700280" y="2357280"/>
            <a:ext cx="289548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233440" y="274464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CENSO DE EMPRESARI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PROFESIONA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Y RETEN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2233440" y="3728880"/>
            <a:ext cx="1143000" cy="10670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462040" y="41194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R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2995560" y="40813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RE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4357800" y="1557000"/>
            <a:ext cx="1214280" cy="2998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6072120" y="2286000"/>
            <a:ext cx="259092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Empresarios, profesionales y retenedores en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Otras personas jurídicas que realizan AIB’s sujetas al 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No residentes con establecimiento perman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Entidades Atribución Rentas constituidas en el extranjero con presencia en territorio españ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No establecidos, sujetos pasivos 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Socios, Herederos y partícipes en 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5715000" y="2209680"/>
            <a:ext cx="304920" cy="3862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5120 h 3862440"/>
              <a:gd name="textAreaBottom" fmla="*/ 3757320 h 386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1"/>
                  <a:pt x="10800" y="1882"/>
                </a:cubicBezTo>
                <a:lnTo>
                  <a:pt x="10800" y="8918"/>
                </a:lnTo>
                <a:cubicBezTo>
                  <a:pt x="10800" y="9859"/>
                  <a:pt x="5400" y="10800"/>
                  <a:pt x="0" y="10800"/>
                </a:cubicBezTo>
                <a:cubicBezTo>
                  <a:pt x="5400" y="10800"/>
                  <a:pt x="10800" y="11741"/>
                  <a:pt x="10800" y="12682"/>
                </a:cubicBezTo>
                <a:lnTo>
                  <a:pt x="10800" y="19718"/>
                </a:lnTo>
                <a:cubicBezTo>
                  <a:pt x="10800" y="2065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3886200" y="3710160"/>
            <a:ext cx="1828800" cy="2142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428760" y="491328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Operadores económ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que realizan entregas y adquisi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intracomunita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3605040" y="4643280"/>
            <a:ext cx="924120" cy="7099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7"/>
          <p:cNvSpPr/>
          <p:nvPr/>
        </p:nvSpPr>
        <p:spPr>
          <a:xfrm>
            <a:off x="3071880" y="3728880"/>
            <a:ext cx="60948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GG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3571920" y="4110120"/>
            <a:ext cx="160020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5000760" y="4800600"/>
            <a:ext cx="97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Grandes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0"/>
          <p:cNvSpPr/>
          <p:nvPr/>
        </p:nvSpPr>
        <p:spPr>
          <a:xfrm rot="20843400">
            <a:off x="4113360" y="143676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Sin restric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1"/>
          <p:cNvSpPr/>
          <p:nvPr/>
        </p:nvSpPr>
        <p:spPr>
          <a:xfrm>
            <a:off x="5715000" y="1066680"/>
            <a:ext cx="285840" cy="1005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34560 h 1005120"/>
              <a:gd name="textAreaBottom" fmla="*/ 970560 h 10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5"/>
                  <a:pt x="10800" y="2389"/>
                </a:cubicBezTo>
                <a:lnTo>
                  <a:pt x="10800" y="8411"/>
                </a:lnTo>
                <a:cubicBezTo>
                  <a:pt x="10800" y="9606"/>
                  <a:pt x="5400" y="10800"/>
                  <a:pt x="0" y="10800"/>
                </a:cubicBezTo>
                <a:cubicBezTo>
                  <a:pt x="5400" y="10800"/>
                  <a:pt x="10800" y="11995"/>
                  <a:pt x="10800" y="13189"/>
                </a:cubicBezTo>
                <a:lnTo>
                  <a:pt x="10800" y="19211"/>
                </a:lnTo>
                <a:cubicBezTo>
                  <a:pt x="10800" y="2040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3743280" y="5357880"/>
            <a:ext cx="214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Empresarios y profesionales con derecho a devolución mensual IVA (artículo 30 RI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5969160" y="1128600"/>
            <a:ext cx="263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Personas y entidades con NIF, físicas o jurídicas, nacionales o extranjeras, residentes o no resid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26"/>
          <p:cNvSpPr/>
          <p:nvPr/>
        </p:nvSpPr>
        <p:spPr>
          <a:xfrm>
            <a:off x="2614680" y="4491000"/>
            <a:ext cx="60948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II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7"/>
          <p:cNvSpPr/>
          <p:nvPr/>
        </p:nvSpPr>
        <p:spPr>
          <a:xfrm flipH="1">
            <a:off x="1428840" y="4352760"/>
            <a:ext cx="1100160" cy="6480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2079000" y="5715000"/>
            <a:ext cx="155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Registro territor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IIEE fabr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4"/>
          <p:cNvSpPr/>
          <p:nvPr/>
        </p:nvSpPr>
        <p:spPr>
          <a:xfrm flipH="1">
            <a:off x="2786040" y="4924440"/>
            <a:ext cx="100080" cy="8571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500040" y="571680"/>
            <a:ext cx="8077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1. EL CENSO DE OBLIGADOS TRIBU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INTR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229600" cy="4470120"/>
          </a:xfrm>
          <a:prstGeom prst="rect">
            <a:avLst/>
          </a:prstGeom>
          <a:ln w="0">
            <a:noFill/>
          </a:ln>
        </p:spPr>
      </p:pic>
      <p:sp>
        <p:nvSpPr>
          <p:cNvPr id="289" name="4 Flecha abajo"/>
          <p:cNvSpPr/>
          <p:nvPr/>
        </p:nvSpPr>
        <p:spPr>
          <a:xfrm>
            <a:off x="7116840" y="2371680"/>
            <a:ext cx="453960" cy="115272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0000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5 Rectángulo"/>
          <p:cNvSpPr/>
          <p:nvPr/>
        </p:nvSpPr>
        <p:spPr>
          <a:xfrm>
            <a:off x="642960" y="3643200"/>
            <a:ext cx="257184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6 Flecha abajo"/>
          <p:cNvSpPr/>
          <p:nvPr/>
        </p:nvSpPr>
        <p:spPr>
          <a:xfrm>
            <a:off x="1000080" y="3143160"/>
            <a:ext cx="142920" cy="2145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7 Flecha abajo"/>
          <p:cNvSpPr/>
          <p:nvPr/>
        </p:nvSpPr>
        <p:spPr>
          <a:xfrm>
            <a:off x="414324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8 Flecha abajo"/>
          <p:cNvSpPr/>
          <p:nvPr/>
        </p:nvSpPr>
        <p:spPr>
          <a:xfrm>
            <a:off x="242892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9 Flecha abajo"/>
          <p:cNvSpPr/>
          <p:nvPr/>
        </p:nvSpPr>
        <p:spPr>
          <a:xfrm>
            <a:off x="492912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10 Flecha abajo"/>
          <p:cNvSpPr/>
          <p:nvPr/>
        </p:nvSpPr>
        <p:spPr>
          <a:xfrm>
            <a:off x="585792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11 Flecha abajo"/>
          <p:cNvSpPr/>
          <p:nvPr/>
        </p:nvSpPr>
        <p:spPr>
          <a:xfrm>
            <a:off x="664380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12 Flecha izquierda"/>
          <p:cNvSpPr/>
          <p:nvPr/>
        </p:nvSpPr>
        <p:spPr>
          <a:xfrm>
            <a:off x="7786800" y="4786200"/>
            <a:ext cx="672840" cy="29844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13 Flecha izquierda"/>
          <p:cNvSpPr/>
          <p:nvPr/>
        </p:nvSpPr>
        <p:spPr>
          <a:xfrm>
            <a:off x="7786800" y="3746520"/>
            <a:ext cx="672840" cy="29052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INTR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457200" y="1859040"/>
            <a:ext cx="8229600" cy="4008240"/>
          </a:xfrm>
          <a:prstGeom prst="rect">
            <a:avLst/>
          </a:prstGeom>
          <a:ln w="0">
            <a:noFill/>
          </a:ln>
        </p:spPr>
      </p:pic>
      <p:sp>
        <p:nvSpPr>
          <p:cNvPr id="301" name="4 Flecha izquierda"/>
          <p:cNvSpPr/>
          <p:nvPr/>
        </p:nvSpPr>
        <p:spPr>
          <a:xfrm>
            <a:off x="8643960" y="4429080"/>
            <a:ext cx="285840" cy="142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5 Rectángulo"/>
          <p:cNvSpPr/>
          <p:nvPr/>
        </p:nvSpPr>
        <p:spPr>
          <a:xfrm>
            <a:off x="3357720" y="4429080"/>
            <a:ext cx="214308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INTRA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776160" y="1600200"/>
            <a:ext cx="7591680" cy="4525920"/>
          </a:xfrm>
          <a:prstGeom prst="rect">
            <a:avLst/>
          </a:prstGeom>
          <a:ln w="0">
            <a:noFill/>
          </a:ln>
        </p:spPr>
      </p:pic>
      <p:sp>
        <p:nvSpPr>
          <p:cNvPr id="305" name="4 Rectángulo"/>
          <p:cNvSpPr/>
          <p:nvPr/>
        </p:nvSpPr>
        <p:spPr>
          <a:xfrm>
            <a:off x="2000160" y="3714840"/>
            <a:ext cx="185760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5 Flecha izquierda"/>
          <p:cNvSpPr/>
          <p:nvPr/>
        </p:nvSpPr>
        <p:spPr>
          <a:xfrm>
            <a:off x="4643280" y="4357800"/>
            <a:ext cx="214560" cy="142920"/>
          </a:xfrm>
          <a:prstGeom prst="leftArrow">
            <a:avLst>
              <a:gd name="adj1" fmla="val 50000"/>
              <a:gd name="adj2" fmla="val 50042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6 Flecha izquierda"/>
          <p:cNvSpPr/>
          <p:nvPr/>
        </p:nvSpPr>
        <p:spPr>
          <a:xfrm>
            <a:off x="4643280" y="4500720"/>
            <a:ext cx="214560" cy="142560"/>
          </a:xfrm>
          <a:prstGeom prst="leftArrow">
            <a:avLst>
              <a:gd name="adj1" fmla="val 50000"/>
              <a:gd name="adj2" fmla="val 5016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7 Flecha izquierda"/>
          <p:cNvSpPr/>
          <p:nvPr/>
        </p:nvSpPr>
        <p:spPr>
          <a:xfrm>
            <a:off x="8501040" y="5500800"/>
            <a:ext cx="428760" cy="285480"/>
          </a:xfrm>
          <a:prstGeom prst="leftArrow">
            <a:avLst>
              <a:gd name="adj1" fmla="val 50000"/>
              <a:gd name="adj2" fmla="val 5006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CNOLOGÍA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DATOS ON-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LECCIÓN DE LOS DATOS A TENER EN CUENTA POR EL PRIOPIO ANAL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ASADO EN ÁLGEBRA BOOLE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ADO PARA PODER SELECCIONAR DIFERENTES TIPOS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SO DE OPERADORES LÓGICOS (AND, OR, NOT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SEÑO INTUITIVO Y SI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PACIDAD ILIMITADA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ZÚJAR – 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4000"/>
          </a:bodyPr>
          <a:p>
            <a:pPr marL="356400" indent="-35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mite FILTRAR mediante álgebra booleana a los contribuyentes por variables predefinidas según los datos con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3600"/>
              </a:spcBef>
              <a:spcAft>
                <a:spcPts val="11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ILITA INFORMACIÓN de los contrib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arrollado por personal de la A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SELECCIÓN DE CONTRIBUYENTES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Herramienta Informática ZU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rcRect l="15877" t="13229" r="76718" b="76189"/>
          <a:stretch/>
        </p:blipFill>
        <p:spPr>
          <a:xfrm>
            <a:off x="3786120" y="3214800"/>
            <a:ext cx="26431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O DE SISTEMA DE FILTROS (OPERADORES LÓGICO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rcRect l="15877" t="13229" r="76718" b="76189"/>
          <a:stretch/>
        </p:blipFill>
        <p:spPr>
          <a:xfrm>
            <a:off x="2928960" y="2714760"/>
            <a:ext cx="23572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IESGO: Contribuyentes que presentan declaraciones de IVA a compensar o ingresan pequeñas cantidades pero  declaran o ingresan  cantidades significativas de retenciones por los pagos a sus emple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EJEMPLO DEL US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rcRect l="15877" t="7939" r="59518" b="57668"/>
          <a:stretch/>
        </p:blipFill>
        <p:spPr>
          <a:xfrm>
            <a:off x="1214280" y="2500200"/>
            <a:ext cx="65008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ISTADO DE CASOS QUE HAN SIDO SELECCIONAD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rcRect l="15877" t="10582" r="517" b="3425"/>
          <a:stretch/>
        </p:blipFill>
        <p:spPr>
          <a:xfrm>
            <a:off x="1000080" y="2000160"/>
            <a:ext cx="7500960" cy="4575240"/>
          </a:xfrm>
          <a:prstGeom prst="rect">
            <a:avLst/>
          </a:prstGeom>
          <a:ln w="0">
            <a:noFill/>
          </a:ln>
        </p:spPr>
      </p:pic>
      <p:sp>
        <p:nvSpPr>
          <p:cNvPr id="323" name="4 Elipse"/>
          <p:cNvSpPr/>
          <p:nvPr/>
        </p:nvSpPr>
        <p:spPr>
          <a:xfrm>
            <a:off x="1000080" y="5357880"/>
            <a:ext cx="285768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Límite de candidatos  que pueden listarse: 4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5 Conector recto de flecha"/>
          <p:cNvCxnSpPr/>
          <p:nvPr/>
        </p:nvCxnSpPr>
        <p:spPr>
          <a:xfrm flipH="1">
            <a:off x="1856520" y="6000840"/>
            <a:ext cx="500760" cy="42912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5" name="6 Elipse"/>
          <p:cNvSpPr/>
          <p:nvPr/>
        </p:nvSpPr>
        <p:spPr>
          <a:xfrm>
            <a:off x="4000680" y="4929120"/>
            <a:ext cx="285732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 candi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7 Conector recto de flecha"/>
          <p:cNvCxnSpPr/>
          <p:nvPr/>
        </p:nvCxnSpPr>
        <p:spPr>
          <a:xfrm flipH="1">
            <a:off x="3571200" y="5406840"/>
            <a:ext cx="633960" cy="102276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8429400" cy="5791320"/>
          </a:xfrm>
          <a:prstGeom prst="rect">
            <a:avLst/>
          </a:prstGeom>
          <a:ln w="0">
            <a:noFill/>
          </a:ln>
        </p:spPr>
      </p:pic>
      <p:sp>
        <p:nvSpPr>
          <p:cNvPr id="329" name="3 Rectángulo"/>
          <p:cNvSpPr/>
          <p:nvPr/>
        </p:nvSpPr>
        <p:spPr>
          <a:xfrm>
            <a:off x="433440" y="142884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"/>
              </a:rPr>
              <a:t>USO DE AGRUPA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OSIBILIDAD DE EXPORTACIÓN A HERRAMIENTAS DE 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rcRect l="0" t="0" r="13216" b="40468"/>
          <a:stretch/>
        </p:blipFill>
        <p:spPr>
          <a:xfrm>
            <a:off x="785880" y="2276640"/>
            <a:ext cx="757224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533520" y="838080"/>
            <a:ext cx="8076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1. EL CENSO DE OBLIGADOS TRIBU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57120" y="1600200"/>
            <a:ext cx="850104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tos identificativos: gira en torno al Número de Identificación Fiscal (NI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calización: Domicilio fis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stema de notificación: referencia a la “notificación electrónica obligatori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mpresarios, profesionales y retenedores (CEP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be consta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“perfil” fiscal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 cada obligado. Es decir, los rasgos que caracterizan a cada obligado en relación con cada una de las figuras impositivas que gestiona la AEAT (IS, IRPF, IVA). Régimen general o regímenes especi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a clasificación de la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ctividades económicas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sarrolladas  y la inclusión o baja del obligado en los distintos registros tributarios. (ROI, REDEME, GG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a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claracion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o autoliquidaciones que deba presentar periódicamente el obligado por razón de sus actividades empresariales o profesionales, o por satisfacer rentas sujetas a retención o ingreso a cuen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0" y="1571760"/>
            <a:ext cx="9144000" cy="4809960"/>
          </a:xfrm>
          <a:prstGeom prst="rect">
            <a:avLst/>
          </a:prstGeom>
          <a:ln w="0">
            <a:noFill/>
          </a:ln>
        </p:spPr>
      </p:pic>
      <p:sp>
        <p:nvSpPr>
          <p:cNvPr id="336" name="6 Rectángulo"/>
          <p:cNvSpPr/>
          <p:nvPr/>
        </p:nvSpPr>
        <p:spPr>
          <a:xfrm>
            <a:off x="0" y="2062080"/>
            <a:ext cx="1177920" cy="142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457200" y="1986120"/>
            <a:ext cx="8229600" cy="3754440"/>
          </a:xfrm>
          <a:prstGeom prst="rect">
            <a:avLst/>
          </a:prstGeom>
          <a:ln w="0">
            <a:noFill/>
          </a:ln>
        </p:spPr>
      </p:pic>
      <p:sp>
        <p:nvSpPr>
          <p:cNvPr id="339" name="1 Rectángulo"/>
          <p:cNvSpPr/>
          <p:nvPr/>
        </p:nvSpPr>
        <p:spPr>
          <a:xfrm>
            <a:off x="755640" y="4508640"/>
            <a:ext cx="2303640" cy="21564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>
            <a:off x="468360" y="1801800"/>
            <a:ext cx="8229600" cy="4397400"/>
          </a:xfrm>
          <a:prstGeom prst="rect">
            <a:avLst/>
          </a:prstGeom>
          <a:ln w="0">
            <a:noFill/>
          </a:ln>
        </p:spPr>
      </p:pic>
      <p:sp>
        <p:nvSpPr>
          <p:cNvPr id="342" name="10 Rectángulo"/>
          <p:cNvSpPr/>
          <p:nvPr/>
        </p:nvSpPr>
        <p:spPr>
          <a:xfrm>
            <a:off x="2214720" y="4000680"/>
            <a:ext cx="571320" cy="928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11 Rectángulo"/>
          <p:cNvSpPr/>
          <p:nvPr/>
        </p:nvSpPr>
        <p:spPr>
          <a:xfrm>
            <a:off x="7149960" y="4465800"/>
            <a:ext cx="951120" cy="1555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326880" y="1571760"/>
            <a:ext cx="8531280" cy="4605120"/>
          </a:xfrm>
          <a:prstGeom prst="rect">
            <a:avLst/>
          </a:prstGeom>
          <a:ln w="0">
            <a:noFill/>
          </a:ln>
        </p:spPr>
      </p:pic>
      <p:sp>
        <p:nvSpPr>
          <p:cNvPr id="346" name="4 Flecha izquierda"/>
          <p:cNvSpPr/>
          <p:nvPr/>
        </p:nvSpPr>
        <p:spPr>
          <a:xfrm>
            <a:off x="4000680" y="5143680"/>
            <a:ext cx="642600" cy="3571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957240"/>
            <a:ext cx="8686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ÍNEAS DE MEJO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9065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utonomía entre devoluciones y control extens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jora de la selección de los riesgos fisc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áxima automatización de la tramitación de los procedimientos de comprob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Homogeneización del control fiscal entre territo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51920" y="190476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58920" indent="-35892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utonomía de los órganos que devuelven de los que control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vincular el control masivo del programa de devolu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eneración centralizada de los acuerdos de devolución:   orden creciente de riesgo fis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o necesidad de resolver riesgos de declaraciones no seleccionadas (devuelt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isponibilidad de la calificación de riesgos desde la finalización del plazo de presentación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1) AUTONOMÍA ENTRE </a:t>
            </a:r>
            <a:br>
              <a:rPr sz="3200"/>
            </a:b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EVOLUCIONES  Y 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957240"/>
            <a:ext cx="8686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REPRESENTACIÓN GRÁ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9933"/>
                </a:solidFill>
                <a:latin typeface="Arial"/>
              </a:rPr>
              <a:t>D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467480" y="39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OMPRO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371600" y="3586320"/>
            <a:ext cx="6095880" cy="978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LICITUD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DEV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ompro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762120" y="22096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nor riesgo</a:t>
            </a:r>
            <a:r>
              <a:rPr b="1" lang="es-E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934320" y="22096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yor riesgo</a:t>
            </a:r>
            <a:r>
              <a:rPr b="1" lang="es-E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9"/>
          <p:cNvSpPr/>
          <p:nvPr/>
        </p:nvSpPr>
        <p:spPr>
          <a:xfrm>
            <a:off x="1676520" y="30481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2133720" y="30481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1"/>
          <p:cNvSpPr/>
          <p:nvPr/>
        </p:nvSpPr>
        <p:spPr>
          <a:xfrm>
            <a:off x="640080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69343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3"/>
          <p:cNvSpPr/>
          <p:nvPr/>
        </p:nvSpPr>
        <p:spPr>
          <a:xfrm>
            <a:off x="1066680" y="4800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4"/>
          <p:cNvSpPr/>
          <p:nvPr/>
        </p:nvSpPr>
        <p:spPr>
          <a:xfrm>
            <a:off x="106668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7"/>
          <p:cNvSpPr/>
          <p:nvPr/>
        </p:nvSpPr>
        <p:spPr>
          <a:xfrm flipH="1">
            <a:off x="693432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8"/>
          <p:cNvSpPr/>
          <p:nvPr/>
        </p:nvSpPr>
        <p:spPr>
          <a:xfrm flipH="1">
            <a:off x="640080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228600" y="22093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8200" indent="-538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Se parte de los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iesgos definidos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n base a filtros u otras selecciones (Zúja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l sistema de control masivo es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único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ro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hay riesgos que evalúan devoluciones y otros riesgos que tratan de corregir comportamientos de frau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ntúa cada riesg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fis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Todas las declaraciones aparecen puntuadas con lo que se puede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denar de menor a mayor ries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as oficinas no deberán pronunciarse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nc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sobre los filtros de los expedientes que se devuelv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2) MEJORA DE LA SELECCIÓN DE RIESGOS FISCLA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52280" y="2636640"/>
            <a:ext cx="87631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os riesg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ediante un nuevo sistema más científico, que permita un seguimiento automático de su efica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xplotando la contestación de los actuarios a qué filtro ha provocado la efica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OPTIMIZACIÓN DE LA </a:t>
            </a:r>
            <a:br>
              <a:rPr sz="3200"/>
            </a:b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ELECCIÓN DE EXPEDIENTES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3) MÁXIMA AUTOMATIZACIÓN DE LOS PROCEDIMIENTOS DE COMPROB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28600" y="2437920"/>
            <a:ext cx="8763120" cy="35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1) AUTOSERVICIO EN EL CONTROL ó AUTO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(trasladar al contribuyente la corrección de errores)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Incidencias de carácter censal : posibilidad de consultar y resolver sus incidencias cens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(antes, durante y después de la presentació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Riesgos de otro tipo que no tengan efecto en la cuota y supongan una comprobación obligato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400" y="1213920"/>
            <a:ext cx="82580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000160"/>
            <a:ext cx="82296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MEJORA DEL PROCESO INFORMÁTICO DE TRAMIT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600" y="2492280"/>
            <a:ext cx="8763120" cy="34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2) LIMITACIONES DE LAS APLICACIONES INFORMÁTICAS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Hasta dónde debe llegar la automat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Perfil de los funcionarios de control masiv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egundos procedimi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3) HASTA DÓNDE DEBE LLEGAR LA ASIS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Hasta dónde se deben ofrecer datos fisc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957240"/>
            <a:ext cx="91440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4) HOMOGENEIZACIÓN DE LA PRESIÓN </a:t>
            </a:r>
            <a:br>
              <a:rPr sz="3200"/>
            </a:b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IS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52280" y="22093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ación única del ries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arga de trabajo de cada oficina conforme a su capa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dicar recursos a los expedientes de mayor riesgo, con independencia de la adscrip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localización de la comprob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xpediente electró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tención al contribuyente en cualquier ofic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C:\Javier Rodriguez (F00993WM)\presentaciones\plantilla AEAT\optimizada\contraportada-WEB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"/>
          <p:cNvSpPr/>
          <p:nvPr/>
        </p:nvSpPr>
        <p:spPr>
          <a:xfrm>
            <a:off x="3398760" y="624852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Arial"/>
              </a:rPr>
              <a:t>www.agenciatributaria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33520" y="838080"/>
            <a:ext cx="8076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2. FUENTES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57120" y="1643040"/>
            <a:ext cx="828684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1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terceras personas (declaraciones informativ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2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los contribuyentes en sus propi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declar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3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otras Administraciones nacional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(tributarias y no tributari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4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carácter internacion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5 CuadroTexto"/>
          <p:cNvSpPr/>
          <p:nvPr/>
        </p:nvSpPr>
        <p:spPr>
          <a:xfrm>
            <a:off x="1071720" y="542916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Se utiliza información ya disponible (NO INVESTIG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043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úmero Declaraciones Inform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457200" y="1571760"/>
            <a:ext cx="8229600" cy="4500360"/>
          </a:xfrm>
          <a:prstGeom prst="rect">
            <a:avLst/>
          </a:prstGeom>
          <a:ln w="0">
            <a:noFill/>
          </a:ln>
        </p:spPr>
      </p:pic>
      <p:sp>
        <p:nvSpPr>
          <p:cNvPr id="131" name="3 Rectángulo"/>
          <p:cNvSpPr/>
          <p:nvPr/>
        </p:nvSpPr>
        <p:spPr>
          <a:xfrm>
            <a:off x="2786040" y="3214800"/>
            <a:ext cx="714240" cy="21420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Registr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Inform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75722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úmero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Decla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5715000" cy="5064120"/>
          </a:xfrm>
          <a:prstGeom prst="rect">
            <a:avLst/>
          </a:prstGeom>
          <a:ln w="0">
            <a:noFill/>
          </a:ln>
        </p:spPr>
      </p:pic>
      <p:grpSp>
        <p:nvGrpSpPr>
          <p:cNvPr id="136" name="3 Rectángulo"/>
          <p:cNvGrpSpPr/>
          <p:nvPr/>
        </p:nvGrpSpPr>
        <p:grpSpPr>
          <a:xfrm>
            <a:off x="4334040" y="1835280"/>
            <a:ext cx="3262320" cy="188640"/>
            <a:chOff x="4334040" y="1835280"/>
            <a:chExt cx="3262320" cy="188640"/>
          </a:xfrm>
        </p:grpSpPr>
        <p:pic>
          <p:nvPicPr>
            <p:cNvPr id="137" name="3 Rectángulo" descr=""/>
            <p:cNvPicPr/>
            <p:nvPr/>
          </p:nvPicPr>
          <p:blipFill>
            <a:blip r:embed="rId2"/>
            <a:stretch/>
          </p:blipFill>
          <p:spPr>
            <a:xfrm>
              <a:off x="4334040" y="1835280"/>
              <a:ext cx="32623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357800" y="1857240"/>
              <a:ext cx="32144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12:18:28Z</dcterms:created>
  <dc:creator>f00993wm</dc:creator>
  <dc:description/>
  <dc:language>en-US</dc:language>
  <cp:lastModifiedBy> </cp:lastModifiedBy>
  <dcterms:modified xsi:type="dcterms:W3CDTF">2013-11-01T10:49:05Z</dcterms:modified>
  <cp:revision>158</cp:revision>
  <dc:subject/>
  <dc:title>Presentación de PowerPoint</dc:title>
</cp:coreProperties>
</file>