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A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A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A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32CB86-A8D8-43DF-B55C-C68CF33A06C5}" type="slidenum"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A8B09D-AB3B-4DF1-B5DD-08A67321F611}" type="slidenum"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E25474-8B85-4A06-B97E-7D832EE1BF74}" type="slidenum"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E650A8-D6A7-444D-984F-BB7BD5AF08D6}" type="slidenum"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3C27D5-5E88-46CA-945C-9A46F02F94A2}" type="slidenum"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440B09-E845-48A0-A4E5-C1FEEE1D3878}" type="slidenum"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5323D5-F0C6-445F-A5B3-EA53BD13068E}" type="slidenum"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38BB6-4FB2-4104-AA7F-F2B6429032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59A8B-850E-4503-94CF-6C850BAD7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16CD7-4ED6-4497-841D-6E04F41D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5C3A4-32AE-4A03-8828-4CD4F5DBBF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01D0C-67FA-42F6-B8B0-9140A0084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07095-CC7E-4DB3-BE90-5D9DC626B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35301-4BD8-4659-BCDE-A05353FBD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4F766-B66E-4624-9E88-DA2EA3E40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7333B-D9BF-430B-BE55-428ACE43B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E3887-14B1-4433-99BF-A7B8A6475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C877F-E83B-4B5B-8A85-656F77B13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611AF-0B06-4B5B-87E3-0395D4192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085391B-5AE0-4836-A0C8-38D133EA545F}" type="slidenum">
              <a:rPr b="0" lang="es-A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77777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42920" y="-363600"/>
            <a:ext cx="8858160" cy="183204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176040" y="1488960"/>
            <a:ext cx="8805960" cy="5213520"/>
            <a:chOff x="176040" y="1488960"/>
            <a:chExt cx="8805960" cy="5213520"/>
          </a:xfrm>
        </p:grpSpPr>
        <p:sp>
          <p:nvSpPr>
            <p:cNvPr id="4" name=""/>
            <p:cNvSpPr/>
            <p:nvPr/>
          </p:nvSpPr>
          <p:spPr>
            <a:xfrm>
              <a:off x="176040" y="1488960"/>
              <a:ext cx="8805960" cy="5213520"/>
            </a:xfrm>
            <a:prstGeom prst="rect">
              <a:avLst/>
            </a:prstGeom>
            <a:noFill/>
            <a:ln w="88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76040" y="6356520"/>
              <a:ext cx="8785080" cy="31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219240" y="6386400"/>
            <a:ext cx="2357280" cy="3193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567160" y="6410160"/>
            <a:ext cx="6357600" cy="2718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A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29/11/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A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3D439FC-F865-47B8-AC72-237FB0D7A6CD}" type="slidenum">
              <a:rPr b="0" lang="es-A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0" y="17640"/>
            <a:ext cx="9151920" cy="6840360"/>
            <a:chOff x="0" y="17640"/>
            <a:chExt cx="9151920" cy="6840360"/>
          </a:xfrm>
        </p:grpSpPr>
        <p:sp>
          <p:nvSpPr>
            <p:cNvPr id="203" name=""/>
            <p:cNvSpPr/>
            <p:nvPr/>
          </p:nvSpPr>
          <p:spPr>
            <a:xfrm>
              <a:off x="0" y="17640"/>
              <a:ext cx="9151920" cy="684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36080" y="180720"/>
              <a:ext cx="8882280" cy="6524640"/>
            </a:xfrm>
            <a:prstGeom prst="rect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5" name="" descr=""/>
            <p:cNvPicPr/>
            <p:nvPr/>
          </p:nvPicPr>
          <p:blipFill>
            <a:blip r:embed="rId1"/>
            <a:stretch/>
          </p:blipFill>
          <p:spPr>
            <a:xfrm>
              <a:off x="2499480" y="2874240"/>
              <a:ext cx="3961800" cy="11613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700360" y="512640"/>
            <a:ext cx="5219640" cy="7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alibri"/>
              </a:rPr>
              <a:t>ADMINISTRACIÓN FEDERAL DE INGRESOS PÚBL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2360" y="2112480"/>
            <a:ext cx="2472120" cy="648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ADMINISTRACIÓN FED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DE INGRESOS PÚBL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328760" y="3581280"/>
            <a:ext cx="1079640" cy="540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DG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332000" y="4676760"/>
            <a:ext cx="1079280" cy="539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DG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330200" y="5672160"/>
            <a:ext cx="1079640" cy="539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DGR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3611520" y="3240000"/>
            <a:ext cx="3555000" cy="2700000"/>
            <a:chOff x="3611520" y="3240000"/>
            <a:chExt cx="3555000" cy="2700000"/>
          </a:xfrm>
        </p:grpSpPr>
        <p:sp>
          <p:nvSpPr>
            <p:cNvPr id="212" name=""/>
            <p:cNvSpPr/>
            <p:nvPr/>
          </p:nvSpPr>
          <p:spPr>
            <a:xfrm>
              <a:off x="3611520" y="3240000"/>
              <a:ext cx="1109160" cy="550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1" lang="es-AR" sz="1200" spc="-1" strike="noStrike">
                  <a:solidFill>
                    <a:srgbClr val="ffffff"/>
                  </a:solidFill>
                  <a:latin typeface="Arial"/>
                </a:rPr>
                <a:t>SDG OPI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611520" y="3921840"/>
              <a:ext cx="1109160" cy="550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1" lang="es-AR" sz="1200" spc="-1" strike="noStrike">
                  <a:solidFill>
                    <a:srgbClr val="ffffff"/>
                  </a:solidFill>
                  <a:latin typeface="Arial"/>
                </a:rPr>
                <a:t>SDG OPI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611520" y="4656600"/>
              <a:ext cx="1109160" cy="550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1" lang="es-AR" sz="1200" spc="-1" strike="noStrike">
                  <a:solidFill>
                    <a:srgbClr val="ffffff"/>
                  </a:solidFill>
                  <a:latin typeface="Arial"/>
                </a:rPr>
                <a:t>SDG OIG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611520" y="5389560"/>
              <a:ext cx="1109160" cy="550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1" lang="es-AR" sz="1200" spc="-1" strike="noStrike">
                  <a:solidFill>
                    <a:srgbClr val="ffffff"/>
                  </a:solidFill>
                  <a:latin typeface="Arial"/>
                </a:rPr>
                <a:t>SDG TL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869000" y="4025520"/>
              <a:ext cx="2297520" cy="605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AR" sz="1100" spc="-1" strike="noStrike">
                  <a:solidFill>
                    <a:srgbClr val="ffffff"/>
                  </a:solidFill>
                  <a:latin typeface="Arial"/>
                </a:rPr>
                <a:t>DIRECCIONES REGIONAL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AR" sz="1100" spc="-1" strike="noStrike">
                  <a:solidFill>
                    <a:srgbClr val="ffffff"/>
                  </a:solidFill>
                  <a:latin typeface="Arial"/>
                </a:rPr>
                <a:t>METROPOLITANA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539640" y="2160720"/>
            <a:ext cx="2160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08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s-AR" sz="1600" spc="-1" strike="noStrike" u="sng">
                <a:solidFill>
                  <a:srgbClr val="000080"/>
                </a:solidFill>
                <a:uFillTx/>
                <a:latin typeface="Georgia"/>
              </a:rPr>
              <a:t>ORGANIGR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729320" y="2808360"/>
            <a:ext cx="1440" cy="26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971640" y="3068640"/>
            <a:ext cx="3759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73080" y="3851280"/>
            <a:ext cx="355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73080" y="4946760"/>
            <a:ext cx="358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73080" y="5913360"/>
            <a:ext cx="355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408400" y="3851280"/>
            <a:ext cx="723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3132000" y="3561840"/>
            <a:ext cx="1800" cy="27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132000" y="3851280"/>
            <a:ext cx="1800" cy="110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132000" y="3564000"/>
            <a:ext cx="47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132000" y="4232160"/>
            <a:ext cx="479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132000" y="4946760"/>
            <a:ext cx="47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691160" y="3564000"/>
            <a:ext cx="1033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724360" y="3581280"/>
            <a:ext cx="1800" cy="51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73080" y="3068640"/>
            <a:ext cx="1800" cy="28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700360" y="512640"/>
            <a:ext cx="5219640" cy="7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alibri"/>
              </a:rPr>
              <a:t>ADMINISTRACIÓN FEDERAL DE INGRESOS PÚBL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600360" y="2134080"/>
            <a:ext cx="2472120" cy="648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ADMINISTRACIÓN FED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DE INGRESOS PÚBL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20720" y="3600360"/>
            <a:ext cx="1079640" cy="540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DG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20720" y="4500720"/>
            <a:ext cx="1079640" cy="539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D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20720" y="5400720"/>
            <a:ext cx="1079640" cy="539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DG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340000" y="3240000"/>
            <a:ext cx="1079640" cy="540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SDG OPI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340000" y="3960720"/>
            <a:ext cx="1079640" cy="540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SDG OP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340000" y="4680000"/>
            <a:ext cx="1079640" cy="539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SDG OIG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340000" y="5400720"/>
            <a:ext cx="1079640" cy="539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SDG T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634200" y="3959280"/>
            <a:ext cx="1882440" cy="563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DIRECCI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REG. METROPOLITAN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132000" y="3789360"/>
            <a:ext cx="289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871720" y="3701880"/>
            <a:ext cx="289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40360" y="3600360"/>
            <a:ext cx="122400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FISCALIZ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956200" y="3959280"/>
            <a:ext cx="1224000" cy="387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GESTIÓN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DEVOLUCI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940360" y="4500720"/>
            <a:ext cx="122400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INVESTIG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940360" y="4859280"/>
            <a:ext cx="122400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REVISIÓN 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RECUR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940360" y="5400720"/>
            <a:ext cx="122400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JURÍD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940360" y="5832360"/>
            <a:ext cx="122400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AGENC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9640" y="2160720"/>
            <a:ext cx="2160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08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s-AR" sz="1600" spc="-1" strike="noStrike" u="sng">
                <a:solidFill>
                  <a:srgbClr val="000080"/>
                </a:solidFill>
                <a:uFillTx/>
                <a:latin typeface="Georgia"/>
              </a:rPr>
              <a:t>ORGANIGR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836960" y="2852640"/>
            <a:ext cx="18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538200" y="2997360"/>
            <a:ext cx="4300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9640" y="2997360"/>
            <a:ext cx="1800" cy="269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39640" y="3814920"/>
            <a:ext cx="71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39640" y="4770360"/>
            <a:ext cx="71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39640" y="5688000"/>
            <a:ext cx="71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800360" y="3870360"/>
            <a:ext cx="250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2050920" y="3508200"/>
            <a:ext cx="1800" cy="36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050920" y="3917880"/>
            <a:ext cx="1800" cy="177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050920" y="3510000"/>
            <a:ext cx="289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050920" y="4230720"/>
            <a:ext cx="289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050920" y="5670720"/>
            <a:ext cx="289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050920" y="4950000"/>
            <a:ext cx="289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527280" y="3510000"/>
            <a:ext cx="828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356000" y="3510000"/>
            <a:ext cx="1800" cy="49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2700360" y="512640"/>
            <a:ext cx="5219640" cy="7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alibri"/>
              </a:rPr>
              <a:t>ADMINISTRACIÓN FEDERAL DE INGRESOS PÚBL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079640" y="2700360"/>
            <a:ext cx="5940360" cy="3240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rebuchet MS"/>
              </a:rPr>
              <a:t> </a:t>
            </a:r>
            <a:r>
              <a:rPr b="1" lang="es-ES" sz="1600" spc="-1" strike="noStrike">
                <a:solidFill>
                  <a:srgbClr val="000080"/>
                </a:solidFill>
                <a:latin typeface="Trebuchet MS"/>
              </a:rPr>
              <a:t>Facilitar</a:t>
            </a:r>
            <a:r>
              <a:rPr b="0" lang="es-ES" sz="1600" spc="-1" strike="noStrike">
                <a:solidFill>
                  <a:srgbClr val="000080"/>
                </a:solidFill>
                <a:latin typeface="Trebuchet MS"/>
              </a:rPr>
              <a:t> los servicios que brinda la AFIP  a los administrado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80"/>
                </a:solidFill>
                <a:latin typeface="Trebuchet MS"/>
              </a:rPr>
              <a:t> </a:t>
            </a:r>
            <a:r>
              <a:rPr b="0" lang="es-ES" sz="1600" spc="-1" strike="noStrike">
                <a:solidFill>
                  <a:srgbClr val="000080"/>
                </a:solidFill>
                <a:latin typeface="Trebuchet MS"/>
              </a:rPr>
              <a:t>su asesoramiento, con el fin de </a:t>
            </a:r>
            <a:r>
              <a:rPr b="1" lang="es-ES" sz="1600" spc="-1" strike="noStrike">
                <a:solidFill>
                  <a:srgbClr val="000080"/>
                </a:solidFill>
                <a:latin typeface="Trebuchet MS"/>
              </a:rPr>
              <a:t>inducir el cumplimien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rebuchet MS"/>
              </a:rPr>
              <a:t> </a:t>
            </a:r>
            <a:r>
              <a:rPr b="1" lang="es-ES" sz="1600" spc="-1" strike="noStrike">
                <a:solidFill>
                  <a:srgbClr val="000080"/>
                </a:solidFill>
                <a:latin typeface="Trebuchet MS"/>
              </a:rPr>
              <a:t>voluntario </a:t>
            </a:r>
            <a:r>
              <a:rPr b="0" lang="es-ES" sz="1600" spc="-1" strike="noStrike">
                <a:solidFill>
                  <a:srgbClr val="000080"/>
                </a:solidFill>
                <a:latin typeface="Trebuchet MS"/>
              </a:rPr>
              <a:t>de las obligaciones fisc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rebuchet MS"/>
              </a:rPr>
              <a:t> </a:t>
            </a:r>
            <a:r>
              <a:rPr b="1" lang="es-ES" sz="1600" spc="-1" strike="noStrike">
                <a:solidFill>
                  <a:srgbClr val="000080"/>
                </a:solidFill>
                <a:latin typeface="Trebuchet MS"/>
              </a:rPr>
              <a:t>Gestión de Cobro de Deuda Administrativa y Judicial 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80"/>
                </a:solidFill>
                <a:latin typeface="Trebuchet MS"/>
              </a:rPr>
              <a:t> </a:t>
            </a:r>
            <a:r>
              <a:rPr b="0" lang="es-ES" sz="1600" spc="-1" strike="noStrike">
                <a:solidFill>
                  <a:srgbClr val="000080"/>
                </a:solidFill>
                <a:latin typeface="Trebuchet MS"/>
              </a:rPr>
              <a:t>mantengan los contribuyentes de su jurisdic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rebuchet MS"/>
              </a:rPr>
              <a:t> </a:t>
            </a:r>
            <a:r>
              <a:rPr b="1" lang="es-ES" sz="1600" spc="-1" strike="noStrike">
                <a:solidFill>
                  <a:srgbClr val="000080"/>
                </a:solidFill>
                <a:latin typeface="Trebuchet MS"/>
              </a:rPr>
              <a:t>Generación de percepción de riesgo </a:t>
            </a:r>
            <a:r>
              <a:rPr b="0" lang="es-ES" sz="1600" spc="-1" strike="noStrike">
                <a:solidFill>
                  <a:srgbClr val="000080"/>
                </a:solidFill>
                <a:latin typeface="Trebuchet MS"/>
              </a:rPr>
              <a:t>a través de la</a:t>
            </a:r>
            <a:r>
              <a:rPr b="1" lang="es-ES" sz="1600" spc="-1" strike="noStrike">
                <a:solidFill>
                  <a:srgbClr val="000080"/>
                </a:solidFill>
                <a:latin typeface="Trebuchet MS"/>
              </a:rPr>
              <a:t> verifica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rebuchet MS"/>
              </a:rPr>
              <a:t> </a:t>
            </a:r>
            <a:r>
              <a:rPr b="1" lang="es-ES" sz="1600" spc="-1" strike="noStrike">
                <a:solidFill>
                  <a:srgbClr val="000080"/>
                </a:solidFill>
                <a:latin typeface="Trebuchet MS"/>
              </a:rPr>
              <a:t>ción de las DDJJ </a:t>
            </a:r>
            <a:r>
              <a:rPr b="0" lang="es-ES" sz="1600" spc="-1" strike="noStrike">
                <a:solidFill>
                  <a:srgbClr val="000080"/>
                </a:solidFill>
                <a:latin typeface="Trebuchet MS"/>
              </a:rPr>
              <a:t>presentadas por los contribuyentes de s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80"/>
                </a:solidFill>
                <a:latin typeface="Trebuchet MS"/>
              </a:rPr>
              <a:t> </a:t>
            </a:r>
            <a:r>
              <a:rPr b="0" lang="es-ES" sz="1600" spc="-1" strike="noStrike">
                <a:solidFill>
                  <a:srgbClr val="000080"/>
                </a:solidFill>
                <a:latin typeface="Trebuchet MS"/>
              </a:rPr>
              <a:t>jurisdic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71400" y="2160720"/>
            <a:ext cx="3289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08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Georgia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00000" y="2160720"/>
            <a:ext cx="3060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08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AR" sz="1600" spc="-1" strike="noStrike" u="sng">
                <a:solidFill>
                  <a:srgbClr val="000080"/>
                </a:solidFill>
                <a:uFillTx/>
                <a:latin typeface="Georgia"/>
              </a:rPr>
              <a:t>AGENCIA - FUN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700360" y="512640"/>
            <a:ext cx="5219640" cy="7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alibri"/>
              </a:rPr>
              <a:t>ADMINISTRACIÓN FEDERAL DE INGRESOS PÚBL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55640" y="2205000"/>
            <a:ext cx="7488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080" bIns="45000" anchor="t">
            <a:noAutofit/>
          </a:bodyPr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 u="sng">
                <a:solidFill>
                  <a:srgbClr val="000080"/>
                </a:solidFill>
                <a:uFillTx/>
                <a:latin typeface="Georgia"/>
              </a:rPr>
              <a:t> </a:t>
            </a:r>
            <a:r>
              <a:rPr b="1" lang="es-AR" sz="1600" spc="-1" strike="noStrike" u="sng">
                <a:solidFill>
                  <a:srgbClr val="000080"/>
                </a:solidFill>
                <a:uFillTx/>
                <a:latin typeface="Georgia"/>
              </a:rPr>
              <a:t>ACCIONES</a:t>
            </a:r>
            <a:r>
              <a:rPr b="1" lang="en-GB" sz="1600" spc="-1" strike="noStrike" u="sng">
                <a:solidFill>
                  <a:srgbClr val="000080"/>
                </a:solidFill>
                <a:uFillTx/>
                <a:latin typeface="Georg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39640" y="2879640"/>
            <a:ext cx="24908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80"/>
                </a:solidFill>
                <a:latin typeface="Arial"/>
              </a:rPr>
              <a:t>Recaudación y Cobranz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80"/>
                </a:solidFill>
                <a:latin typeface="Arial"/>
              </a:rPr>
              <a:t>Verific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80"/>
                </a:solidFill>
                <a:latin typeface="Arial"/>
              </a:rPr>
              <a:t>Servicios al Contribuy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60720" y="2770200"/>
            <a:ext cx="25192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ctr">
              <a:lnSpc>
                <a:spcPct val="8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80"/>
                </a:solidFill>
                <a:latin typeface="Arial"/>
              </a:rPr>
              <a:t>Identificación de Univer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80"/>
                </a:solidFill>
                <a:latin typeface="Arial"/>
              </a:rPr>
              <a:t>de Riesgo</a:t>
            </a:r>
            <a:r>
              <a:rPr b="0" lang="es-MX" sz="1400" spc="-1" strike="noStrike">
                <a:solidFill>
                  <a:srgbClr val="000080"/>
                </a:solidFill>
                <a:latin typeface="Arial"/>
              </a:rPr>
              <a:t> de acuerdo al comportamiento de cada contribuye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940360" y="3060720"/>
            <a:ext cx="21607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ctr">
              <a:lnSpc>
                <a:spcPct val="84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ES" sz="1400" spc="-1" strike="noStrike">
                <a:solidFill>
                  <a:srgbClr val="000080"/>
                </a:solidFill>
                <a:latin typeface="Arial"/>
              </a:rPr>
              <a:t>Determina Acciones</a:t>
            </a:r>
            <a:r>
              <a:rPr b="0" lang="es-MX" sz="14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916360" y="2781360"/>
            <a:ext cx="142920" cy="907920"/>
          </a:xfrm>
          <a:custGeom>
            <a:avLst/>
            <a:gdLst>
              <a:gd name="textAreaLeft" fmla="*/ 0 w 142920"/>
              <a:gd name="textAreaRight" fmla="*/ 51480 w 142920"/>
              <a:gd name="textAreaTop" fmla="*/ 0 h 907920"/>
              <a:gd name="textAreaBottom" fmla="*/ 908280 h 90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9937"/>
                </a:lnTo>
                <a:cubicBezTo>
                  <a:pt x="10800" y="9937"/>
                  <a:pt x="16200" y="9937"/>
                  <a:pt x="21600" y="9937"/>
                </a:cubicBezTo>
                <a:cubicBezTo>
                  <a:pt x="16200" y="9937"/>
                  <a:pt x="10800" y="9937"/>
                  <a:pt x="10800" y="9937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28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20720" y="3859200"/>
            <a:ext cx="27003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80"/>
                </a:solidFill>
                <a:latin typeface="Arial"/>
              </a:rPr>
              <a:t>Falta de Presenta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80"/>
                </a:solidFill>
                <a:latin typeface="Arial"/>
              </a:rPr>
              <a:t>Falta de Pa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419640" y="3959280"/>
            <a:ext cx="18000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ctr">
              <a:lnSpc>
                <a:spcPct val="84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ES" sz="1400" spc="-1" strike="noStrike">
                <a:solidFill>
                  <a:srgbClr val="000080"/>
                </a:solidFill>
                <a:latin typeface="Arial"/>
              </a:rPr>
              <a:t>Desvíos en DDJJ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580000" y="3240000"/>
            <a:ext cx="3603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59280" y="3780000"/>
            <a:ext cx="251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ctr">
              <a:lnSpc>
                <a:spcPct val="8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80"/>
                </a:solidFill>
                <a:latin typeface="Arial"/>
              </a:rPr>
              <a:t>Servicios on lin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es-MX" sz="1400" spc="-1" strike="noStrike">
                <a:solidFill>
                  <a:srgbClr val="000080"/>
                </a:solidFill>
                <a:latin typeface="Arial"/>
              </a:rPr>
              <a:t>Cultural y Relacion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20720" y="4859280"/>
            <a:ext cx="2160720" cy="8600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etermina Acciones de Recaudación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(Control de Cumplimient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200400" y="4859280"/>
            <a:ext cx="2379600" cy="8600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etermina Acciones de verificacion.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(Confrontación de DDJJ c/ Información Disponi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940360" y="4859280"/>
            <a:ext cx="2519280" cy="900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ctr">
              <a:lnSpc>
                <a:spcPct val="8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etermina Acciones de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ntro del  Rol de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Servicio, respecto de uso de las herramientas sistémica disponib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619280" y="4319640"/>
            <a:ext cx="1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319640" y="4319640"/>
            <a:ext cx="1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020000" y="4319640"/>
            <a:ext cx="1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2700360" y="512640"/>
            <a:ext cx="5219640" cy="7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alibri"/>
              </a:rPr>
              <a:t>ADMINISTRACIÓN FEDERAL DE INGRESOS PÚBL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59280" y="1598760"/>
            <a:ext cx="216036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Calibri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900000" y="2700360"/>
            <a:ext cx="3240360" cy="53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Contribuyentes Individu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00000" y="3780000"/>
            <a:ext cx="3240360" cy="53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Contribuyentes Socie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00000" y="4859280"/>
            <a:ext cx="3240360" cy="53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Total de Contribuy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319640" y="2879640"/>
            <a:ext cx="1081080" cy="1800"/>
          </a:xfrm>
          <a:custGeom>
            <a:avLst/>
            <a:gdLst>
              <a:gd name="textAreaLeft" fmla="*/ 0 w 1081080"/>
              <a:gd name="textAreaRight" fmla="*/ 1081440 w 108108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3001" h="1">
                <a:moveTo>
                  <a:pt x="0" y="0"/>
                </a:moveTo>
                <a:lnTo>
                  <a:pt x="300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640" bIns="-44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319640" y="3959280"/>
            <a:ext cx="1081080" cy="1440"/>
          </a:xfrm>
          <a:custGeom>
            <a:avLst/>
            <a:gdLst>
              <a:gd name="textAreaLeft" fmla="*/ 0 w 1081080"/>
              <a:gd name="textAreaRight" fmla="*/ 1081440 w 108108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3001" h="1">
                <a:moveTo>
                  <a:pt x="0" y="0"/>
                </a:moveTo>
                <a:lnTo>
                  <a:pt x="300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319640" y="5040360"/>
            <a:ext cx="1081080" cy="1440"/>
          </a:xfrm>
          <a:custGeom>
            <a:avLst/>
            <a:gdLst>
              <a:gd name="textAreaLeft" fmla="*/ 0 w 1081080"/>
              <a:gd name="textAreaRight" fmla="*/ 1081440 w 108108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3001" h="1">
                <a:moveTo>
                  <a:pt x="0" y="0"/>
                </a:moveTo>
                <a:lnTo>
                  <a:pt x="300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119640" y="2700360"/>
            <a:ext cx="1800360" cy="539640"/>
          </a:xfrm>
          <a:custGeom>
            <a:avLst/>
            <a:gdLst>
              <a:gd name="textAreaLeft" fmla="*/ 63360 w 1800360"/>
              <a:gd name="textAreaRight" fmla="*/ 1737000 w 1800360"/>
              <a:gd name="textAreaTop" fmla="*/ 63360 h 539640"/>
              <a:gd name="textAreaBottom" fmla="*/ 476280 h 539640"/>
            </a:gdLst>
            <a:ahLst/>
            <a:rect l="textAreaLeft" t="textAreaTop" r="textAreaRight" b="textAreaBottom"/>
            <a:pathLst>
              <a:path w="7202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68429" y="21600"/>
                </a:lnTo>
                <a:arcTo wR="3600" hR="3600" stAng="10800000" swAng="5400000"/>
                <a:lnTo>
                  <a:pt x="72029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32.3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119640" y="3780000"/>
            <a:ext cx="1800360" cy="539640"/>
          </a:xfrm>
          <a:custGeom>
            <a:avLst/>
            <a:gdLst>
              <a:gd name="textAreaLeft" fmla="*/ 63360 w 1800360"/>
              <a:gd name="textAreaRight" fmla="*/ 1737000 w 1800360"/>
              <a:gd name="textAreaTop" fmla="*/ 63360 h 539640"/>
              <a:gd name="textAreaBottom" fmla="*/ 476280 h 539640"/>
            </a:gdLst>
            <a:ahLst/>
            <a:rect l="textAreaLeft" t="textAreaTop" r="textAreaRight" b="textAreaBottom"/>
            <a:pathLst>
              <a:path w="7202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68429" y="21600"/>
                </a:lnTo>
                <a:arcTo wR="3600" hR="3600" stAng="10800000" swAng="5400000"/>
                <a:lnTo>
                  <a:pt x="72029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10.3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119640" y="4859280"/>
            <a:ext cx="1800360" cy="539640"/>
          </a:xfrm>
          <a:custGeom>
            <a:avLst/>
            <a:gdLst>
              <a:gd name="textAreaLeft" fmla="*/ 63360 w 1800360"/>
              <a:gd name="textAreaRight" fmla="*/ 1737000 w 1800360"/>
              <a:gd name="textAreaTop" fmla="*/ 63360 h 539640"/>
              <a:gd name="textAreaBottom" fmla="*/ 476280 h 539640"/>
            </a:gdLst>
            <a:ahLst/>
            <a:rect l="textAreaLeft" t="textAreaTop" r="textAreaRight" b="textAreaBottom"/>
            <a:pathLst>
              <a:path w="7202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68429" y="21600"/>
                </a:lnTo>
                <a:arcTo wR="3600" hR="3600" stAng="10800000" swAng="5400000"/>
                <a:lnTo>
                  <a:pt x="72029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42.6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20720" y="2160720"/>
            <a:ext cx="34196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08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AR" sz="1600" spc="-1" strike="noStrike" u="sng">
                <a:solidFill>
                  <a:srgbClr val="000080"/>
                </a:solidFill>
                <a:uFillTx/>
                <a:latin typeface="Georgia"/>
              </a:rPr>
              <a:t>AGENCIA 51 - UNIVERSO</a:t>
            </a:r>
            <a:r>
              <a:rPr b="1" lang="es-AR" sz="1200" spc="-1" strike="noStrike">
                <a:solidFill>
                  <a:srgbClr val="ffffff"/>
                </a:solidFill>
                <a:latin typeface="Calibri"/>
              </a:rPr>
              <a:t> UNIVER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2700360" y="512640"/>
            <a:ext cx="5219640" cy="7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alibri"/>
              </a:rPr>
              <a:t>ADMINISTRACIÓN FEDERAL DE INGRESOS PÚBL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3036960" y="2165400"/>
            <a:ext cx="2106720" cy="53964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1968480" y="3119400"/>
            <a:ext cx="116352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SERVICIO 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CONTRIBUYE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979640" y="3600360"/>
            <a:ext cx="1152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RECAUD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979640" y="4140360"/>
            <a:ext cx="1152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TRAM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979640" y="4680000"/>
            <a:ext cx="1152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VERIFICACIONE</a:t>
            </a:r>
            <a:r>
              <a:rPr b="0" lang="es-AR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979640" y="5219640"/>
            <a:ext cx="1152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COBRANZ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JUDIC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859280" y="3600360"/>
            <a:ext cx="1260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COBRANZ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ADMINISTRATIV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859280" y="4140360"/>
            <a:ext cx="1260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CONTROL OBLI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FISC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859280" y="4680000"/>
            <a:ext cx="1260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LOGISTICA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ADMINISTRACIO</a:t>
            </a:r>
            <a:r>
              <a:rPr b="1" lang="es-AR" sz="1000" spc="-1" strike="noStrike">
                <a:solidFill>
                  <a:srgbClr val="16165d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859280" y="5219640"/>
            <a:ext cx="1260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SISTEM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979640" y="5940360"/>
            <a:ext cx="12603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44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AR" sz="1200" spc="-1" strike="noStrike">
                <a:solidFill>
                  <a:srgbClr val="ffffff"/>
                </a:solidFill>
                <a:latin typeface="Arial"/>
              </a:rPr>
              <a:t>SEC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040360" y="5940360"/>
            <a:ext cx="10792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44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AR" sz="1200" spc="-1" strike="noStrike">
                <a:solidFill>
                  <a:srgbClr val="ffffff"/>
                </a:solidFill>
                <a:latin typeface="Arial"/>
              </a:rPr>
              <a:t>OFICI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979640" y="5759280"/>
            <a:ext cx="4140000" cy="179640"/>
          </a:xfrm>
          <a:prstGeom prst="leftRightArrow">
            <a:avLst>
              <a:gd name="adj1" fmla="val 50000"/>
              <a:gd name="adj2" fmla="val 458788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2" name=""/>
          <p:cNvCxnSpPr/>
          <p:nvPr/>
        </p:nvCxnSpPr>
        <p:spPr>
          <a:xfrm>
            <a:off x="1600200" y="2971800"/>
            <a:ext cx="2160" cy="24868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313" name=""/>
          <p:cNvSpPr/>
          <p:nvPr/>
        </p:nvSpPr>
        <p:spPr>
          <a:xfrm>
            <a:off x="1619280" y="3240000"/>
            <a:ext cx="360360" cy="1800"/>
          </a:xfrm>
          <a:custGeom>
            <a:avLst/>
            <a:gdLst>
              <a:gd name="textAreaLeft" fmla="*/ 0 w 360360"/>
              <a:gd name="textAreaRight" fmla="*/ 360720 w 36036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1001" h="1">
                <a:moveTo>
                  <a:pt x="0" y="0"/>
                </a:moveTo>
                <a:lnTo>
                  <a:pt x="100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640" bIns="-44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619280" y="3780000"/>
            <a:ext cx="360360" cy="1440"/>
          </a:xfrm>
          <a:custGeom>
            <a:avLst/>
            <a:gdLst>
              <a:gd name="textAreaLeft" fmla="*/ 0 w 360360"/>
              <a:gd name="textAreaRight" fmla="*/ 360720 w 3603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001" h="1">
                <a:moveTo>
                  <a:pt x="0" y="0"/>
                </a:moveTo>
                <a:lnTo>
                  <a:pt x="100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619280" y="4319640"/>
            <a:ext cx="360360" cy="1440"/>
          </a:xfrm>
          <a:custGeom>
            <a:avLst/>
            <a:gdLst>
              <a:gd name="textAreaLeft" fmla="*/ 0 w 360360"/>
              <a:gd name="textAreaRight" fmla="*/ 360720 w 3603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001" h="1">
                <a:moveTo>
                  <a:pt x="0" y="0"/>
                </a:moveTo>
                <a:lnTo>
                  <a:pt x="100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619280" y="4859280"/>
            <a:ext cx="360360" cy="1800"/>
          </a:xfrm>
          <a:custGeom>
            <a:avLst/>
            <a:gdLst>
              <a:gd name="textAreaLeft" fmla="*/ 0 w 360360"/>
              <a:gd name="textAreaRight" fmla="*/ 360720 w 36036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1001" h="1">
                <a:moveTo>
                  <a:pt x="0" y="0"/>
                </a:moveTo>
                <a:lnTo>
                  <a:pt x="100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640" bIns="-44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619280" y="5400720"/>
            <a:ext cx="360360" cy="1440"/>
          </a:xfrm>
          <a:custGeom>
            <a:avLst/>
            <a:gdLst>
              <a:gd name="textAreaLeft" fmla="*/ 0 w 360360"/>
              <a:gd name="textAreaRight" fmla="*/ 360720 w 3603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001" h="1">
                <a:moveTo>
                  <a:pt x="0" y="0"/>
                </a:moveTo>
                <a:lnTo>
                  <a:pt x="100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140360" y="3780000"/>
            <a:ext cx="720720" cy="1440"/>
          </a:xfrm>
          <a:custGeom>
            <a:avLst/>
            <a:gdLst>
              <a:gd name="textAreaLeft" fmla="*/ 0 w 720720"/>
              <a:gd name="textAreaRight" fmla="*/ 721080 w 7207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001" h="1">
                <a:moveTo>
                  <a:pt x="0" y="0"/>
                </a:moveTo>
                <a:lnTo>
                  <a:pt x="200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140360" y="4319640"/>
            <a:ext cx="720720" cy="1440"/>
          </a:xfrm>
          <a:custGeom>
            <a:avLst/>
            <a:gdLst>
              <a:gd name="textAreaLeft" fmla="*/ 0 w 720720"/>
              <a:gd name="textAreaRight" fmla="*/ 721080 w 7207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001" h="1">
                <a:moveTo>
                  <a:pt x="0" y="0"/>
                </a:moveTo>
                <a:lnTo>
                  <a:pt x="200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0" name=""/>
          <p:cNvCxnSpPr/>
          <p:nvPr/>
        </p:nvCxnSpPr>
        <p:spPr>
          <a:xfrm>
            <a:off x="6552720" y="2971440"/>
            <a:ext cx="3960" cy="24534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321" name=""/>
          <p:cNvSpPr/>
          <p:nvPr/>
        </p:nvSpPr>
        <p:spPr>
          <a:xfrm>
            <a:off x="6119640" y="4859280"/>
            <a:ext cx="360360" cy="1800"/>
          </a:xfrm>
          <a:custGeom>
            <a:avLst/>
            <a:gdLst>
              <a:gd name="textAreaLeft" fmla="*/ 0 w 360360"/>
              <a:gd name="textAreaRight" fmla="*/ 360720 w 36036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1001" h="1">
                <a:moveTo>
                  <a:pt x="1000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640" bIns="-44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119640" y="5400720"/>
            <a:ext cx="360360" cy="1440"/>
          </a:xfrm>
          <a:custGeom>
            <a:avLst/>
            <a:gdLst>
              <a:gd name="textAreaLeft" fmla="*/ 0 w 360360"/>
              <a:gd name="textAreaRight" fmla="*/ 360720 w 3603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001" h="1">
                <a:moveTo>
                  <a:pt x="1000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9640" y="2160720"/>
            <a:ext cx="1800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08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s-AR" sz="1600" spc="-1" strike="noStrike" u="sng">
                <a:solidFill>
                  <a:srgbClr val="000080"/>
                </a:solidFill>
                <a:uFillTx/>
                <a:latin typeface="Georgia"/>
              </a:rPr>
              <a:t>ESTRUC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091040" y="2705040"/>
            <a:ext cx="144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619280" y="2913120"/>
            <a:ext cx="490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3132000" y="3777840"/>
            <a:ext cx="100836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140360" y="3780000"/>
            <a:ext cx="1440" cy="5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"/>
          <p:cNvGrpSpPr/>
          <p:nvPr/>
        </p:nvGrpSpPr>
        <p:grpSpPr>
          <a:xfrm>
            <a:off x="0" y="17640"/>
            <a:ext cx="9151920" cy="6840360"/>
            <a:chOff x="0" y="17640"/>
            <a:chExt cx="9151920" cy="6840360"/>
          </a:xfrm>
        </p:grpSpPr>
        <p:sp>
          <p:nvSpPr>
            <p:cNvPr id="329" name=""/>
            <p:cNvSpPr/>
            <p:nvPr/>
          </p:nvSpPr>
          <p:spPr>
            <a:xfrm>
              <a:off x="0" y="17640"/>
              <a:ext cx="9151920" cy="684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36080" y="180720"/>
              <a:ext cx="8882280" cy="6524640"/>
            </a:xfrm>
            <a:prstGeom prst="rect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1" name="" descr=""/>
            <p:cNvPicPr/>
            <p:nvPr/>
          </p:nvPicPr>
          <p:blipFill>
            <a:blip r:embed="rId1"/>
            <a:stretch/>
          </p:blipFill>
          <p:spPr>
            <a:xfrm>
              <a:off x="2499480" y="2874240"/>
              <a:ext cx="3961800" cy="11613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cp:lastPrinted>2012-11-27T21:14:42Z</cp:lastPrinted>
  <dcterms:modified xsi:type="dcterms:W3CDTF">2013-10-31T20:39:14Z</dcterms:modified>
  <cp:revision>34</cp:revision>
  <dc:subject/>
  <dc:title>Sin título de diapositiva</dc:title>
</cp:coreProperties>
</file>