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E27-EEC2-46D0-89C6-9A3447484E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0040-136A-4EF4-96D4-D46A3F01DC0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DC4-9A59-45EE-920B-27AC439E4C4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4EB4-CE5E-4AE0-925D-F458318456E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072D-6AF1-4989-9A4B-9CE94F330A5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8A57-ACC1-4C59-B810-F8D9195BDEA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2CA0-0E72-40E9-94E0-D80E3EA86B5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3757-A971-4F48-8A81-2BD2A389810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2DB-20C2-4C25-8673-3B00ECFDF4B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F1AF-022B-4752-BE80-1BBE6E65F0E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2E23-4AD2-4FAF-9188-8420E0D5205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EFC3-051E-47C0-8996-43A2CEB35B8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D32-2206-47C1-8548-DAD6CC641E0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AA3A-C87F-4CF6-92CD-AC55D1495EA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52F1-F8EE-4DB3-8763-9907727C281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261C-D283-49E8-9EEA-8025524CA36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90C0-C179-4480-B674-CB275927CD6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0A05-F6D2-475F-A963-83743B738CD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A00-C1BE-4520-B612-62D2A53F03A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ffff2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D77D-BC8A-415C-8925-141F7940379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142A-A3B2-47B2-9D8C-6271142D0FC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B941-E55F-488D-99AB-667247A6374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 si BPS necesita se agreguen validaciones especificas de su siste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1215-C6DB-49AC-A022-6E607CB0E1C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8E09-EC9F-4163-85D5-AB4DC67C0C4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D61-AA8B-4E58-B17A-C01E1890383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8572-5AFC-4DA4-88B6-E5F3C395E8A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FA60-3B46-4D65-B751-A6080AEFD20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7C48-412E-4669-90FC-E77081045DB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79F4-C7A6-42BC-BE95-FB7BD22FDA2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77A4-3627-464D-93C4-2FDB680A927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479B-3E10-4CED-B83C-1EB1288D9D0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C9EB-B1B6-4186-9BC3-389C32FEDE8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D0EC-0EF2-47C8-BD0E-645E7C0D538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E9D5-450B-489B-980B-19A5981EB1E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9E57-DFE2-4264-8241-A508E34C1EA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7FB0-373C-431D-A588-73C977CCA4D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0960-7F0F-4D0C-980D-00364EAD8D8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50B5-C3C9-4B87-8628-FB8B5568C07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B657-8F73-48C3-A95C-DB057055467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4779-8DF3-474D-8B97-01A97CA6754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4F9B-9475-4DC2-988E-5AB1B51ADD2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0AC8-2C4D-4DAA-A432-7CB974F7D03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47E2-7709-49F5-88D8-C8B3BDDAB91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4998-B06C-4923-AD9B-406E59F3F02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5BD-45EF-4CFA-BC6A-EDFE3512A36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4578-2FD4-4CCD-A7B3-D5F7A065C2C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EE6A-8E04-4EED-AB60-7D1581BB26C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013-D1CC-4686-B2CB-2DB22E4D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72E-D1B8-4710-9845-3B8B9536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F2D-884F-4F96-8AA2-FC9BB16C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5508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9756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260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5508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9756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311-705B-4C80-9715-11B647CF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46D2-32F8-4CD3-8C25-9A29270F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5A9-9BF4-4A25-900A-39A98493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1038-B828-48F5-9474-5741C165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EB2D-E1EF-4446-A086-F7C162A2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8966-CD8F-430F-B979-100DFB65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05040" y="439200"/>
            <a:ext cx="81626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ABE3-D92E-440F-BFB2-5D2B2F34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4A06-E0AE-45F9-9A51-398DF118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B5B-F315-4073-91EE-0E6FDBA3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B33D-D285-49EF-99B3-154A8269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DC67-E37D-4AD7-9D36-5A932D9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3AF-E8C8-42E6-A1FE-4CA32738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2FE8-D8C2-4EEB-AB40-FEFBA0D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1DF0-C3A6-409B-9859-68A71344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7CC-9364-4FF7-BE4F-0F91D10F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B86-65EF-426F-ABB4-88E3BBAC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C71-3899-4163-9B6C-63161167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05040" y="439200"/>
            <a:ext cx="81626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68C-3AB7-40FE-A225-37E95ABD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6FD-30FF-41D2-8D31-E1444C4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B9F-3312-43BD-9AA6-194B371C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F2A-3B6B-4032-88D0-AB33F996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" name="Rectangle 23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" name="Rectangle 24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" name="Rectangle 25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" name="Rectangle 26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" name="Rectangle 27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5" name="Rectangle 28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6" name="Rectangle 29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7" name="Rectangle 30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8" name="Rectangle 31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9" name="Rectangle 32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0" name="Rectangle 33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1" name="Rectangle 34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3" name="Rectangle 36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4" name="Rectangle 37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5" name="Rectangle 38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6" name="Rectangle 39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7" name="Rectangle 40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" name="Rectangle 41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" name="Rectangle 42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" name="Rectangle 43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" name="Rectangle 44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" name="Rectangle 45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" name="Rectangle 47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Rectangle 48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Rectangle 50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" name="Rectangle 51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" name="Rectangle 52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54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55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Rectangle 56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4" name="Rectangle 57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Rectangle 58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7" name="Rectangle 60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8" name="Rectangle 61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1" name="Rectangle 64"/>
          <p:cNvSpPr/>
          <p:nvPr/>
        </p:nvSpPr>
        <p:spPr>
          <a:xfrm>
            <a:off x="0" y="1143000"/>
            <a:ext cx="695016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1C31-B974-4290-91BB-30B7CFDD58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3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4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</p:grpSp>
        <p:sp>
          <p:nvSpPr>
            <p:cNvPr id="165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166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167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B5B8-8A22-4453-B770-57F764748A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ervicios.dgi.gub.u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678440" cy="25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003366"/>
                </a:solidFill>
                <a:latin typeface="Verdana"/>
              </a:rPr>
              <a:t>MODIFICACION WEB </a:t>
            </a:r>
            <a:br>
              <a:rPr sz="4000"/>
            </a:br>
            <a:r>
              <a:rPr b="0" lang="es-MX" sz="4000" spc="-1" strike="noStrike">
                <a:solidFill>
                  <a:srgbClr val="003366"/>
                </a:solidFill>
                <a:latin typeface="Verdana"/>
              </a:rPr>
              <a:t>DATOS REGISTRAL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400" y="2860200"/>
            <a:ext cx="8229600" cy="32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7" descr="logo"/>
          <p:cNvPicPr/>
          <p:nvPr/>
        </p:nvPicPr>
        <p:blipFill>
          <a:blip r:embed="rId1"/>
          <a:stretch/>
        </p:blipFill>
        <p:spPr>
          <a:xfrm>
            <a:off x="2843280" y="3429000"/>
            <a:ext cx="4319640" cy="1655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6100920"/>
            <a:ext cx="741708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ENCUENTRO SUR-SUR GUATEMALA-ANTIGUA  Agosto 2013 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      </a:t>
            </a:r>
            <a:r>
              <a:rPr b="1" lang="es-UY" sz="1600" spc="-1" strike="noStrike">
                <a:solidFill>
                  <a:srgbClr val="ff9900"/>
                </a:solidFill>
                <a:latin typeface="Verdana"/>
              </a:rPr>
              <a:t>        URUGUAY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56000" y="231840"/>
            <a:ext cx="5472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Plataforma Web – Back-End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cesos Back-End  - Receptores de declaraciones, procesos batch de carga y procesamiento de in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junto de web services para  obtener información unificada de tablas, para realizar validaciones de negocio y en algunos casos grabar los datos obten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Tomaremos  como modelo para mostrarles la solución dada en el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Sistema de Modificación Web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, en el cual se puede ver el ciclo completo de la informa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56000" y="658800"/>
            <a:ext cx="5472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Objetivo Modificacion WEB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mitir  que el contribuyente realice modificaciones  de ciertos datos registrales, a través de la WEB, contemplando  dos situaciones claramente diferenciad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tuación I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- Modificación de datos que no requieren controles funci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tuación II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– Modificación de datos que requieren un control funcional previo a su aprob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03280" y="598320"/>
            <a:ext cx="482436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grar que  la aplicación responda rápidamente y  sea amigable dado que será utilizada por usuarios que no necesariamente tendrán conocimientos informátic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rindar ayudas genéricas y  localizadas en cada bloque de información, con  mensajes claros que guíen la acción del usua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acilitar al contribuyente un usuario externo para ingresar y su Password para garantizar la seguridad de sus datos. Ingresar al sector indicado como </a:t>
            </a:r>
            <a:r>
              <a:rPr b="1" lang="es-ES" sz="2400" spc="-1" strike="noStrike">
                <a:solidFill>
                  <a:srgbClr val="336699"/>
                </a:solidFill>
                <a:latin typeface="Verdana"/>
              </a:rPr>
              <a:t>Registro Único Tributari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 seleccionar la opción </a:t>
            </a:r>
            <a:r>
              <a:rPr b="1" lang="es-ES" sz="2400" spc="-1" strike="noStrike">
                <a:solidFill>
                  <a:srgbClr val="336699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7640" y="127080"/>
            <a:ext cx="619308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Gestión de Solicitud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466560" y="1341360"/>
            <a:ext cx="793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56000" y="563400"/>
            <a:ext cx="65116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os a modificar Situación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as Fí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ombre Fantasía,    Sex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tado Civil, Ocupación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Constitui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Fiscal/Particular y Contactos de cada uno de ellos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32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32000" y="563400"/>
            <a:ext cx="59356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ombre de Fantas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nominación o Razón Social cuando son calculadas a partir de sus integrantes ( Núcleo Familiar ,  Sociedad de hecho,  Condominio o Sociedad Civil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16000" y="563400"/>
            <a:ext cx="615132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8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constit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úmero de inscripción RNC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inscripción RN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balance (sólo para tipo de balance  Otras Actividade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logo"/>
          <p:cNvPicPr/>
          <p:nvPr/>
        </p:nvPicPr>
        <p:blipFill>
          <a:blip r:embed="rId1"/>
          <a:stretch/>
        </p:blipFill>
        <p:spPr>
          <a:xfrm>
            <a:off x="395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Constituido dentro de la misma Unidad Administrativa de Gest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s  de  todos los domicilios vigentes ( Constituido, Fiscal, Particul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lidad en que ocupa  Domicilios Fiscales vigentes ( locales activ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10" descr="logo"/>
          <p:cNvPicPr/>
          <p:nvPr/>
        </p:nvPicPr>
        <p:blipFill>
          <a:blip r:embed="rId1"/>
          <a:stretch/>
        </p:blipFill>
        <p:spPr>
          <a:xfrm>
            <a:off x="324000" y="404640"/>
            <a:ext cx="2076480" cy="702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2916360" y="56160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2920" y="455400"/>
            <a:ext cx="54738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os a modificar Situación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as Fí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dos los datos de Situación I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ligacio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7" descr="logo"/>
          <p:cNvPicPr/>
          <p:nvPr/>
        </p:nvPicPr>
        <p:blipFill>
          <a:blip r:embed="rId1"/>
          <a:stretch/>
        </p:blipFill>
        <p:spPr>
          <a:xfrm>
            <a:off x="32400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522000"/>
            <a:ext cx="60436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os a modificar Situación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os los datos de Situación 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ódigo de actividad (CIIU4 - Gir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bligaciones/Caracterís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aja de local (excepto local principal y locales con actividad rur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55640" y="554040"/>
            <a:ext cx="5903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Temas de la Presentació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84360" y="1413000"/>
            <a:ext cx="80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aforma DGI WEB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tivo Modificación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scripción del Sistem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olución Técnic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tegración con BP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Navegabilidad del Sistem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Verdana"/>
              </a:rPr>
              <a:t>PGE –Plataforma de Gobierno Electrónico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05040" y="558360"/>
            <a:ext cx="589896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cilio Constituido  inclusive c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erent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dad Administrativa 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st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de balance ( Alta , Baja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ca de actividad Principal (Giro indicado en alguno de los loc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pantalla de datos registrales que se despliega dependerá de si se trata de una Persona Física,  una Persona Física con Actividad Empresarial o una Entidad Pluripers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verifica la existencia de la empresa en el BPS, quien brinda la correlación del RUT con el o los  número/s internos en su orga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Una solicitud de modificación tendrá una única fecha de vigencia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aquellos datos con histórico (fecha inicio / fin), las operaciones que se permitirán serán dar de baja el dato a la fecha de vigencia, o agregar un nuevo d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desplegarán todos los datos vigentes actualmente y los que inician a futuro (obligaciones y condi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quellos datos que no se permitan modificar aparecerán inhabilit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en un mismo acto existen datos a modificar de situaciones I y II, se tratarán todos en situación 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empre se graba una solicit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situación I la solicitud quedará en estado </a:t>
            </a:r>
            <a:r>
              <a:rPr b="0" lang="es-ES" sz="2400" spc="-1" strike="noStrike">
                <a:solidFill>
                  <a:srgbClr val="9a0000"/>
                </a:solidFill>
                <a:latin typeface="Verdana"/>
              </a:rPr>
              <a:t>ACEPTAD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grabando las modificaciones directamente en la base de datos del RUT, se realiza  a través de web servic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situación II  las solicitud quedará en estado </a:t>
            </a:r>
            <a:r>
              <a:rPr b="0" lang="es-ES" sz="2400" spc="-1" strike="noStrike">
                <a:solidFill>
                  <a:srgbClr val="9a0000"/>
                </a:solidFill>
                <a:latin typeface="Verdana"/>
              </a:rPr>
              <a:t>PENDIENTE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sin grabar las modificaciones, esperando ser gestionada posteriormente por un funcionario del registro e inhabilitando  una posible modificación presencial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5040" y="-57240"/>
            <a:ext cx="64036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aplicación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detect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a que “Situación”  corresponde cuando el usuario confirma la solicit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n cualquiera de las situaciones se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graba 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solicitud en back-end. (a través de web servic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Valida e inform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n la pantalla el resultado, sea de rechazo con los motivos o  de aprob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Enví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l número de Solicitud al correo electrónico del domicilio constituido (confirmado al comienzo de la operati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71280" y="100080"/>
            <a:ext cx="51850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Validacion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trol de datos mínimos necesarios para garantizar la calidad del conjunto de datos registrales luego de la futura modif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ausencia de algunos datos impiden el ingreso y la de otros son motivo de aviso, para que sean ingresados en el mismo a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plicarán validaciones básicas en cada bloque de información para asegurar la completitud de los datos y la casuística de fechas posi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validaciones de negocio son similares al sistema RUT también Web pero que funciona en back-end y operan los usuarios del Registro. Se realizan mediante Web Services, tanto para Situación I o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5040" y="-57240"/>
            <a:ext cx="61149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ambio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3200" y="1341360"/>
            <a:ext cx="8110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Cambios Situación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grabarán las modificaciones en la base de datos de Rut en forma inmedia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darán visibles desde RUT y por consiguiente en todos los sistemas que lo acceden incluyendo la Consulta  Web de datos Registrales que es otr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solicitud queda aprobada y disponible para visualizar en la bandeja de Gestión de Solicitudes de R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91344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ambios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267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Cambios Situación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grabarán en la base de datos de RUT hasta que la solicitud sea revisada y CONFIRMADA por un funcionario del RUT d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sde la bandeja de Gestión de Solicitudes We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n NEGAR los cambios ya sea porque no validan o porque el funcionario encuentra incongruenci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n cancelar en forma presencial  si el contribuyente se presenta a realizar camb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 NO APROBAR directamente por controles del BPS que serán notific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os cambios de estado de la solicitud se guardan en un histór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63640" y="4680"/>
            <a:ext cx="6840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Integración BP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267920"/>
            <a:ext cx="8110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conexión para consumo de web services se realiza a través de la plataforma de interoperabilidad REDuy que brinda AGES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vío automático de mail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sistema envía mail a BPS adjuntando un archivo .PDF con las modificaciones realizadas y su correspondiente número de solicitu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ntanilla únic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funcionario de DGI trabaja junto a funcionario de BPS,  cada uno opera su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este caso en DGI con la bandeja de Gestión de Solicitudes que es uno de los puntos de entrada del Sistema R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6000"/>
            <a:ext cx="6553440" cy="10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gración BP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rfase B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PS brinda un Web Service de Empresa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do que en BPS un contribuyente puede estar registrado con diferentes números de empresa según su aportación (rural, indusdria, comerecio), es que  consumimos dicho servicio para identificar a cual corresponde la  modific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uncionario BPS ingresa, valida y comunica  la aprobación de una solicitud o su rechazo con motivos, para que funcionario DGI realice la gestión correspondiente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9720" y="40140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DGI está avanzando y poniendo foco en la Entrada de Datos y Mantenimiento de los Registros  a través de herramientas y servicios publicados en su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ortal Tributario de Servicios en Líne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cces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servicios.dgi.gub.uy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ores Involucra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GI (Dirección General Impositi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PS (Banco de Previsión Social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SIC (Agencia de Gobierno Electrónico y Sociedad de l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ibuyente (Empresas y Person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690696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Verdana"/>
                <a:ea typeface="Times New Roman"/>
              </a:rPr>
              <a:t>Modelo Conceptua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26920" y="423216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graphicFrame>
        <p:nvGraphicFramePr>
          <p:cNvPr id="307" name="Object 5"/>
          <p:cNvGraphicFramePr/>
          <p:nvPr/>
        </p:nvGraphicFramePr>
        <p:xfrm>
          <a:off x="684360" y="907920"/>
          <a:ext cx="858348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07920"/>
                    <a:ext cx="858348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Picture 7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4680" y="-57240"/>
            <a:ext cx="719604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3200"/>
            </a:b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seño Técnico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11" name="Object 3"/>
          <p:cNvGraphicFramePr/>
          <p:nvPr/>
        </p:nvGraphicFramePr>
        <p:xfrm>
          <a:off x="324000" y="1341360"/>
          <a:ext cx="842472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24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Picture 5" descr="logo"/>
          <p:cNvPicPr/>
          <p:nvPr/>
        </p:nvPicPr>
        <p:blipFill>
          <a:blip r:embed="rId3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541800" y="-1152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greso de la Fecha de Vigencia de la modificación solicit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7" descr="logo"/>
          <p:cNvPicPr/>
          <p:nvPr/>
        </p:nvPicPr>
        <p:blipFill>
          <a:blip r:embed="rId1"/>
          <a:stretch/>
        </p:blipFill>
        <p:spPr>
          <a:xfrm>
            <a:off x="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488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7122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2600" y="1341360"/>
            <a:ext cx="81104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reso o selección del e-mail del domicilio constituido al cual se informará del curso de la modific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6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99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ción del  Número de empresa BP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6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497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4000" y="1341360"/>
            <a:ext cx="8110440" cy="5516640"/>
            <a:chOff x="324000" y="1341360"/>
            <a:chExt cx="8110440" cy="5516640"/>
          </a:xfrm>
        </p:grpSpPr>
        <p:pic>
          <p:nvPicPr>
            <p:cNvPr id="328" name="Rectangle 3" descr=""/>
            <p:cNvPicPr/>
            <p:nvPr/>
          </p:nvPicPr>
          <p:blipFill>
            <a:blip r:embed="rId1"/>
            <a:stretch/>
          </p:blipFill>
          <p:spPr>
            <a:xfrm>
              <a:off x="324000" y="1341360"/>
              <a:ext cx="811044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 txBox="1"/>
            <p:nvPr/>
          </p:nvSpPr>
          <p:spPr>
            <a:xfrm>
              <a:off x="324000" y="1341360"/>
              <a:ext cx="811044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66560" y="1341360"/>
            <a:ext cx="8556840" cy="5256360"/>
            <a:chOff x="466560" y="1341360"/>
            <a:chExt cx="8556840" cy="5256360"/>
          </a:xfrm>
        </p:grpSpPr>
        <p:pic>
          <p:nvPicPr>
            <p:cNvPr id="333" name="Rectangle 3" descr=""/>
            <p:cNvPicPr/>
            <p:nvPr/>
          </p:nvPicPr>
          <p:blipFill>
            <a:blip r:embed="rId1"/>
            <a:stretch/>
          </p:blipFill>
          <p:spPr>
            <a:xfrm>
              <a:off x="466560" y="1341360"/>
              <a:ext cx="855684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 txBox="1"/>
            <p:nvPr/>
          </p:nvSpPr>
          <p:spPr>
            <a:xfrm>
              <a:off x="466560" y="1341360"/>
              <a:ext cx="8556840" cy="5256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5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79640" y="75960"/>
            <a:ext cx="5472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 CON ACTIVIDAD EMPRESA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408720" cy="4078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7338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 CON ACTIVIDAD EMPRESA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921800" cy="4287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4680" y="75960"/>
            <a:ext cx="71960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Domicilio Constitu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52960" cy="4267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6560" y="1196640"/>
            <a:ext cx="8677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as las personas y empresas pueden acceder a estos servici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quisitos y la documentación solicitada varía de acuerdo a la naturaleza del servicio que se desea utiliz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rvicios de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cceso gener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rvicios  que requieren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IN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identificación del usuario a través de una clave de acceso. Se puede obtener en las Entidades colaboradoras con el R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rvicios que requieren la firma de un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contrato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n DGI para la obtención de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usuarios y clave.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Otros Domicil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172200" cy="3990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747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Lo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748560" cy="4319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39640" y="1341360"/>
            <a:ext cx="8483760" cy="5183280"/>
            <a:chOff x="539640" y="1341360"/>
            <a:chExt cx="8483760" cy="5183280"/>
          </a:xfrm>
        </p:grpSpPr>
        <p:pic>
          <p:nvPicPr>
            <p:cNvPr id="358" name="Rectangle 3" descr=""/>
            <p:cNvPicPr/>
            <p:nvPr/>
          </p:nvPicPr>
          <p:blipFill>
            <a:blip r:embed="rId1"/>
            <a:stretch/>
          </p:blipFill>
          <p:spPr>
            <a:xfrm>
              <a:off x="539640" y="1341360"/>
              <a:ext cx="84837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 txBox="1"/>
            <p:nvPr/>
          </p:nvSpPr>
          <p:spPr>
            <a:xfrm>
              <a:off x="539640" y="1341360"/>
              <a:ext cx="8483760" cy="5183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60" name="Picture 6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829120" cy="3886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29480" cy="3886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829480" cy="3959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6200" y="1267920"/>
            <a:ext cx="8426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taforma de Gobierno Electrónico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porciona el ambiente normativo legal y técnico, así como los instrumentos informáticos necesarios para facilitar la instalación de aplicaciones y servicios de gobierno electrónico en el Estado uruguay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canismos de segur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canismos de comunicación estándares basados en Web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Du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d de alta velocidad (10/100 Mb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os los organismos conectados entre sí con un único enlace, sin la necesidad de punto a pu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 costo (para Administración Cent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111600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04292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1258920" y="1565280"/>
            <a:ext cx="6676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4292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662280"/>
            <a:ext cx="7678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Muchas gracias por vuestra Atención!!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83" name="Picture 5" descr="logo"/>
          <p:cNvPicPr/>
          <p:nvPr/>
        </p:nvPicPr>
        <p:blipFill>
          <a:blip r:embed="rId1"/>
          <a:stretch/>
        </p:blipFill>
        <p:spPr>
          <a:xfrm>
            <a:off x="250920" y="62064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Servicios de acceso gener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  y Solicitud de Certificados (C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vío de declaraciones (.txt o .xml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Imprimir Boletos de P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Inicia Inscripciones en el Registro Único Tributario en simultáneo B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alizar Pagos Web para Contribuyentes de determinado  grupo de Empresas y Personas Físic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Multas y Recarg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Expedientes Administra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Devoluc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si existen Borradores de IRPF o IASS de una pers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95280" y="623880"/>
            <a:ext cx="68720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Servicios que requieren 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as Constancias de Autorización de Impresión de Documentación Solicitad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nvío de declaraciones IR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as Devoluciones disponibles de IRPF – Monoingres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os Certificados de Crédito Disponib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, modificar o confirmar los datos de la Declaración Borrador de IRAE Agropecuar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licitar Constancia de Autorización de Impresión de Document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Modificación de Datos Registrales de Persona Fís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Duplicado de Constancia de Inscrip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logo"/>
          <p:cNvPicPr/>
          <p:nvPr/>
        </p:nvPicPr>
        <p:blipFill>
          <a:blip r:embed="rId1"/>
          <a:stretch/>
        </p:blipFill>
        <p:spPr>
          <a:xfrm>
            <a:off x="53964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Verdana"/>
              </a:rPr>
              <a:t>Servicios que requieren firma de contrato, usuario y cl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ada de Declaraciones Jurad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 de Declaraciones enviadas y su es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dificación de datos registrales de Empre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s de datos regist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 de Pagos realizad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ten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vío de  Declaraciones de IRPF, que no lleven timbre profesion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730080" y="56160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6560" y="1268280"/>
            <a:ext cx="82821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730080" y="56160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042920" y="1447920"/>
            <a:ext cx="72010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22:27:24Z</dcterms:created>
  <dc:creator>Gonzalo </dc:creator>
  <dc:description/>
  <dc:language>en-US</dc:language>
  <cp:lastModifiedBy> </cp:lastModifiedBy>
  <dcterms:modified xsi:type="dcterms:W3CDTF">2013-10-29T10:06:21Z</dcterms:modified>
  <cp:revision>454</cp:revision>
  <dc:subject/>
  <dc:title>Presentación de PowerPoint</dc:title>
</cp:coreProperties>
</file>