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7.wmf" ContentType="image/x-wmf"/>
  <Override PartName="/ppt/media/image26.png" ContentType="image/png"/>
  <Override PartName="/ppt/media/image2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33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30.png" ContentType="image/png"/>
  <Override PartName="/ppt/media/image31.png" ContentType="image/png"/>
  <Override PartName="/ppt/media/image34.png" ContentType="image/png"/>
  <Override PartName="/ppt/media/image4.png" ContentType="image/png"/>
  <Override PartName="/ppt/media/image3.wmf" ContentType="image/x-wmf"/>
  <Override PartName="/ppt/media/image10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</p:sldIdLst>
  <p:sldSz cx="9144000" cy="6858000"/>
  <p:notesSz cx="6789738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0" y="0"/>
            <a:ext cx="67896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dt" idx="61"/>
          </p:nvPr>
        </p:nvSpPr>
        <p:spPr>
          <a:xfrm>
            <a:off x="3844800" y="0"/>
            <a:ext cx="2941920" cy="495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body"/>
          </p:nvPr>
        </p:nvSpPr>
        <p:spPr>
          <a:xfrm>
            <a:off x="679320" y="4710240"/>
            <a:ext cx="5429520" cy="4464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ftr" idx="62"/>
          </p:nvPr>
        </p:nvSpPr>
        <p:spPr>
          <a:xfrm>
            <a:off x="-360" y="942012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 type="sldNum" idx="63"/>
          </p:nvPr>
        </p:nvSpPr>
        <p:spPr>
          <a:xfrm>
            <a:off x="3844800" y="9420120"/>
            <a:ext cx="2941920" cy="495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4963E521-2271-4CC2-9623-8E56C557A1AF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98F4601-8243-4B6D-8025-FFE5787AE55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60A6E67-7F35-49C8-93CA-6A2838EA706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79C98ED-D6D8-49E9-8410-2D218F83BCD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51E37C0-913E-4011-98AE-54247D7FF66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FFDF25B-6F7A-4E68-B85B-776CBE6AF04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9746635-EE06-4605-89F1-656ACC3A989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D43014D-AD2D-4456-A3B5-4E7569BD7F2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9CF47A4-72FC-48EB-B3B8-E0C9EE2A180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F0C85CB-0680-4D08-B7A8-533CAB98DE3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AB927C8-2A58-4B34-B5BB-25D004E8073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F5B0565-4B57-44D9-A365-0CAC67565A9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5A6DC7D-EE5E-47E4-89C1-44422CC8357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969840" y="19512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813825B-7409-49DA-B2C0-D40FF416546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969840" y="19512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9370735-49F7-49FC-AA36-0076FA82BA7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ADEEA89-8226-4DF7-98F2-B9A5B8610E6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0D48489-D998-4740-A5E7-6D296200EF4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8F77DA4-AA39-4097-BA73-F9552722DCA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8F9054E-5E4C-49F9-A9D3-1AFB829CA23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844800" y="94201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6E3A75B3-98C4-4D2E-8B84-9461379714C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79320" y="4710240"/>
            <a:ext cx="5429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5F09B5D-84B5-492A-9111-51B26DF7CD0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62EF79A-CC95-4479-8D2E-1525B66A7B4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1CEAE-AD14-4B27-BCF9-4B464DC18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68307-956D-4EC7-860C-73ED52F5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E0013-13B3-474D-B4DD-63EDFEA9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0ED63-A6E9-46D9-8609-3C5B8D6E8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4707EF-334F-4149-BEF8-BDFCF74D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A63457-1B2C-4AE4-BC1D-ABFEEF8C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9FEBE-E1D9-46A8-A5A2-58F0A6F6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08276-8293-4710-8D21-399ECAFD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4C662F-5280-4565-97B7-E5936C02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49595-CE2C-4D38-A7C7-2B5E75BA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601E18-80EC-40E7-9892-419F7963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F03A9-C889-45BF-A004-4FCE5434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826381-87AB-4807-97BF-4AAC1A03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F8EF2-C028-41F4-BF34-F9156C20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03C7CD-3657-4F75-94D6-481A8AB2A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8F92E5-3BE4-46FA-9E9D-EFA032D7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A5EDE-BF2F-48F1-A041-6A9C5A024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BF3E5-C892-4BFC-B6BB-38EB9846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4341C-787C-437A-A75A-78CF1AE1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6120D-7113-44A5-8AA5-B77D731B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6B51BA-03B6-4459-8718-1071675C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F92BA-0EB6-4A12-AA71-3BCA9C54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31ADD-3EF9-42A5-9B1F-C1EA7BB2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3D275-FF9B-41E3-8243-24EB88E3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F01FC-8897-4493-8C6D-069B231B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7A609-A6A3-41F8-97D9-DBF88533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CC23F-97EF-47CC-A10D-EE5F02BE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33958-A5A3-4F4F-BE9F-76F3E409F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BA35E-6427-4BBA-8F90-88B12640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90B82-8F52-4E94-9FDF-A01B93D96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88F252-E828-4AAE-A7C6-E0AD9F78C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A7733E-51CA-4B09-B6D5-A60A2468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D6043F-8367-4C67-9F53-C5CFEF64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4FEACB-2732-4645-A6A3-F2D2BF33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263741-BEE6-4445-A576-12FBF403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19BBFA-4791-4AB6-8D8F-92C2AC02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D21E77-0451-49F5-AC68-7799EB76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034915-ACA7-48DC-8265-3C3127A4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B82D03-1C6B-48B9-AA5C-B336FC60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FE09E-503B-4475-93BC-D04AF8E9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0947FD-47E1-4FC6-8EA2-5BD37B9F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FBA1DB-62A5-41C6-8878-B34F80B50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1EC82-A918-493E-975A-82E092D19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33A47B-35BA-4D90-9FB5-3A0C7E00F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7D2CAD-C63D-4296-9285-EEBF53D9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E40F9E-1DB8-4A46-BC97-AEA43547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C0243E-BE5B-45E5-A9D0-D4C6E507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C38D51-5CD0-4CFD-9BBA-6B2F7D50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55DECE-3DB0-4761-B107-E8505416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DCE134-6814-4FF3-87C7-6401884E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7FCAE-363C-43F6-AAAE-7A574BE7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49D66E-838C-4621-A4DC-B8343D76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FB0083-8B73-4326-878D-B84CF588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E91439-C981-4C35-B4CD-8B274618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BA8E46-2CE7-4E57-B36E-1C3EFA2F4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F9E5F1-E0DD-4DCE-AAA4-368DD0EC0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37DDB8-C5DF-41E3-A803-9716E7ED7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E41BA9-DC31-4EA8-9589-706732CE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F1F713-2138-41B6-92D7-20B774B5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4E6059-E47A-427C-A36D-C4C1EF76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569551-118F-4C0D-B941-57FDA9CF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19078-38EB-4B7D-8025-3EF0D044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8FACF5-8056-4B8D-A2EA-A3290AE5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E2FD6B-A68C-4C52-B486-8F94C937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9ABD17-5099-43A9-9E6A-425C34A6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0B6EB7-177E-4108-AC0D-116C9284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109DA5-9153-4266-AB1E-2B90CE24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B28357-B939-4C63-9D51-F29D0260A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3E7427-8990-4BD7-B3AA-85BCB5A08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56F583-AD1C-49CC-8FC2-04C58766A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EC39A1-465C-4054-943D-EC4B3A8B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EA383D-625B-4921-AA28-1F08309A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15464-088E-4C4D-97B9-AEEAC353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2E9D4D-8C4A-432D-95BA-31930642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EF6715-D28A-4A7E-90C0-06F6C29C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B77BEA-A1F1-49C2-973D-0B0B4378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3195A2-B1FF-4FA7-A783-9A096B25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DF3916-463A-4296-91FF-F7C410F1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9ABD97-5D56-4A79-8761-DDA69350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F21D69-F7C1-4F4A-A101-01DFD9B9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4D623E-3930-4A75-8F2C-7BFAD66D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189265-653B-4773-BFF6-BDA421A14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C97219-CF87-4746-9A0C-06824EEC9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7A56F-FC8F-4C12-B8CF-E99C3A98A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70EB12-5BAE-414F-92A4-145C301F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C207BB-AAC6-4605-9A1D-61638AFC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001F6B-51EB-4481-B18B-94960CB6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40752E-5061-4097-BFAA-8882762E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BBD9C2-1563-44D0-882A-CEE48008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BDBC0F-CF21-4B33-B857-E5092D56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7C5F33-92BF-4E07-B315-A04C4EA9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8838AD-3713-482C-BA83-87D34646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5FCFB9-C815-4126-8BF0-C5348426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926132-084F-47C2-BB1B-49A1A8CCC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7D6D1-9FF4-4B23-9370-F622D3C5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D0BD72-D4AD-4023-A0DB-081CF8829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25E53A-FB94-4D22-BF38-098B1DC80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6DE7B5-903B-4F17-B10D-85E462B4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8B422F-A945-4CE8-B305-8821655D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086A7F-7E82-49D7-834E-B65CDCE1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C01B4C-7B43-41A7-8595-0AB6E310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6F0D65-1341-41DC-9E15-B8B54227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A9C07A-01AB-482C-9ED2-74D4D972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694E7F-22BD-4AC0-9BE7-F066C327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1349F8-47E7-476D-8A4A-ADA31950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DE2B35-2077-4862-B833-CC1254EF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8E7372-C3D5-4A91-B354-DB835A943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C964EC-4EE7-4A54-A437-A9406AFF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05F126-D831-4B5A-BA01-1D5B3A054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9B7130-7902-4602-8DD5-8D7DE338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CC717E-BF57-4656-88CE-43C2B202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5C9FE5-90AA-45C5-BD4A-A9D4311D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1D44FC-332C-4EEF-946F-028A65E3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B1EEC5-6481-426A-BEAE-DC5EBAB6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62CD96-15C6-4428-972F-2CF6DD8A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EE5372-F792-4289-8839-1E6C1DAA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82688F-1B5A-42B6-B1A0-65A9538C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E44378-9F45-4DD6-B338-6CDAB231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E337DF-4388-4EC7-95B3-7B926239E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DCA68C-5DFD-4C73-A3CA-922AA640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DBAF94-54BA-4E65-81AB-F083F02F1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687D94-3E7F-4A81-9629-25DD567A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26B51E-8B4A-42A4-802B-CEF762C5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5A8DDE-2E9B-4396-9EEC-874054BD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CFA6F8-085C-45A2-9A94-F1370465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DDF5C3-9C6E-46BB-A2CF-D94B543B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49E74B-2CAF-4925-938E-D5FDBBC7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ADF73C-14C7-4A7F-8B79-0155C5CC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52169D-BAEC-488F-867D-B52DDA06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0287C7-A409-4A92-9928-D30E01EB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9DD8FF-E548-45A9-8AAC-981361B28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39FF7E-30D7-46E6-BDD1-3A8D39AC1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B11ED4-7875-44B4-AF5B-A39F624C5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E1F35D-3DA0-47BE-B4B7-9985D2A5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4F542E-6537-4DDE-9C35-BEE16D2A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24636E-8232-4165-A36B-978F44A9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727F36-D4ED-4478-975A-B274C06F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F3CF6C-B047-4C68-9605-2E6587D6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B76E3B-2ABF-4D7B-AAE8-F88EEBB4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3A4A87-AE2D-4066-B20A-39659DEF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81E9BD-CB1E-4CAE-9E4D-5F035866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6275CD-0A74-4CE4-A391-8DE5A68D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4115CB-3C93-4733-9BA5-0F862D9B0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87E23A-949C-4AF5-AEF9-6432DA622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165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3" descr="DGI%20logo%20chico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7893000" y="6089760"/>
            <a:ext cx="782640" cy="58104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6"/>
          <p:cNvSpPr/>
          <p:nvPr/>
        </p:nvSpPr>
        <p:spPr>
          <a:xfrm>
            <a:off x="0" y="0"/>
            <a:ext cx="9144000" cy="1392120"/>
          </a:xfrm>
          <a:prstGeom prst="rect">
            <a:avLst/>
          </a:prstGeom>
          <a:solidFill>
            <a:srgbClr val="00008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1"/>
          </p:nvPr>
        </p:nvSpPr>
        <p:spPr>
          <a:xfrm>
            <a:off x="6248160" y="6165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3"/>
          </p:nvPr>
        </p:nvSpPr>
        <p:spPr>
          <a:xfrm>
            <a:off x="6248160" y="6165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25"/>
          </p:nvPr>
        </p:nvSpPr>
        <p:spPr>
          <a:xfrm>
            <a:off x="6248160" y="6165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7"/>
          </p:nvPr>
        </p:nvSpPr>
        <p:spPr>
          <a:xfrm>
            <a:off x="6248160" y="6165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A92F-CA8A-4670-A155-C3137B3E6A3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8514-D045-44AB-8AD0-19F898F1417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65E0-9018-4944-92F2-57A71878D34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6DFF-3CE0-461F-B7D2-59629349E3D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309F-9F0D-428C-AD42-0B0440F1265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4018-A19F-48B9-A444-306A9DF4E07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372A-AF8A-4F61-8188-B7C4224E893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DC53-47AD-4B59-8B38-86AD10FC3B1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7DCD-E68F-431C-84DD-58DBBD496B3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A534-DB40-4DCE-A441-F8AF17DD2E5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38DB-E868-499A-AB42-C51840E4DB9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A699-1B33-41E4-9DC6-82E432A3571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6248160" y="6165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9"/>
          </p:nvPr>
        </p:nvSpPr>
        <p:spPr>
          <a:xfrm>
            <a:off x="6248160" y="6165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6248160" y="6165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3"/>
          </p:nvPr>
        </p:nvSpPr>
        <p:spPr>
          <a:xfrm>
            <a:off x="6248160" y="6165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5"/>
          </p:nvPr>
        </p:nvSpPr>
        <p:spPr>
          <a:xfrm>
            <a:off x="6248160" y="6165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7"/>
          </p:nvPr>
        </p:nvSpPr>
        <p:spPr>
          <a:xfrm>
            <a:off x="6248160" y="6165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19"/>
          </p:nvPr>
        </p:nvSpPr>
        <p:spPr>
          <a:xfrm>
            <a:off x="6248160" y="6165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2" name="Picture 7" descr="logo"/>
          <p:cNvPicPr/>
          <p:nvPr/>
        </p:nvPicPr>
        <p:blipFill>
          <a:blip r:embed="rId1"/>
          <a:stretch/>
        </p:blipFill>
        <p:spPr>
          <a:xfrm>
            <a:off x="1333440" y="3619440"/>
            <a:ext cx="5829480" cy="1827360"/>
          </a:xfrm>
          <a:prstGeom prst="rect">
            <a:avLst/>
          </a:prstGeom>
          <a:ln w="0">
            <a:noFill/>
          </a:ln>
        </p:spPr>
      </p:pic>
      <p:sp>
        <p:nvSpPr>
          <p:cNvPr id="983" name="Text Box 5"/>
          <p:cNvSpPr/>
          <p:nvPr/>
        </p:nvSpPr>
        <p:spPr>
          <a:xfrm>
            <a:off x="1252440" y="6021360"/>
            <a:ext cx="74959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9900"/>
                </a:solidFill>
                <a:latin typeface="Arial"/>
              </a:rPr>
              <a:t>ENCUENTRO SUR-SUR GUATEMALA-ANTIGU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200" spc="-1" strike="noStrike">
                <a:solidFill>
                  <a:srgbClr val="ff9900"/>
                </a:solidFill>
                <a:latin typeface="Arial"/>
              </a:rPr>
              <a:t>Agosto 201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ff9900"/>
                </a:solidFill>
                <a:latin typeface="Arial"/>
              </a:rPr>
              <a:t>URUGUAY</a:t>
            </a:r>
            <a:r>
              <a:rPr b="1" lang="es-ES" sz="1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2"/>
          <p:cNvSpPr/>
          <p:nvPr/>
        </p:nvSpPr>
        <p:spPr>
          <a:xfrm>
            <a:off x="324000" y="0"/>
            <a:ext cx="76784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MX" sz="4000" spc="-1" strike="noStrike">
                <a:solidFill>
                  <a:srgbClr val="003399"/>
                </a:solidFill>
                <a:latin typeface="Arial"/>
              </a:rPr>
              <a:t>ARQUITECTURA  Y SISTEMAS PARA  LA GESTIÓN DE LA INFORMACIÓN REGISTRAL</a:t>
            </a:r>
            <a:br>
              <a:rPr sz="44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Text Box 7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0"/>
          <p:cNvSpPr/>
          <p:nvPr/>
        </p:nvSpPr>
        <p:spPr>
          <a:xfrm>
            <a:off x="0" y="2281320"/>
            <a:ext cx="1397160" cy="3216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196666"/>
                </a:solidFill>
                <a:latin typeface="Arial"/>
                <a:ea typeface="Arial"/>
              </a:rPr>
              <a:t>Aplicaciones   para USUARIOS INTERNOS al Organ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1"/>
          <p:cNvSpPr/>
          <p:nvPr/>
        </p:nvSpPr>
        <p:spPr>
          <a:xfrm>
            <a:off x="1473120" y="2287440"/>
            <a:ext cx="1917720" cy="3245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2060"/>
                </a:solidFill>
                <a:latin typeface="Arial"/>
              </a:rPr>
              <a:t>Aplicaciones para CONTRIBUY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2"/>
          <p:cNvSpPr/>
          <p:nvPr/>
        </p:nvSpPr>
        <p:spPr>
          <a:xfrm>
            <a:off x="3340080" y="2284560"/>
            <a:ext cx="1905120" cy="32162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Aplicaciones para ENTIDADES COLABORADORAS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ORGANISMOS EXTER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3"/>
          <p:cNvSpPr/>
          <p:nvPr/>
        </p:nvSpPr>
        <p:spPr>
          <a:xfrm>
            <a:off x="5334120" y="2274840"/>
            <a:ext cx="1130040" cy="3216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7e7e00"/>
                </a:solidFill>
                <a:latin typeface="Arial"/>
              </a:rPr>
              <a:t>WEB SERVI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7e7e00"/>
                </a:solidFill>
                <a:latin typeface="Arial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7e7e00"/>
                </a:solidFill>
                <a:latin typeface="Arial"/>
              </a:rPr>
              <a:t> </a:t>
            </a:r>
            <a:r>
              <a:rPr b="1" lang="es-UY" sz="1400" spc="-1" strike="noStrike">
                <a:solidFill>
                  <a:srgbClr val="7e7e00"/>
                </a:solidFill>
                <a:latin typeface="Arial"/>
              </a:rPr>
              <a:t>Consumo Exter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14"/>
          <p:cNvSpPr/>
          <p:nvPr/>
        </p:nvSpPr>
        <p:spPr>
          <a:xfrm>
            <a:off x="6566040" y="2265480"/>
            <a:ext cx="990360" cy="3225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ffffd9"/>
                </a:solidFill>
                <a:latin typeface="Arial"/>
              </a:rPr>
              <a:t>Procesos B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17"/>
          <p:cNvSpPr/>
          <p:nvPr/>
        </p:nvSpPr>
        <p:spPr>
          <a:xfrm>
            <a:off x="2133720" y="495360"/>
            <a:ext cx="64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Sistemas y los Usuarios Fi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12"/>
          <p:cNvSpPr/>
          <p:nvPr/>
        </p:nvSpPr>
        <p:spPr>
          <a:xfrm>
            <a:off x="7645320" y="2286000"/>
            <a:ext cx="1282680" cy="32259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269999"/>
                </a:solidFill>
                <a:latin typeface="Arial"/>
              </a:rPr>
              <a:t>Aplicaciones pa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269999"/>
                </a:solidFill>
                <a:latin typeface="Arial"/>
              </a:rPr>
              <a:t>la Alta Ger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0" name="Picture 4" descr="logo"/>
          <p:cNvPicPr/>
          <p:nvPr/>
        </p:nvPicPr>
        <p:blipFill>
          <a:blip r:embed="rId1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ubTitle"/>
          </p:nvPr>
        </p:nvSpPr>
        <p:spPr>
          <a:xfrm>
            <a:off x="1382760" y="5362560"/>
            <a:ext cx="640080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UY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2" name="Text Box 7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9"/>
          <p:cNvSpPr/>
          <p:nvPr/>
        </p:nvSpPr>
        <p:spPr>
          <a:xfrm>
            <a:off x="324000" y="5099040"/>
            <a:ext cx="8569080" cy="93492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USSINESS INTELI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10"/>
          <p:cNvSpPr/>
          <p:nvPr/>
        </p:nvSpPr>
        <p:spPr>
          <a:xfrm>
            <a:off x="568440" y="2651040"/>
            <a:ext cx="1298520" cy="212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196666"/>
                </a:solidFill>
                <a:latin typeface="Arial"/>
              </a:rPr>
              <a:t>Aplicaciones Web Back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11"/>
          <p:cNvSpPr/>
          <p:nvPr/>
        </p:nvSpPr>
        <p:spPr>
          <a:xfrm>
            <a:off x="2282760" y="2651040"/>
            <a:ext cx="1298520" cy="2116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3399"/>
                </a:solidFill>
                <a:latin typeface="Arial"/>
              </a:rPr>
              <a:t>Aplicaciones We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3399"/>
                </a:solidFill>
                <a:latin typeface="Arial"/>
              </a:rPr>
              <a:t>Front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12"/>
          <p:cNvSpPr/>
          <p:nvPr/>
        </p:nvSpPr>
        <p:spPr>
          <a:xfrm>
            <a:off x="3968640" y="2641680"/>
            <a:ext cx="1257480" cy="210636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Aplicaciones Legadas y Procesos B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13"/>
          <p:cNvSpPr/>
          <p:nvPr/>
        </p:nvSpPr>
        <p:spPr>
          <a:xfrm>
            <a:off x="5735520" y="2612880"/>
            <a:ext cx="1351080" cy="2106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7a7a00"/>
                </a:solidFill>
                <a:latin typeface="Arial"/>
              </a:rPr>
              <a:t>Otras Aplic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Rectangle 14"/>
          <p:cNvSpPr/>
          <p:nvPr/>
        </p:nvSpPr>
        <p:spPr>
          <a:xfrm>
            <a:off x="7419960" y="2603520"/>
            <a:ext cx="1295280" cy="21258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f8f8f8"/>
                </a:solidFill>
                <a:latin typeface="Arial"/>
              </a:rPr>
              <a:t>Aplicaciones Terceriz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17"/>
          <p:cNvSpPr/>
          <p:nvPr/>
        </p:nvSpPr>
        <p:spPr>
          <a:xfrm>
            <a:off x="2044800" y="404640"/>
            <a:ext cx="683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Sistemas y tecn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Rectangle 18"/>
          <p:cNvSpPr/>
          <p:nvPr/>
        </p:nvSpPr>
        <p:spPr>
          <a:xfrm>
            <a:off x="376200" y="1585800"/>
            <a:ext cx="8585280" cy="792360"/>
          </a:xfrm>
          <a:prstGeom prst="rect">
            <a:avLst/>
          </a:prstGeom>
          <a:gradFill rotWithShape="0">
            <a:gsLst>
              <a:gs pos="0">
                <a:srgbClr val="5e4776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 Black"/>
              </a:rPr>
              <a:t>POR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1" name="Picture 4" descr="logo"/>
          <p:cNvPicPr/>
          <p:nvPr/>
        </p:nvPicPr>
        <p:blipFill>
          <a:blip r:embed="rId1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Text Box 6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Rectangle 15"/>
          <p:cNvSpPr/>
          <p:nvPr/>
        </p:nvSpPr>
        <p:spPr>
          <a:xfrm>
            <a:off x="1841400" y="404640"/>
            <a:ext cx="634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Sistemas y tecn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Rectangle 19"/>
          <p:cNvSpPr/>
          <p:nvPr/>
        </p:nvSpPr>
        <p:spPr>
          <a:xfrm>
            <a:off x="584280" y="1117440"/>
            <a:ext cx="3749760" cy="9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Aplicaciones Web Back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Rectangle 20"/>
          <p:cNvSpPr/>
          <p:nvPr/>
        </p:nvSpPr>
        <p:spPr>
          <a:xfrm>
            <a:off x="744480" y="1498680"/>
            <a:ext cx="629604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0" lang="es-MX" sz="1600" spc="-1" strike="noStrike">
                <a:solidFill>
                  <a:srgbClr val="003399"/>
                </a:solidFill>
                <a:latin typeface="Arial"/>
              </a:rPr>
              <a:t>Aplicaciones Genexus generadas para Java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0" lang="es-MX" sz="1600" spc="-1" strike="noStrike">
                <a:solidFill>
                  <a:srgbClr val="003399"/>
                </a:solidFill>
                <a:latin typeface="Arial"/>
              </a:rPr>
              <a:t>Corren en WebSphere 5 y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0" lang="es-MX" sz="1600" spc="-1" strike="noStrike">
                <a:solidFill>
                  <a:srgbClr val="003399"/>
                </a:solidFill>
                <a:latin typeface="Arial"/>
              </a:rPr>
              <a:t>La persistencia es en</a:t>
            </a:r>
            <a:r>
              <a:rPr b="1" lang="es-MX" sz="1600" spc="-1" strike="noStrike">
                <a:solidFill>
                  <a:srgbClr val="003399"/>
                </a:solidFill>
                <a:latin typeface="Arial"/>
              </a:rPr>
              <a:t> Db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003399"/>
                </a:solidFill>
                <a:latin typeface="Arial"/>
              </a:rPr>
              <a:t>-Seguridad</a:t>
            </a:r>
            <a:r>
              <a:rPr b="0" lang="es-MX" sz="1600" spc="-1" strike="noStrike">
                <a:solidFill>
                  <a:srgbClr val="003399"/>
                </a:solidFill>
                <a:latin typeface="Arial"/>
              </a:rPr>
              <a:t>  basada en </a:t>
            </a:r>
            <a:r>
              <a:rPr b="0" lang="es-ES" sz="1600" spc="-1" strike="noStrike">
                <a:solidFill>
                  <a:srgbClr val="003399"/>
                </a:solidFill>
                <a:latin typeface="Arial"/>
              </a:rPr>
              <a:t>Single Sign On a través del uso </a:t>
            </a:r>
            <a:r>
              <a:rPr b="0" lang="es-E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3399"/>
                </a:solidFill>
                <a:latin typeface="Arial"/>
              </a:rPr>
              <a:t> de   estándares (LDAP, Active Directory), </a:t>
            </a:r>
            <a:r>
              <a:rPr b="0" lang="es-MX" sz="1600" spc="-1" strike="noStrike">
                <a:solidFill>
                  <a:srgbClr val="003399"/>
                </a:solidFill>
                <a:latin typeface="Arial"/>
              </a:rPr>
              <a:t>RBAC (</a:t>
            </a:r>
            <a:r>
              <a:rPr b="0" lang="es-ES" sz="1600" spc="-1" strike="noStrike">
                <a:solidFill>
                  <a:srgbClr val="003399"/>
                </a:solidFill>
                <a:latin typeface="Arial"/>
              </a:rPr>
              <a:t>Role </a:t>
            </a:r>
            <a:r>
              <a:rPr b="0" lang="es-E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3399"/>
                </a:solidFill>
                <a:latin typeface="Arial"/>
              </a:rPr>
              <a:t> Based Access Control)  y Mecanismos de AAA </a:t>
            </a:r>
            <a:r>
              <a:rPr b="0" lang="es-E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3399"/>
                </a:solidFill>
                <a:latin typeface="Arial"/>
              </a:rPr>
              <a:t> (Autenticación, Autorización y Auditorí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-Ejemplos: Rut, SIC, Consta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6" name="Picture 4" descr="logo"/>
          <p:cNvPicPr/>
          <p:nvPr/>
        </p:nvPicPr>
        <p:blipFill>
          <a:blip r:embed="rId1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  <p:pic>
        <p:nvPicPr>
          <p:cNvPr id="1097" name="" descr=""/>
          <p:cNvPicPr/>
          <p:nvPr/>
        </p:nvPicPr>
        <p:blipFill>
          <a:blip r:embed="rId2"/>
          <a:stretch/>
        </p:blipFill>
        <p:spPr>
          <a:xfrm>
            <a:off x="317520" y="3533760"/>
            <a:ext cx="4236840" cy="3159000"/>
          </a:xfrm>
          <a:prstGeom prst="rect">
            <a:avLst/>
          </a:prstGeom>
          <a:ln w="0">
            <a:noFill/>
          </a:ln>
        </p:spPr>
      </p:pic>
      <p:pic>
        <p:nvPicPr>
          <p:cNvPr id="1098" name="" descr=""/>
          <p:cNvPicPr/>
          <p:nvPr/>
        </p:nvPicPr>
        <p:blipFill>
          <a:blip r:embed="rId3"/>
          <a:stretch/>
        </p:blipFill>
        <p:spPr>
          <a:xfrm>
            <a:off x="4973760" y="3552840"/>
            <a:ext cx="3903480" cy="30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Text Box 6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Rectangle 4"/>
          <p:cNvSpPr/>
          <p:nvPr/>
        </p:nvSpPr>
        <p:spPr>
          <a:xfrm>
            <a:off x="542880" y="1346040"/>
            <a:ext cx="382896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Aplicaciones Web Front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Rectangle 5"/>
          <p:cNvSpPr/>
          <p:nvPr/>
        </p:nvSpPr>
        <p:spPr>
          <a:xfrm>
            <a:off x="731880" y="1854360"/>
            <a:ext cx="7813800" cy="27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- Aplicaciones Genexus generadas para Java Web y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- Corren en WebSphere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- La persistencia es en Db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- Mismo esquema de seguridad que Back-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- Ejemplos: Portal de  Servicios en Línea, Modificación Web Datos   Regist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2" name="Picture 4" descr="logo"/>
          <p:cNvPicPr/>
          <p:nvPr/>
        </p:nvPicPr>
        <p:blipFill>
          <a:blip r:embed="rId1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  <p:sp>
        <p:nvSpPr>
          <p:cNvPr id="1103" name="Rectangle 15"/>
          <p:cNvSpPr/>
          <p:nvPr/>
        </p:nvSpPr>
        <p:spPr>
          <a:xfrm>
            <a:off x="1841400" y="404640"/>
            <a:ext cx="634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Sistemas y tecn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4" name="" descr=""/>
          <p:cNvPicPr/>
          <p:nvPr/>
        </p:nvPicPr>
        <p:blipFill>
          <a:blip r:embed="rId2"/>
          <a:stretch/>
        </p:blipFill>
        <p:spPr>
          <a:xfrm>
            <a:off x="152280" y="3695760"/>
            <a:ext cx="4364280" cy="2965320"/>
          </a:xfrm>
          <a:prstGeom prst="rect">
            <a:avLst/>
          </a:prstGeom>
          <a:ln w="0">
            <a:noFill/>
          </a:ln>
        </p:spPr>
      </p:pic>
      <p:pic>
        <p:nvPicPr>
          <p:cNvPr id="1105" name="" descr=""/>
          <p:cNvPicPr/>
          <p:nvPr/>
        </p:nvPicPr>
        <p:blipFill>
          <a:blip r:embed="rId3"/>
          <a:stretch/>
        </p:blipFill>
        <p:spPr>
          <a:xfrm>
            <a:off x="4762440" y="3679920"/>
            <a:ext cx="4381560" cy="29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Text Box 6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ectangle 15"/>
          <p:cNvSpPr/>
          <p:nvPr/>
        </p:nvSpPr>
        <p:spPr>
          <a:xfrm>
            <a:off x="2044800" y="469800"/>
            <a:ext cx="61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Sistemas y tecn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Rectangle 4"/>
          <p:cNvSpPr/>
          <p:nvPr/>
        </p:nvSpPr>
        <p:spPr>
          <a:xfrm>
            <a:off x="371880" y="1555920"/>
            <a:ext cx="6703200" cy="9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Aplicaciones Legadas,  Procesos Batch y Demon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Rectangle 5"/>
          <p:cNvSpPr/>
          <p:nvPr/>
        </p:nvSpPr>
        <p:spPr>
          <a:xfrm>
            <a:off x="744480" y="2021040"/>
            <a:ext cx="73818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-Aplicaciones Cobol o Man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-Corren en servidores AI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-La persistencia es en Db2 y arch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-Ejemplos: Menú de Producción y 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0" name="Picture 7" descr=""/>
          <p:cNvPicPr/>
          <p:nvPr/>
        </p:nvPicPr>
        <p:blipFill>
          <a:blip r:embed="rId1"/>
          <a:stretch/>
        </p:blipFill>
        <p:spPr>
          <a:xfrm>
            <a:off x="4838760" y="3409920"/>
            <a:ext cx="3886200" cy="31687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8" descr=""/>
          <p:cNvPicPr/>
          <p:nvPr/>
        </p:nvPicPr>
        <p:blipFill>
          <a:blip r:embed="rId2"/>
          <a:stretch/>
        </p:blipFill>
        <p:spPr>
          <a:xfrm>
            <a:off x="596880" y="3405240"/>
            <a:ext cx="3841920" cy="321156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4" descr="logo"/>
          <p:cNvPicPr/>
          <p:nvPr/>
        </p:nvPicPr>
        <p:blipFill>
          <a:blip r:embed="rId3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Text Box 6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15"/>
          <p:cNvSpPr/>
          <p:nvPr/>
        </p:nvSpPr>
        <p:spPr>
          <a:xfrm>
            <a:off x="1549440" y="393840"/>
            <a:ext cx="663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Sistemas y tecn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4"/>
          <p:cNvSpPr/>
          <p:nvPr/>
        </p:nvSpPr>
        <p:spPr>
          <a:xfrm>
            <a:off x="242280" y="1479600"/>
            <a:ext cx="2688840" cy="9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Otras Apl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Rectangle 8"/>
          <p:cNvSpPr/>
          <p:nvPr/>
        </p:nvSpPr>
        <p:spPr>
          <a:xfrm>
            <a:off x="744480" y="1828800"/>
            <a:ext cx="73818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-Aplicaciones Cliente/Servido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persistencia en DB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Aplicaciones Clip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Programas de Ayu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7" name="Picture 4" descr="logo"/>
          <p:cNvPicPr/>
          <p:nvPr/>
        </p:nvPicPr>
        <p:blipFill>
          <a:blip r:embed="rId1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  <p:pic>
        <p:nvPicPr>
          <p:cNvPr id="1118" name="" descr=""/>
          <p:cNvPicPr/>
          <p:nvPr/>
        </p:nvPicPr>
        <p:blipFill>
          <a:blip r:embed="rId2"/>
          <a:stretch/>
        </p:blipFill>
        <p:spPr>
          <a:xfrm>
            <a:off x="3503520" y="3111480"/>
            <a:ext cx="5486400" cy="3530520"/>
          </a:xfrm>
          <a:prstGeom prst="rect">
            <a:avLst/>
          </a:prstGeom>
          <a:ln w="0">
            <a:noFill/>
          </a:ln>
        </p:spPr>
      </p:pic>
      <p:pic>
        <p:nvPicPr>
          <p:cNvPr id="1119" name="" descr=""/>
          <p:cNvPicPr/>
          <p:nvPr/>
        </p:nvPicPr>
        <p:blipFill>
          <a:blip r:embed="rId3"/>
          <a:stretch/>
        </p:blipFill>
        <p:spPr>
          <a:xfrm>
            <a:off x="374760" y="3174840"/>
            <a:ext cx="2641320" cy="351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Text Box 6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15"/>
          <p:cNvSpPr/>
          <p:nvPr/>
        </p:nvSpPr>
        <p:spPr>
          <a:xfrm>
            <a:off x="1549440" y="393840"/>
            <a:ext cx="663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Sistemas y tecn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4"/>
          <p:cNvSpPr/>
          <p:nvPr/>
        </p:nvSpPr>
        <p:spPr>
          <a:xfrm>
            <a:off x="0" y="1212840"/>
            <a:ext cx="2754360" cy="9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Otras Aplicac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Rectangle 8"/>
          <p:cNvSpPr/>
          <p:nvPr/>
        </p:nvSpPr>
        <p:spPr>
          <a:xfrm>
            <a:off x="216000" y="1587600"/>
            <a:ext cx="511632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FORMULARIOS </a:t>
            </a:r>
            <a:r>
              <a:rPr b="0" lang="es-MX" sz="1600" spc="-1" strike="noStrike">
                <a:solidFill>
                  <a:srgbClr val="003399"/>
                </a:solidFill>
                <a:latin typeface="Arial"/>
              </a:rPr>
              <a:t>con herramienta ZENFOR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4" name="Picture 4" descr="logo"/>
          <p:cNvPicPr/>
          <p:nvPr/>
        </p:nvPicPr>
        <p:blipFill>
          <a:blip r:embed="rId1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  <p:sp>
        <p:nvSpPr>
          <p:cNvPr id="1125" name="Rectangle 3"/>
          <p:cNvSpPr/>
          <p:nvPr/>
        </p:nvSpPr>
        <p:spPr>
          <a:xfrm>
            <a:off x="219240" y="1930320"/>
            <a:ext cx="4975200" cy="38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Diseño gráfico previamente normalizado con una estructura básica que permite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3399"/>
                </a:solidFill>
                <a:latin typeface="Arial"/>
              </a:rPr>
              <a:t>su distribución   OFFLINE.</a:t>
            </a: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Definir cada una de las casillas asociadas a la </a:t>
            </a: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versión del formula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Definir las validaciones que se realizarán en cad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casil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Definir reglas a aplicar para cargar el documento  </a:t>
            </a: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en la Base de da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Entrada de datos : Manual, Transmisión Telemática  </a:t>
            </a: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o Carga masiva (bat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6" name="" descr=""/>
          <p:cNvPicPr/>
          <p:nvPr/>
        </p:nvPicPr>
        <p:blipFill>
          <a:blip r:embed="rId2"/>
          <a:stretch/>
        </p:blipFill>
        <p:spPr>
          <a:xfrm>
            <a:off x="5275440" y="923760"/>
            <a:ext cx="3868560" cy="3729240"/>
          </a:xfrm>
          <a:prstGeom prst="rect">
            <a:avLst/>
          </a:prstGeom>
          <a:ln w="0">
            <a:noFill/>
          </a:ln>
        </p:spPr>
      </p:pic>
      <p:pic>
        <p:nvPicPr>
          <p:cNvPr id="1127" name="" descr=""/>
          <p:cNvPicPr/>
          <p:nvPr/>
        </p:nvPicPr>
        <p:blipFill>
          <a:blip r:embed="rId3"/>
          <a:stretch/>
        </p:blipFill>
        <p:spPr>
          <a:xfrm>
            <a:off x="5265720" y="4667400"/>
            <a:ext cx="3878280" cy="2190600"/>
          </a:xfrm>
          <a:prstGeom prst="rect">
            <a:avLst/>
          </a:prstGeom>
          <a:ln w="0">
            <a:noFill/>
          </a:ln>
        </p:spPr>
      </p:pic>
      <p:pic>
        <p:nvPicPr>
          <p:cNvPr id="1128" name="" descr=""/>
          <p:cNvPicPr/>
          <p:nvPr/>
        </p:nvPicPr>
        <p:blipFill>
          <a:blip r:embed="rId4"/>
          <a:stretch/>
        </p:blipFill>
        <p:spPr>
          <a:xfrm>
            <a:off x="0" y="5460840"/>
            <a:ext cx="5230800" cy="116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Text Box 6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4"/>
          <p:cNvSpPr/>
          <p:nvPr/>
        </p:nvSpPr>
        <p:spPr>
          <a:xfrm>
            <a:off x="151200" y="1565280"/>
            <a:ext cx="3580560" cy="9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Aplicaciones Terceriz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5"/>
          <p:cNvSpPr/>
          <p:nvPr/>
        </p:nvSpPr>
        <p:spPr>
          <a:xfrm>
            <a:off x="744480" y="2021040"/>
            <a:ext cx="73818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-Ejemplos: Payroll, Jurex, K2b, Axent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2" name="Picture 10" descr=""/>
          <p:cNvPicPr/>
          <p:nvPr/>
        </p:nvPicPr>
        <p:blipFill>
          <a:blip r:embed="rId1"/>
          <a:stretch/>
        </p:blipFill>
        <p:spPr>
          <a:xfrm>
            <a:off x="2006640" y="2516040"/>
            <a:ext cx="4770360" cy="345600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8" descr=""/>
          <p:cNvPicPr/>
          <p:nvPr/>
        </p:nvPicPr>
        <p:blipFill>
          <a:blip r:embed="rId2"/>
          <a:stretch/>
        </p:blipFill>
        <p:spPr>
          <a:xfrm rot="21166800">
            <a:off x="237960" y="4168800"/>
            <a:ext cx="3262320" cy="247644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9" descr=""/>
          <p:cNvPicPr/>
          <p:nvPr/>
        </p:nvPicPr>
        <p:blipFill>
          <a:blip r:embed="rId3"/>
          <a:stretch/>
        </p:blipFill>
        <p:spPr>
          <a:xfrm rot="963600">
            <a:off x="5616360" y="3939840"/>
            <a:ext cx="3000240" cy="256860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4" descr="logo"/>
          <p:cNvPicPr/>
          <p:nvPr/>
        </p:nvPicPr>
        <p:blipFill>
          <a:blip r:embed="rId4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  <p:sp>
        <p:nvSpPr>
          <p:cNvPr id="1136" name="10 Rectángulo"/>
          <p:cNvSpPr/>
          <p:nvPr/>
        </p:nvSpPr>
        <p:spPr>
          <a:xfrm>
            <a:off x="2463840" y="482760"/>
            <a:ext cx="60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Sistemas y tecn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Text Box 6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4"/>
          <p:cNvSpPr/>
          <p:nvPr/>
        </p:nvSpPr>
        <p:spPr>
          <a:xfrm>
            <a:off x="33480" y="1527120"/>
            <a:ext cx="3619440" cy="9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Business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9" name="Picture 6" descr=""/>
          <p:cNvPicPr/>
          <p:nvPr/>
        </p:nvPicPr>
        <p:blipFill>
          <a:blip r:embed="rId1"/>
          <a:stretch/>
        </p:blipFill>
        <p:spPr>
          <a:xfrm rot="21249600">
            <a:off x="0" y="3473280"/>
            <a:ext cx="3648240" cy="264168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8" descr=""/>
          <p:cNvPicPr/>
          <p:nvPr/>
        </p:nvPicPr>
        <p:blipFill>
          <a:blip r:embed="rId2"/>
          <a:stretch/>
        </p:blipFill>
        <p:spPr>
          <a:xfrm rot="1417200">
            <a:off x="5155920" y="3163680"/>
            <a:ext cx="3625920" cy="282708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7" descr=""/>
          <p:cNvPicPr/>
          <p:nvPr/>
        </p:nvPicPr>
        <p:blipFill>
          <a:blip r:embed="rId3"/>
          <a:stretch/>
        </p:blipFill>
        <p:spPr>
          <a:xfrm>
            <a:off x="2633760" y="4405320"/>
            <a:ext cx="3386160" cy="2452680"/>
          </a:xfrm>
          <a:prstGeom prst="rect">
            <a:avLst/>
          </a:prstGeom>
          <a:ln w="0">
            <a:noFill/>
          </a:ln>
        </p:spPr>
      </p:pic>
      <p:sp>
        <p:nvSpPr>
          <p:cNvPr id="1142" name="Rectangle 9"/>
          <p:cNvSpPr/>
          <p:nvPr/>
        </p:nvSpPr>
        <p:spPr>
          <a:xfrm>
            <a:off x="744480" y="2021040"/>
            <a:ext cx="7381800" cy="9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-DW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-Tablero de Indic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-Datam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Picture 10" descr=""/>
          <p:cNvPicPr/>
          <p:nvPr/>
        </p:nvPicPr>
        <p:blipFill>
          <a:blip r:embed="rId4"/>
          <a:stretch/>
        </p:blipFill>
        <p:spPr>
          <a:xfrm>
            <a:off x="4229280" y="1463760"/>
            <a:ext cx="3419280" cy="193176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4" descr="logo"/>
          <p:cNvPicPr/>
          <p:nvPr/>
        </p:nvPicPr>
        <p:blipFill>
          <a:blip r:embed="rId5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  <p:sp>
        <p:nvSpPr>
          <p:cNvPr id="1145" name="12 Rectángulo"/>
          <p:cNvSpPr/>
          <p:nvPr/>
        </p:nvSpPr>
        <p:spPr>
          <a:xfrm>
            <a:off x="2540160" y="419040"/>
            <a:ext cx="60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Sistemas y tecn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Text Box 6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638280" y="1460520"/>
            <a:ext cx="1387440" cy="9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Por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Rectangle 5"/>
          <p:cNvSpPr/>
          <p:nvPr/>
        </p:nvSpPr>
        <p:spPr>
          <a:xfrm>
            <a:off x="566640" y="1855800"/>
            <a:ext cx="7788240" cy="16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Herramienta GX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-Persistencia en D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-Corre en  WebSpher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- Portal Tributario, Portal del Funcionario, Factura Electrónica, Educación Tribu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9" name="Picture 4" descr="logo"/>
          <p:cNvPicPr/>
          <p:nvPr/>
        </p:nvPicPr>
        <p:blipFill>
          <a:blip r:embed="rId1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  <p:sp>
        <p:nvSpPr>
          <p:cNvPr id="1150" name="9 Rectángulo"/>
          <p:cNvSpPr/>
          <p:nvPr/>
        </p:nvSpPr>
        <p:spPr>
          <a:xfrm>
            <a:off x="2540160" y="419040"/>
            <a:ext cx="60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Sistemas y tecn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1" name="" descr=""/>
          <p:cNvPicPr/>
          <p:nvPr/>
        </p:nvPicPr>
        <p:blipFill>
          <a:blip r:embed="rId2"/>
          <a:stretch/>
        </p:blipFill>
        <p:spPr>
          <a:xfrm>
            <a:off x="3122640" y="4086360"/>
            <a:ext cx="3114720" cy="2365200"/>
          </a:xfrm>
          <a:prstGeom prst="rect">
            <a:avLst/>
          </a:prstGeom>
          <a:ln w="0">
            <a:noFill/>
          </a:ln>
        </p:spPr>
      </p:pic>
      <p:pic>
        <p:nvPicPr>
          <p:cNvPr id="1152" name="" descr=""/>
          <p:cNvPicPr/>
          <p:nvPr/>
        </p:nvPicPr>
        <p:blipFill>
          <a:blip r:embed="rId3"/>
          <a:stretch/>
        </p:blipFill>
        <p:spPr>
          <a:xfrm>
            <a:off x="4557600" y="3409920"/>
            <a:ext cx="28800" cy="38160"/>
          </a:xfrm>
          <a:prstGeom prst="rect">
            <a:avLst/>
          </a:prstGeom>
          <a:ln w="0">
            <a:noFill/>
          </a:ln>
        </p:spPr>
      </p:pic>
      <p:pic>
        <p:nvPicPr>
          <p:cNvPr id="1153" name="" descr=""/>
          <p:cNvPicPr/>
          <p:nvPr/>
        </p:nvPicPr>
        <p:blipFill>
          <a:blip r:embed="rId4"/>
          <a:stretch/>
        </p:blipFill>
        <p:spPr>
          <a:xfrm rot="20419800">
            <a:off x="421920" y="3724200"/>
            <a:ext cx="2779560" cy="2289240"/>
          </a:xfrm>
          <a:prstGeom prst="rect">
            <a:avLst/>
          </a:prstGeom>
          <a:ln w="0">
            <a:noFill/>
          </a:ln>
        </p:spPr>
      </p:pic>
      <p:pic>
        <p:nvPicPr>
          <p:cNvPr id="1154" name="" descr=""/>
          <p:cNvPicPr/>
          <p:nvPr/>
        </p:nvPicPr>
        <p:blipFill>
          <a:blip r:embed="rId5"/>
          <a:stretch/>
        </p:blipFill>
        <p:spPr>
          <a:xfrm rot="1354800">
            <a:off x="5967000" y="3617640"/>
            <a:ext cx="2873520" cy="214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2273400" y="165240"/>
            <a:ext cx="5803920" cy="93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ARQUITEC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8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Organization Chart 1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989" name="Organization Chart 1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990" name="Picture 15" descr=""/>
          <p:cNvPicPr/>
          <p:nvPr/>
        </p:nvPicPr>
        <p:blipFill>
          <a:blip r:embed="rId1"/>
          <a:srcRect l="0" t="15214" r="0" b="1687"/>
          <a:stretch/>
        </p:blipFill>
        <p:spPr>
          <a:xfrm>
            <a:off x="177840" y="1093680"/>
            <a:ext cx="8655120" cy="526104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4" descr="logo"/>
          <p:cNvPicPr/>
          <p:nvPr/>
        </p:nvPicPr>
        <p:blipFill>
          <a:blip r:embed="rId2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ubTitle"/>
          </p:nvPr>
        </p:nvSpPr>
        <p:spPr>
          <a:xfrm>
            <a:off x="-360" y="1128600"/>
            <a:ext cx="895356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UY" sz="2000" spc="-1" strike="noStrike">
                <a:solidFill>
                  <a:srgbClr val="003399"/>
                </a:solidFill>
                <a:latin typeface="Arial"/>
              </a:rPr>
              <a:t>Definición de Comprobante Fiscal Electrónico (CF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UY" sz="1800" spc="-1" strike="noStrike">
                <a:solidFill>
                  <a:srgbClr val="003399"/>
                </a:solidFill>
                <a:latin typeface="Arial"/>
              </a:rPr>
              <a:t>Es un documento </a:t>
            </a:r>
            <a:r>
              <a:rPr b="1" lang="es-UY" sz="1800" spc="-1" strike="noStrike">
                <a:solidFill>
                  <a:srgbClr val="003399"/>
                </a:solidFill>
                <a:latin typeface="Arial"/>
              </a:rPr>
              <a:t>digital generado y firmado electrónicamente</a:t>
            </a:r>
            <a:r>
              <a:rPr b="0" lang="es-UY" sz="1800" spc="-1" strike="noStrike">
                <a:solidFill>
                  <a:srgbClr val="003399"/>
                </a:solidFill>
                <a:latin typeface="Arial"/>
              </a:rPr>
              <a:t> en un </a:t>
            </a:r>
            <a:r>
              <a:rPr b="0" lang="es-UY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UY" sz="1800" spc="-1" strike="noStrike">
                <a:solidFill>
                  <a:srgbClr val="003399"/>
                </a:solidFill>
                <a:latin typeface="Arial"/>
              </a:rPr>
              <a:t>formato preestablecido por la DGI, que tiene la misma validez legal y </a:t>
            </a:r>
            <a:r>
              <a:rPr b="0" lang="es-UY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UY" sz="1800" spc="-1" strike="noStrike">
                <a:solidFill>
                  <a:srgbClr val="003399"/>
                </a:solidFill>
                <a:latin typeface="Arial"/>
              </a:rPr>
              <a:t>tributaria de las facturas y otros documentos soportados en pap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5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Rectangle 21"/>
          <p:cNvSpPr/>
          <p:nvPr/>
        </p:nvSpPr>
        <p:spPr>
          <a:xfrm>
            <a:off x="2171880" y="404640"/>
            <a:ext cx="69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Proyecto Factura Electró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Line 27"/>
          <p:cNvSpPr/>
          <p:nvPr/>
        </p:nvSpPr>
        <p:spPr>
          <a:xfrm>
            <a:off x="4591080" y="2695680"/>
            <a:ext cx="71280" cy="133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9" name="Picture 4" descr="logo"/>
          <p:cNvPicPr/>
          <p:nvPr/>
        </p:nvPicPr>
        <p:blipFill>
          <a:blip r:embed="rId1"/>
          <a:stretch/>
        </p:blipFill>
        <p:spPr>
          <a:xfrm>
            <a:off x="260280" y="260280"/>
            <a:ext cx="2030400" cy="687600"/>
          </a:xfrm>
          <a:prstGeom prst="rect">
            <a:avLst/>
          </a:prstGeom>
          <a:ln w="0">
            <a:noFill/>
          </a:ln>
        </p:spPr>
      </p:pic>
      <p:pic>
        <p:nvPicPr>
          <p:cNvPr id="1160" name="" descr=""/>
          <p:cNvPicPr/>
          <p:nvPr/>
        </p:nvPicPr>
        <p:blipFill>
          <a:blip r:embed="rId2"/>
          <a:stretch/>
        </p:blipFill>
        <p:spPr>
          <a:xfrm>
            <a:off x="463680" y="2192400"/>
            <a:ext cx="8408880" cy="44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Text Box 5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ectangle 21"/>
          <p:cNvSpPr/>
          <p:nvPr/>
        </p:nvSpPr>
        <p:spPr>
          <a:xfrm>
            <a:off x="2171880" y="404640"/>
            <a:ext cx="6972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003399"/>
                </a:solidFill>
                <a:latin typeface="Arial"/>
              </a:rPr>
              <a:t>Aplicación para dispositivos móviles</a:t>
            </a: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Line 27"/>
          <p:cNvSpPr/>
          <p:nvPr/>
        </p:nvSpPr>
        <p:spPr>
          <a:xfrm>
            <a:off x="4591080" y="2695680"/>
            <a:ext cx="71280" cy="133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Picture 4" descr="logo"/>
          <p:cNvPicPr/>
          <p:nvPr/>
        </p:nvPicPr>
        <p:blipFill>
          <a:blip r:embed="rId1"/>
          <a:stretch/>
        </p:blipFill>
        <p:spPr>
          <a:xfrm>
            <a:off x="260280" y="260280"/>
            <a:ext cx="2030400" cy="68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5" name=""/>
          <p:cNvGraphicFramePr/>
          <p:nvPr/>
        </p:nvGraphicFramePr>
        <p:xfrm>
          <a:off x="223920" y="303120"/>
          <a:ext cx="1000080" cy="6421320"/>
        </p:xfrm>
        <a:graphic>
          <a:graphicData uri="http://schemas.openxmlformats.org/drawingml/2006/table">
            <a:tbl>
              <a:tblPr/>
              <a:tblGrid>
                <a:gridCol w="635040"/>
                <a:gridCol w="365040"/>
              </a:tblGrid>
              <a:tr h="64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6" name=""/>
          <p:cNvGraphicFramePr/>
          <p:nvPr/>
        </p:nvGraphicFramePr>
        <p:xfrm>
          <a:off x="233280" y="312840"/>
          <a:ext cx="1120680" cy="6462720"/>
        </p:xfrm>
        <a:graphic>
          <a:graphicData uri="http://schemas.openxmlformats.org/drawingml/2006/table">
            <a:tbl>
              <a:tblPr/>
              <a:tblGrid>
                <a:gridCol w="1120680"/>
              </a:tblGrid>
              <a:tr h="174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7" name=""/>
          <p:cNvGraphicFramePr/>
          <p:nvPr/>
        </p:nvGraphicFramePr>
        <p:xfrm>
          <a:off x="243000" y="322200"/>
          <a:ext cx="615960" cy="1763640"/>
        </p:xfrm>
        <a:graphic>
          <a:graphicData uri="http://schemas.openxmlformats.org/drawingml/2006/table">
            <a:tbl>
              <a:tblPr/>
              <a:tblGrid>
                <a:gridCol w="615960"/>
              </a:tblGrid>
              <a:tr h="200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5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8" name=""/>
          <p:cNvGraphicFramePr/>
          <p:nvPr/>
        </p:nvGraphicFramePr>
        <p:xfrm>
          <a:off x="1477800" y="1384200"/>
          <a:ext cx="7102800" cy="6159600"/>
        </p:xfrm>
        <a:graphic>
          <a:graphicData uri="http://schemas.openxmlformats.org/drawingml/2006/table">
            <a:tbl>
              <a:tblPr/>
              <a:tblGrid>
                <a:gridCol w="7102800"/>
              </a:tblGrid>
              <a:tr h="57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900"/>
                      </a:br>
                      <a:r>
                        <a:rPr b="0" lang="es-ES" sz="18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Entre los servicios que brinda se encuentran disponible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Consultas de notic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Sala de prensa de la DGI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Consulta del calendario de vencimientos, permitiendo agendar los    vencimientos que sean de interés del contribuy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Consultas de los CFE por medio de la lectura del código QR (para ello es requerida la instalación de una aplicación de lectura de este tipo de códig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Mapa con las dependencias en todo el país (Google Maps)  y sus datos de contacto (realizar llamada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24"/>
                        </a:spcBef>
                        <a:buClr>
                          <a:srgbClr val="00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0" lang="es-E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ompatible con versiones Android 2.3 en adelante. </a:t>
                      </a:r>
                      <a:br>
                        <a:rPr sz="1800"/>
                      </a:br>
                      <a:r>
                        <a:rPr b="0" lang="es-ES" sz="18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 </a:t>
                      </a:r>
                      <a:br>
                        <a:rPr sz="1800"/>
                      </a:br>
                      <a:br>
                        <a:rPr sz="1800"/>
                      </a:br>
                      <a:br>
                        <a:rPr sz="1600"/>
                      </a:b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s-ES" sz="17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br>
                        <a:rPr sz="900"/>
                      </a:b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69" name="" descr=""/>
          <p:cNvPicPr/>
          <p:nvPr/>
        </p:nvPicPr>
        <p:blipFill>
          <a:blip r:embed="rId2"/>
          <a:stretch/>
        </p:blipFill>
        <p:spPr>
          <a:xfrm>
            <a:off x="249120" y="12016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170" name="" descr=""/>
          <p:cNvPicPr/>
          <p:nvPr/>
        </p:nvPicPr>
        <p:blipFill>
          <a:blip r:embed="rId3"/>
          <a:stretch/>
        </p:blipFill>
        <p:spPr>
          <a:xfrm>
            <a:off x="6016680" y="4327560"/>
            <a:ext cx="2631960" cy="25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Text Box 2"/>
          <p:cNvSpPr/>
          <p:nvPr/>
        </p:nvSpPr>
        <p:spPr>
          <a:xfrm>
            <a:off x="2063880" y="3038400"/>
            <a:ext cx="50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3399"/>
                </a:solidFill>
                <a:latin typeface="Arial Black"/>
              </a:rPr>
              <a:t>MUCHAS GRACIAS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2" name="Picture 4" descr="logo"/>
          <p:cNvPicPr/>
          <p:nvPr/>
        </p:nvPicPr>
        <p:blipFill>
          <a:blip r:embed="rId1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2273400" y="165240"/>
            <a:ext cx="5803920" cy="93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ARQUITEC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8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5" name="Organization Chart 1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996" name="Organization Chart 1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997" name="Picture 4" descr="logo"/>
          <p:cNvPicPr/>
          <p:nvPr/>
        </p:nvPicPr>
        <p:blipFill>
          <a:blip r:embed="rId1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  <p:sp>
        <p:nvSpPr>
          <p:cNvPr id="998" name="Text Box 1028"/>
          <p:cNvSpPr/>
          <p:nvPr/>
        </p:nvSpPr>
        <p:spPr>
          <a:xfrm>
            <a:off x="631800" y="1143000"/>
            <a:ext cx="8131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Esquema de recepción de Declaraciones Jur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9" name="Picture 1029" descr=""/>
          <p:cNvPicPr/>
          <p:nvPr/>
        </p:nvPicPr>
        <p:blipFill>
          <a:blip r:embed="rId2"/>
          <a:stretch/>
        </p:blipFill>
        <p:spPr>
          <a:xfrm>
            <a:off x="927000" y="1968480"/>
            <a:ext cx="7677360" cy="3973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2273040" y="165240"/>
            <a:ext cx="6413400" cy="93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ARQUITEC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8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3" name="Organization Chart 1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004" name="Organization Chart 1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1005" name="Picture 4" descr="logo"/>
          <p:cNvPicPr/>
          <p:nvPr/>
        </p:nvPicPr>
        <p:blipFill>
          <a:blip r:embed="rId1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  <p:sp>
        <p:nvSpPr>
          <p:cNvPr id="1006" name="Rectangle 4"/>
          <p:cNvSpPr/>
          <p:nvPr/>
        </p:nvSpPr>
        <p:spPr>
          <a:xfrm>
            <a:off x="1066680" y="1828800"/>
            <a:ext cx="693432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El contribuyente podr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80880" algn="ctr">
              <a:lnSpc>
                <a:spcPct val="150000"/>
              </a:lnSpc>
              <a:spcBef>
                <a:spcPts val="601"/>
              </a:spcBef>
              <a:buClr>
                <a:srgbClr val="003399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dministrar sus formul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80880" algn="ctr">
              <a:lnSpc>
                <a:spcPct val="150000"/>
              </a:lnSpc>
              <a:spcBef>
                <a:spcPts val="601"/>
              </a:spcBef>
              <a:buClr>
                <a:srgbClr val="003399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onectar con el servidor de DGI en forma seg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80880" algn="ctr">
              <a:lnSpc>
                <a:spcPct val="150000"/>
              </a:lnSpc>
              <a:spcBef>
                <a:spcPts val="601"/>
              </a:spcBef>
              <a:buClr>
                <a:srgbClr val="003399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Validar la consistencia de los formul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80880" algn="ctr">
              <a:lnSpc>
                <a:spcPct val="150000"/>
              </a:lnSpc>
              <a:spcBef>
                <a:spcPts val="601"/>
              </a:spcBef>
              <a:buClr>
                <a:srgbClr val="003399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ctualizar en línea los formularios.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12 Rectángulo"/>
          <p:cNvSpPr/>
          <p:nvPr/>
        </p:nvSpPr>
        <p:spPr>
          <a:xfrm>
            <a:off x="1092240" y="1206360"/>
            <a:ext cx="70232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ogramas de Ayuda -  Modalidad OFF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2273400" y="165240"/>
            <a:ext cx="5803920" cy="93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ARQUITEC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8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Organization Chart 1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012" name="Organization Chart 1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1013" name="Picture 4" descr="logo"/>
          <p:cNvPicPr/>
          <p:nvPr/>
        </p:nvPicPr>
        <p:blipFill>
          <a:blip r:embed="rId1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  <p:sp>
        <p:nvSpPr>
          <p:cNvPr id="1014" name="Text Box 1028"/>
          <p:cNvSpPr/>
          <p:nvPr/>
        </p:nvSpPr>
        <p:spPr>
          <a:xfrm>
            <a:off x="631800" y="1143000"/>
            <a:ext cx="825804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99"/>
                </a:solidFill>
                <a:latin typeface="Arial"/>
              </a:rPr>
              <a:t>Esquema de trabajo para la modalidad OFF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Group 35"/>
          <p:cNvGrpSpPr/>
          <p:nvPr/>
        </p:nvGrpSpPr>
        <p:grpSpPr>
          <a:xfrm>
            <a:off x="622440" y="1828800"/>
            <a:ext cx="8318160" cy="4800600"/>
            <a:chOff x="622440" y="1828800"/>
            <a:chExt cx="8318160" cy="4800600"/>
          </a:xfrm>
        </p:grpSpPr>
        <p:sp>
          <p:nvSpPr>
            <p:cNvPr id="1016" name="Rectangle 27"/>
            <p:cNvSpPr/>
            <p:nvPr/>
          </p:nvSpPr>
          <p:spPr>
            <a:xfrm>
              <a:off x="622440" y="1828800"/>
              <a:ext cx="8318160" cy="4800600"/>
            </a:xfrm>
            <a:prstGeom prst="rect">
              <a:avLst/>
            </a:prstGeom>
            <a:gradFill rotWithShape="0">
              <a:gsLst>
                <a:gs pos="0">
                  <a:srgbClr val="ffffd9"/>
                </a:gs>
                <a:gs pos="100000">
                  <a:srgbClr val="e1e1b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AutoShape 11"/>
            <p:cNvSpPr/>
            <p:nvPr/>
          </p:nvSpPr>
          <p:spPr>
            <a:xfrm>
              <a:off x="894240" y="3505680"/>
              <a:ext cx="1818360" cy="564480"/>
            </a:xfrm>
            <a:prstGeom prst="roundRect">
              <a:avLst>
                <a:gd name="adj" fmla="val 0"/>
              </a:avLst>
            </a:prstGeom>
            <a:solidFill>
              <a:srgbClr val="ffff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enera nuevo formulario con ZENFORM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8" name="Group 12"/>
            <p:cNvGrpSpPr/>
            <p:nvPr/>
          </p:nvGrpSpPr>
          <p:grpSpPr>
            <a:xfrm>
              <a:off x="3417480" y="2018520"/>
              <a:ext cx="2031840" cy="1239480"/>
              <a:chOff x="3417480" y="2018520"/>
              <a:chExt cx="2031840" cy="1239480"/>
            </a:xfrm>
          </p:grpSpPr>
          <p:sp>
            <p:nvSpPr>
              <p:cNvPr id="1019" name="AutoShape 13"/>
              <p:cNvSpPr/>
              <p:nvPr/>
            </p:nvSpPr>
            <p:spPr>
              <a:xfrm>
                <a:off x="3631680" y="2834640"/>
                <a:ext cx="1496880" cy="423360"/>
              </a:xfrm>
              <a:prstGeom prst="roundRect">
                <a:avLst>
                  <a:gd name="adj" fmla="val 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ITIO DG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0" name="Picture 14" descr="BS01108_"/>
              <p:cNvPicPr/>
              <p:nvPr/>
            </p:nvPicPr>
            <p:blipFill>
              <a:blip r:embed="rId2"/>
              <a:stretch/>
            </p:blipFill>
            <p:spPr>
              <a:xfrm>
                <a:off x="3417480" y="2018520"/>
                <a:ext cx="2031840" cy="886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1" name="Group 15"/>
            <p:cNvGrpSpPr/>
            <p:nvPr/>
          </p:nvGrpSpPr>
          <p:grpSpPr>
            <a:xfrm>
              <a:off x="6386040" y="1881720"/>
              <a:ext cx="2353320" cy="1376280"/>
              <a:chOff x="6386040" y="1881720"/>
              <a:chExt cx="2353320" cy="1376280"/>
            </a:xfrm>
          </p:grpSpPr>
          <p:sp>
            <p:nvSpPr>
              <p:cNvPr id="1022" name="AutoShape 16"/>
              <p:cNvSpPr/>
              <p:nvPr/>
            </p:nvSpPr>
            <p:spPr>
              <a:xfrm>
                <a:off x="6386040" y="2834640"/>
                <a:ext cx="2353320" cy="423360"/>
              </a:xfrm>
              <a:prstGeom prst="roundRect">
                <a:avLst>
                  <a:gd name="adj" fmla="val 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ONTRIBUYEN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3" name="Picture 17" descr="BD07157_"/>
              <p:cNvPicPr/>
              <p:nvPr/>
            </p:nvPicPr>
            <p:blipFill>
              <a:blip r:embed="rId3"/>
              <a:stretch/>
            </p:blipFill>
            <p:spPr>
              <a:xfrm>
                <a:off x="6600240" y="1881720"/>
                <a:ext cx="1822680" cy="1023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4" name="Group 18"/>
            <p:cNvGrpSpPr/>
            <p:nvPr/>
          </p:nvGrpSpPr>
          <p:grpSpPr>
            <a:xfrm>
              <a:off x="849600" y="1987560"/>
              <a:ext cx="1905120" cy="1270080"/>
              <a:chOff x="849600" y="1987560"/>
              <a:chExt cx="1905120" cy="1270080"/>
            </a:xfrm>
          </p:grpSpPr>
          <p:sp>
            <p:nvSpPr>
              <p:cNvPr id="1025" name="AutoShape 19"/>
              <p:cNvSpPr/>
              <p:nvPr/>
            </p:nvSpPr>
            <p:spPr>
              <a:xfrm>
                <a:off x="871560" y="2834280"/>
                <a:ext cx="1858320" cy="423360"/>
              </a:xfrm>
              <a:prstGeom prst="roundRect">
                <a:avLst>
                  <a:gd name="adj" fmla="val 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ISTEMAS DG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6" name="Picture 20" descr="BD07131_"/>
              <p:cNvPicPr/>
              <p:nvPr/>
            </p:nvPicPr>
            <p:blipFill>
              <a:blip r:embed="rId4"/>
              <a:stretch/>
            </p:blipFill>
            <p:spPr>
              <a:xfrm>
                <a:off x="849600" y="1987560"/>
                <a:ext cx="1905120" cy="836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27" name="AutoShape 21"/>
            <p:cNvSpPr/>
            <p:nvPr/>
          </p:nvSpPr>
          <p:spPr>
            <a:xfrm>
              <a:off x="3256560" y="4070160"/>
              <a:ext cx="2353680" cy="847080"/>
            </a:xfrm>
            <a:prstGeom prst="roundRect">
              <a:avLst>
                <a:gd name="adj" fmla="val 0"/>
              </a:avLst>
            </a:prstGeom>
            <a:solidFill>
              <a:srgbClr val="ffff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iene disponibles todos los formularios generados prontos para ser descargados por el contribuyen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AutoShape 22"/>
            <p:cNvSpPr/>
            <p:nvPr/>
          </p:nvSpPr>
          <p:spPr>
            <a:xfrm>
              <a:off x="3310200" y="5552640"/>
              <a:ext cx="2246760" cy="847080"/>
            </a:xfrm>
            <a:prstGeom prst="roundRect">
              <a:avLst>
                <a:gd name="adj" fmla="val 0"/>
              </a:avLst>
            </a:prstGeom>
            <a:solidFill>
              <a:srgbClr val="ffff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S o procedimiento BATCH valida formulario y devuelve al usuario informe de proces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AutoShape 23"/>
            <p:cNvSpPr/>
            <p:nvPr/>
          </p:nvSpPr>
          <p:spPr>
            <a:xfrm>
              <a:off x="6439680" y="4176000"/>
              <a:ext cx="2246760" cy="635040"/>
            </a:xfrm>
            <a:prstGeom prst="roundRect">
              <a:avLst>
                <a:gd name="adj" fmla="val 0"/>
              </a:avLst>
            </a:prstGeom>
            <a:solidFill>
              <a:srgbClr val="ffff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Descarga formulario del web y lo graba en su disc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AutoShape 24"/>
            <p:cNvSpPr/>
            <p:nvPr/>
          </p:nvSpPr>
          <p:spPr>
            <a:xfrm>
              <a:off x="6439680" y="5128920"/>
              <a:ext cx="2246760" cy="635040"/>
            </a:xfrm>
            <a:prstGeom prst="roundRect">
              <a:avLst>
                <a:gd name="adj" fmla="val 0"/>
              </a:avLst>
            </a:prstGeom>
            <a:solidFill>
              <a:srgbClr val="ffff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Llena una copia de su declaració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AutoShape 25"/>
            <p:cNvSpPr/>
            <p:nvPr/>
          </p:nvSpPr>
          <p:spPr>
            <a:xfrm>
              <a:off x="5878080" y="5949720"/>
              <a:ext cx="2246760" cy="56484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Envía por email / ftp o se conecta con WS vía http / soa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AutoShape 26"/>
            <p:cNvSpPr/>
            <p:nvPr/>
          </p:nvSpPr>
          <p:spPr>
            <a:xfrm>
              <a:off x="2989440" y="3593520"/>
              <a:ext cx="1069920" cy="21168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úblic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Line 28"/>
            <p:cNvSpPr/>
            <p:nvPr/>
          </p:nvSpPr>
          <p:spPr>
            <a:xfrm>
              <a:off x="622440" y="3364200"/>
              <a:ext cx="831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Line 29"/>
            <p:cNvSpPr/>
            <p:nvPr/>
          </p:nvSpPr>
          <p:spPr>
            <a:xfrm>
              <a:off x="5931720" y="1828800"/>
              <a:ext cx="1800" cy="480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Line 30"/>
            <p:cNvSpPr/>
            <p:nvPr/>
          </p:nvSpPr>
          <p:spPr>
            <a:xfrm>
              <a:off x="2962440" y="1828800"/>
              <a:ext cx="1800" cy="480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6" name="AutoShape 31"/>
            <p:cNvCxnSpPr>
              <a:stCxn id="1017" idx="3"/>
              <a:endCxn id="1027" idx="0"/>
            </p:cNvCxnSpPr>
            <p:nvPr/>
          </p:nvCxnSpPr>
          <p:spPr>
            <a:xfrm>
              <a:off x="2712600" y="3787560"/>
              <a:ext cx="1721160" cy="282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7" name="AutoShape 32"/>
            <p:cNvCxnSpPr>
              <a:stCxn id="1027" idx="3"/>
              <a:endCxn id="1029" idx="1"/>
            </p:cNvCxnSpPr>
            <p:nvPr/>
          </p:nvCxnSpPr>
          <p:spPr>
            <a:xfrm>
              <a:off x="5610600" y="4493520"/>
              <a:ext cx="82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38" name="AutoShape 33"/>
            <p:cNvCxnSpPr>
              <a:stCxn id="1029" idx="2"/>
              <a:endCxn id="1030" idx="0"/>
            </p:cNvCxnSpPr>
            <p:nvPr/>
          </p:nvCxnSpPr>
          <p:spPr>
            <a:xfrm flipH="1">
              <a:off x="7562520" y="4811400"/>
              <a:ext cx="1080" cy="31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9" name="AutoShape 34"/>
            <p:cNvCxnSpPr>
              <a:stCxn id="1030" idx="2"/>
              <a:endCxn id="1028" idx="3"/>
            </p:cNvCxnSpPr>
            <p:nvPr/>
          </p:nvCxnSpPr>
          <p:spPr>
            <a:xfrm rot="5400000">
              <a:off x="6453360" y="4867200"/>
              <a:ext cx="212400" cy="2006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40" name="Rectangle 8"/>
          <p:cNvSpPr/>
          <p:nvPr/>
        </p:nvSpPr>
        <p:spPr>
          <a:xfrm>
            <a:off x="893880" y="457200"/>
            <a:ext cx="6559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273400" y="165240"/>
            <a:ext cx="5803920" cy="93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ARQUITEC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8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Organization Chart 1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045" name="Organization Chart 1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1046" name="Picture 4" descr="logo"/>
          <p:cNvPicPr/>
          <p:nvPr/>
        </p:nvPicPr>
        <p:blipFill>
          <a:blip r:embed="rId1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  <p:sp>
        <p:nvSpPr>
          <p:cNvPr id="1047" name="Rectangle 3"/>
          <p:cNvSpPr/>
          <p:nvPr/>
        </p:nvSpPr>
        <p:spPr>
          <a:xfrm>
            <a:off x="419040" y="1181160"/>
            <a:ext cx="81154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Esquema de integración utilizado para el PAGO por intern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8" name="Picture 6" descr=""/>
          <p:cNvPicPr/>
          <p:nvPr/>
        </p:nvPicPr>
        <p:blipFill>
          <a:blip r:embed="rId2"/>
          <a:srcRect l="6782" t="18976" r="8600" b="4026"/>
          <a:stretch/>
        </p:blipFill>
        <p:spPr>
          <a:xfrm>
            <a:off x="380880" y="2246400"/>
            <a:ext cx="7988400" cy="384804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Text Box 7"/>
          <p:cNvSpPr/>
          <p:nvPr/>
        </p:nvSpPr>
        <p:spPr>
          <a:xfrm>
            <a:off x="140328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3"/>
          <p:cNvSpPr/>
          <p:nvPr/>
        </p:nvSpPr>
        <p:spPr>
          <a:xfrm>
            <a:off x="2070000" y="347760"/>
            <a:ext cx="7074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Los sistemas y sus diferentes enfo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4"/>
          <p:cNvSpPr/>
          <p:nvPr/>
        </p:nvSpPr>
        <p:spPr>
          <a:xfrm>
            <a:off x="311040" y="1371600"/>
            <a:ext cx="756288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 Black"/>
              </a:rPr>
              <a:t>Los sistemas y sus responsables t</a:t>
            </a: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é</a:t>
            </a:r>
            <a:r>
              <a:rPr b="1" lang="es-MX" sz="2400" spc="-1" strike="noStrike">
                <a:solidFill>
                  <a:srgbClr val="003399"/>
                </a:solidFill>
                <a:latin typeface="Arial Black"/>
              </a:rPr>
              <a:t>c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 Black"/>
              </a:rPr>
              <a:t>Los sistemas y la Organizaci</a:t>
            </a: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ó</a:t>
            </a:r>
            <a:r>
              <a:rPr b="1" lang="es-MX" sz="2400" spc="-1" strike="noStrike">
                <a:solidFill>
                  <a:srgbClr val="003399"/>
                </a:solidFill>
                <a:latin typeface="Arial Black"/>
              </a:rPr>
              <a:t>n (visi</a:t>
            </a: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ó</a:t>
            </a:r>
            <a:r>
              <a:rPr b="1" lang="es-MX" sz="2400" spc="-1" strike="noStrike">
                <a:solidFill>
                  <a:srgbClr val="003399"/>
                </a:solidFill>
                <a:latin typeface="Arial Black"/>
              </a:rPr>
              <a:t>n de proces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 Black"/>
              </a:rPr>
              <a:t>Los sistemas y los usuarios fi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 Black"/>
              </a:rPr>
              <a:t>Los sistemas y su tecnolog</a:t>
            </a: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í</a:t>
            </a:r>
            <a:r>
              <a:rPr b="1" lang="es-MX" sz="2400" spc="-1" strike="noStrike">
                <a:solidFill>
                  <a:srgbClr val="003399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2" name="Picture 4" descr="logo"/>
          <p:cNvPicPr/>
          <p:nvPr/>
        </p:nvPicPr>
        <p:blipFill>
          <a:blip r:embed="rId1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1382760" y="5362560"/>
            <a:ext cx="640080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UY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4" name="Text Box 7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9"/>
          <p:cNvSpPr/>
          <p:nvPr/>
        </p:nvSpPr>
        <p:spPr>
          <a:xfrm>
            <a:off x="324000" y="5099040"/>
            <a:ext cx="8569080" cy="93492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USSINESS INTELI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10"/>
          <p:cNvSpPr/>
          <p:nvPr/>
        </p:nvSpPr>
        <p:spPr>
          <a:xfrm>
            <a:off x="317520" y="1190520"/>
            <a:ext cx="2178000" cy="3611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196666"/>
                </a:solidFill>
                <a:latin typeface="Arial"/>
              </a:rPr>
              <a:t>Aplicaciones para la Gestión de Declaraciones Jur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d9"/>
                </a:solidFill>
                <a:latin typeface="Arial"/>
              </a:rPr>
              <a:t>-</a:t>
            </a:r>
            <a:r>
              <a:rPr b="1" lang="es-ES" sz="1400" spc="-1" strike="noStrike">
                <a:solidFill>
                  <a:srgbClr val="196666"/>
                </a:solidFill>
                <a:latin typeface="Arial"/>
              </a:rPr>
              <a:t>Programas de ayu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196666"/>
                </a:solidFill>
                <a:latin typeface="Arial"/>
              </a:rPr>
              <a:t>-Receptores de D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196666"/>
                </a:solidFill>
                <a:latin typeface="Arial"/>
              </a:rPr>
              <a:t>-Recepción de Cobranz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196666"/>
                </a:solidFill>
                <a:latin typeface="Arial"/>
              </a:rPr>
              <a:t>-RT ( Cajas, receptor DJ y pag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196666"/>
                </a:solidFill>
                <a:latin typeface="Arial"/>
              </a:rPr>
              <a:t>-Certificado ú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196666"/>
                </a:solidFill>
                <a:latin typeface="Arial"/>
              </a:rPr>
              <a:t>-Constancias Espe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11"/>
          <p:cNvSpPr/>
          <p:nvPr/>
        </p:nvSpPr>
        <p:spPr>
          <a:xfrm>
            <a:off x="2714760" y="1155600"/>
            <a:ext cx="2136600" cy="359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002060"/>
                </a:solidFill>
                <a:latin typeface="Arial"/>
              </a:rPr>
              <a:t>Aplicaciones para la Gestión de Recaudación y Otras Gest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2060"/>
                </a:solidFill>
                <a:latin typeface="Arial"/>
              </a:rPr>
              <a:t>-Boletos de P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2060"/>
                </a:solidFill>
                <a:latin typeface="Arial"/>
              </a:rPr>
              <a:t>-Receptores de Pa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2060"/>
                </a:solidFill>
                <a:latin typeface="Arial"/>
              </a:rPr>
              <a:t>-Conven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2060"/>
                </a:solidFill>
                <a:latin typeface="Arial"/>
              </a:rPr>
              <a:t>-Certificados de Créd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2060"/>
                </a:solidFill>
                <a:latin typeface="Arial"/>
              </a:rPr>
              <a:t>-Devolu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2060"/>
                </a:solidFill>
                <a:latin typeface="Arial"/>
              </a:rPr>
              <a:t>-Control de Anticip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2060"/>
                </a:solidFill>
                <a:latin typeface="Arial"/>
              </a:rPr>
              <a:t>-Debitos Créd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2060"/>
                </a:solidFill>
                <a:latin typeface="Arial"/>
              </a:rPr>
              <a:t>-Gestión IRP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12"/>
          <p:cNvSpPr/>
          <p:nvPr/>
        </p:nvSpPr>
        <p:spPr>
          <a:xfrm>
            <a:off x="4933800" y="1144440"/>
            <a:ext cx="2000520" cy="36036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000000"/>
                </a:solidFill>
                <a:latin typeface="Arial"/>
              </a:rPr>
              <a:t>Aplicaciones del Registro Único Tributar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R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-Constancias de Impre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-S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-Cit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-Observaciones de Empres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13"/>
          <p:cNvSpPr/>
          <p:nvPr/>
        </p:nvSpPr>
        <p:spPr>
          <a:xfrm>
            <a:off x="7018200" y="1146240"/>
            <a:ext cx="1960560" cy="358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7e7e00"/>
                </a:solidFill>
                <a:latin typeface="Arial"/>
              </a:rPr>
              <a:t>Aplicaciones Tercerizadas y Fiscaliz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3300"/>
                </a:solidFill>
                <a:latin typeface="Arial"/>
              </a:rPr>
              <a:t>-Expedi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3300"/>
                </a:solidFill>
                <a:latin typeface="Arial"/>
              </a:rPr>
              <a:t>-Payro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3300"/>
                </a:solidFill>
                <a:latin typeface="Arial"/>
              </a:rPr>
              <a:t>-Comp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3300"/>
                </a:solidFill>
                <a:latin typeface="Arial"/>
              </a:rPr>
              <a:t>-K2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3300"/>
                </a:solidFill>
                <a:latin typeface="Arial"/>
              </a:rPr>
              <a:t>-Por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3300"/>
                </a:solidFill>
                <a:latin typeface="Arial"/>
              </a:rPr>
              <a:t>-Fiscali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3300"/>
                </a:solidFill>
                <a:latin typeface="Arial"/>
              </a:rPr>
              <a:t>-Denu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3300"/>
                </a:solidFill>
                <a:latin typeface="Arial"/>
              </a:rPr>
              <a:t>-Age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17"/>
          <p:cNvSpPr/>
          <p:nvPr/>
        </p:nvSpPr>
        <p:spPr>
          <a:xfrm>
            <a:off x="2006640" y="404640"/>
            <a:ext cx="71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Sistemas y responsables téc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1" name="Picture 4" descr="logo"/>
          <p:cNvPicPr/>
          <p:nvPr/>
        </p:nvPicPr>
        <p:blipFill>
          <a:blip r:embed="rId1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Text Box 7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17"/>
          <p:cNvSpPr/>
          <p:nvPr/>
        </p:nvSpPr>
        <p:spPr>
          <a:xfrm>
            <a:off x="1854360" y="404640"/>
            <a:ext cx="630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Sistemas y la organiz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Picture 12" descr=""/>
          <p:cNvPicPr/>
          <p:nvPr/>
        </p:nvPicPr>
        <p:blipFill>
          <a:blip r:embed="rId1"/>
          <a:stretch/>
        </p:blipFill>
        <p:spPr>
          <a:xfrm>
            <a:off x="0" y="1219320"/>
            <a:ext cx="9053640" cy="3744720"/>
          </a:xfrm>
          <a:prstGeom prst="rect">
            <a:avLst/>
          </a:prstGeom>
          <a:ln w="0">
            <a:noFill/>
          </a:ln>
        </p:spPr>
      </p:pic>
      <p:sp>
        <p:nvSpPr>
          <p:cNvPr id="1065" name="Text Box 13"/>
          <p:cNvSpPr/>
          <p:nvPr/>
        </p:nvSpPr>
        <p:spPr>
          <a:xfrm>
            <a:off x="2065320" y="3708360"/>
            <a:ext cx="1162080" cy="186264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INFORMACIÓN Y ASISTENC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Programas de Ayud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Página We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Portal Preguntas Frecuent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4"/>
          <p:cNvSpPr/>
          <p:nvPr/>
        </p:nvSpPr>
        <p:spPr>
          <a:xfrm>
            <a:off x="3208320" y="3708360"/>
            <a:ext cx="1162080" cy="177012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GESTIÓN DE OBLIGADOS TRIBUTARI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Recepción de Declara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R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Devolu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S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C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5"/>
          <p:cNvSpPr/>
          <p:nvPr/>
        </p:nvSpPr>
        <p:spPr>
          <a:xfrm>
            <a:off x="4375080" y="3708360"/>
            <a:ext cx="1158840" cy="17398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ES" sz="900" spc="-1" strike="noStrike">
                <a:solidFill>
                  <a:srgbClr val="ffffff"/>
                </a:solidFill>
                <a:latin typeface="Arial"/>
                <a:ea typeface="Arial"/>
              </a:rPr>
              <a:t>GEST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Arial"/>
                <a:ea typeface="Arial"/>
              </a:rPr>
              <a:t>DE LA RECAUD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Arial"/>
                <a:ea typeface="Arial"/>
              </a:rPr>
              <a:t>Sistemas de Recaud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Arial"/>
                <a:ea typeface="Arial"/>
              </a:rPr>
              <a:t>Receptor de Pa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MX" sz="900" spc="-1" strike="noStrike">
                <a:solidFill>
                  <a:srgbClr val="ffffff"/>
                </a:solidFill>
                <a:latin typeface="Arial"/>
                <a:ea typeface="Arial"/>
              </a:rPr>
              <a:t>Conveni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MX" sz="900" spc="-1" strike="noStrike">
                <a:solidFill>
                  <a:srgbClr val="ffffff"/>
                </a:solidFill>
                <a:latin typeface="Arial"/>
                <a:ea typeface="Arial"/>
              </a:rPr>
              <a:t>Jure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6"/>
          <p:cNvSpPr/>
          <p:nvPr/>
        </p:nvSpPr>
        <p:spPr>
          <a:xfrm>
            <a:off x="5535720" y="3708360"/>
            <a:ext cx="1149120" cy="17398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s-ES" sz="900" spc="-1" strike="noStrike">
                <a:solidFill>
                  <a:srgbClr val="ffffff"/>
                </a:solidFill>
                <a:latin typeface="Arial"/>
                <a:ea typeface="Arial"/>
              </a:rPr>
              <a:t>CONTROLES EXTENSIV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Arial"/>
                <a:ea typeface="Arial"/>
              </a:rPr>
              <a:t>Gestión de Anticipos, IRPF, Débito Crédi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MX" sz="900" spc="-1" strike="noStrike">
                <a:solidFill>
                  <a:srgbClr val="ffffff"/>
                </a:solidFill>
                <a:latin typeface="Arial"/>
                <a:ea typeface="Arial"/>
              </a:rPr>
              <a:t>Cita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MX" sz="900" spc="-1" strike="noStrike">
                <a:solidFill>
                  <a:srgbClr val="ffffff"/>
                </a:solidFill>
                <a:latin typeface="Arial"/>
                <a:ea typeface="Arial"/>
              </a:rPr>
              <a:t>Soluciones de B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17"/>
          <p:cNvSpPr/>
          <p:nvPr/>
        </p:nvSpPr>
        <p:spPr>
          <a:xfrm>
            <a:off x="6681960" y="3708360"/>
            <a:ext cx="1199880" cy="167832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s-ES" sz="10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s-ES" sz="1000" spc="-1" strike="noStrike">
                <a:solidFill>
                  <a:srgbClr val="ffffff"/>
                </a:solidFill>
                <a:latin typeface="Arial"/>
                <a:ea typeface="Arial"/>
              </a:rPr>
              <a:t>CONTROLES INTENSIV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Arial"/>
                <a:ea typeface="Arial"/>
              </a:rPr>
              <a:t>Sistemas de Fiscalización (Profis, Fiscali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ES" sz="900" spc="-1" strike="noStrike">
                <a:solidFill>
                  <a:srgbClr val="ffffff"/>
                </a:solidFill>
                <a:latin typeface="Arial"/>
                <a:ea typeface="Arial"/>
              </a:rPr>
              <a:t>Denunci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MX" sz="900" spc="-1" strike="noStrike">
                <a:solidFill>
                  <a:srgbClr val="ffffff"/>
                </a:solidFill>
                <a:latin typeface="Arial"/>
                <a:ea typeface="Arial"/>
              </a:rPr>
              <a:t>Herramientas de B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8"/>
          <p:cNvSpPr/>
          <p:nvPr/>
        </p:nvSpPr>
        <p:spPr>
          <a:xfrm>
            <a:off x="7864560" y="3708360"/>
            <a:ext cx="1279440" cy="14644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s-ES" sz="1000" spc="-1" strike="noStrike">
                <a:solidFill>
                  <a:srgbClr val="ffffff"/>
                </a:solidFill>
                <a:latin typeface="Arial"/>
                <a:ea typeface="Arial"/>
              </a:rPr>
              <a:t>GEST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  <a:ea typeface="Arial"/>
              </a:rPr>
              <a:t>JURÍD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  <a:ea typeface="Arial"/>
              </a:rPr>
              <a:t>Jur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1" name="Picture 4" descr="logo"/>
          <p:cNvPicPr/>
          <p:nvPr/>
        </p:nvPicPr>
        <p:blipFill>
          <a:blip r:embed="rId2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7T15:05:11Z</dcterms:created>
  <dc:creator>usuario</dc:creator>
  <dc:description/>
  <dc:language>en-US</dc:language>
  <cp:lastModifiedBy> </cp:lastModifiedBy>
  <cp:lastPrinted>2011-12-11T12:57:22Z</cp:lastPrinted>
  <dcterms:modified xsi:type="dcterms:W3CDTF">2013-10-29T09:59:28Z</dcterms:modified>
  <cp:revision>389</cp:revision>
  <dc:subject/>
  <dc:title>Diapositiva 1</dc:title>
</cp:coreProperties>
</file>