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AA9965C5-403B-4480-A672-35613014D196}" type="slidenum"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9E9DB6D7-555D-4779-B0DA-ABA79853F98A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F4D-9048-47A5-B318-95A51954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780-251A-47C0-AA36-3B713A39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08A-FAB1-47AC-A7E1-4BAACB27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217-6EFC-4B0B-BE26-E507827E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6C1E-FAED-49F2-9861-FBF7C78C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419-5925-4344-8438-7FFB824A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AAFD-9087-4BBC-8FD0-F1CE0A95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751A-0591-4A36-8ADA-D1717E9F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58E9-1B9A-48BA-BE1B-1680CBAB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90C-29C8-4807-9D50-D32B6070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87A6-778A-4554-9D3E-B737128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559-0D71-4A1A-8629-0C9BD2DB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66BD-5C4B-4F77-A868-AAB3836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C16-EB83-49CF-9C7A-2BE40C5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A1C8-63A2-4D99-BEC5-F6EB454D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0DF-600D-48FC-AA55-DB25D21A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A87-20C0-42AF-B121-B017A690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D43-ACAB-44C3-8E4D-65FAC550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8D1-FDB7-4A53-9D67-068E1F94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ADE-0859-4B52-90C9-8F20B63E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B61-C7B1-4BC6-8143-4AE7A3E7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4F0-2C16-4DC4-9292-33398D2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E07-F783-4D98-92DC-323A495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0FA-8E64-48DB-92AC-790EB173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FF1A71E-3C9D-4743-857E-85B9D70A8EEB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788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3457D7D-B8BB-4F2A-93CB-F7F8FAF8E613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REGISTRO TRIBUTARI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3363840"/>
            <a:ext cx="6172200" cy="2070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0680" y="5816520"/>
            <a:ext cx="286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ENCUENTRO SUR-S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GUATEMALA-ANTIGU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Agosto 2013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URUGUA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CA2-7352-4C60-B535-FFEB1E467A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2400" y="900000"/>
            <a:ext cx="9094680" cy="11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ELEMENTOS QUE INTEGRAN LA BASE DE DATO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66"/>
                </a:solidFill>
                <a:latin typeface="Tahoma"/>
              </a:rPr>
              <a:t>LOS DATOS ESTAN AGRUPADOS EN CUATRO BLOQUES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IDENTIFICACIO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UBICACIÓ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LASIFIC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OTROS DATOS DE TRASCENDENCIA FISC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 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Los datos básicos requeridos para la inscripción difieren según se trate de obligados tributarios o potenciales obligad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48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3600" y="2054160"/>
          <a:ext cx="6394320" cy="5184720"/>
        </p:xfrm>
        <a:graphic>
          <a:graphicData uri="http://schemas.openxmlformats.org/drawingml/2006/table">
            <a:tbl>
              <a:tblPr/>
              <a:tblGrid>
                <a:gridCol w="3198960"/>
                <a:gridCol w="3195360"/>
              </a:tblGrid>
              <a:tr h="92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DENTIF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umero de R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ombre o Denomin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aturaleza Juríd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UB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OMICILIO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onstituí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Fis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articular (P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LASIF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ódigo de actividad econó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bligaciones fiscal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  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   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m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imensión económica- Gru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tros datos de trascendencia fis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rocedencia de la inform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atos de vinculados (PF, PJ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Fecha de bal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Loc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 u="sng">
                          <a:solidFill>
                            <a:srgbClr val="e5ffff"/>
                          </a:solidFill>
                          <a:uFillTx/>
                          <a:latin typeface="Tahoma"/>
                          <a:ea typeface="Arial"/>
                        </a:rPr>
                        <a:t>U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95440" y="1463760"/>
            <a:ext cx="260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OBLIGADOS TRIBUTARI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ersonas físicas:</a:t>
            </a:r>
            <a:r>
              <a:rPr b="1" lang="es-UY" sz="31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s-UY" sz="3100" spc="-1" strike="noStrike">
                <a:solidFill>
                  <a:srgbClr val="e5ffff"/>
                </a:solidFill>
                <a:latin typeface="Tahoma"/>
              </a:rPr>
              <a:t>(inscripción reducida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Nombres y apelli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Documento: tipo país y númer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Fecha de nacimient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Domicilio en algunos cas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777600"/>
            <a:ext cx="9072720" cy="129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OTROS DATOS DE IDENTIFICACION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2184480"/>
            <a:ext cx="4457880" cy="4535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100800" rIns="100800" tIns="50400" bIns="5040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Entidades pluripersonal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Fecha de constitució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Fecha y Número de inscripción en el RNC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Nombre de fantasí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Información de residen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760" y="2184480"/>
            <a:ext cx="4459320" cy="4535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ersonas Física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Estado Civi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Sex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Nombre de fantasí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Información de residen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878040"/>
            <a:ext cx="9072720" cy="1179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OBTENCIÓN DE INFORMACIÓN PARA LA BASE DE DAT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8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or captación o individualizad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100" spc="-1" strike="noStrike">
                <a:solidFill>
                  <a:srgbClr val="e5ffff"/>
                </a:solidFill>
                <a:latin typeface="Tahoma"/>
              </a:rPr>
              <a:t>La información se obtiene a través de: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Declaraciones del regist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Vía Web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Declaraciones jurada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Actuaciones de la AT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or suministro ( periódica y automatizada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100" spc="-1" strike="noStrike">
                <a:solidFill>
                  <a:srgbClr val="e5ffff"/>
                </a:solidFill>
                <a:latin typeface="Tahoma"/>
              </a:rPr>
              <a:t>Es la información que se solicita periódicamente a determinadas  entidades obligadas por las normas legales a presentarla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720" y="695160"/>
            <a:ext cx="9072720" cy="123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PRINCIPALES SUBPROCE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INSCRIPCION</a:t>
            </a:r>
            <a:r>
              <a:rPr b="1" lang="es-UY" sz="17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s-UY" sz="17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previo al inicio de la actividad económica  asociado a la asignación de un número de RUT o cuando la administración lo requiera y/o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ES_tradnl" sz="2400" spc="-1" strike="noStrike" u="sng">
                <a:solidFill>
                  <a:srgbClr val="ffcc00"/>
                </a:solidFill>
                <a:uFillTx/>
                <a:latin typeface="Tahoma"/>
              </a:rPr>
              <a:t>MODIFICACION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comunicación a la Administración de los cambios realizados con respecto a la información existente o cuando la Administración lo constate o requie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CANCELAC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Cese o clausura efectiva de todas las actividades u obligaciones previstas en las disposiciones legales de los obligados de la Administración Tributari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720" y="899640"/>
            <a:ext cx="9072720" cy="10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000" spc="-1" strike="noStrike">
                <a:solidFill>
                  <a:srgbClr val="ffcc00"/>
                </a:solidFill>
                <a:latin typeface="Tahoma"/>
              </a:rPr>
              <a:t>CANCELAC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Estados de la cancelació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Cancelación en trámite: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UY" sz="2600" spc="-1" strike="noStrike">
                <a:solidFill>
                  <a:srgbClr val="e5ffff"/>
                </a:solidFill>
                <a:latin typeface="Tahoma"/>
              </a:rPr>
              <a:t>a solicitud del obligado y mientras la Administración no haya otorgado al cliente el Certificado Especi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Cancelación definitiva: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_tradnl" sz="2600" spc="-1" strike="noStrike">
                <a:solidFill>
                  <a:srgbClr val="e5ffff"/>
                </a:solidFill>
                <a:latin typeface="Tahoma"/>
              </a:rPr>
              <a:t>una vez que la Administración ha comprobado que se ha cumplido con todas las obligaciones fiscales establecidas en la normativa  y otorgada el Certificado Especial</a:t>
            </a: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0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720" y="728280"/>
            <a:ext cx="90727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MEDIOS DE PRESENT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Existen distintas medios de presentación de la información, dependiendo estos del tipo de obligado así como del proceso  que se está realizando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1120" y="21240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82480" y="2287440"/>
          <a:ext cx="8939520" cy="4529160"/>
        </p:xfrm>
        <a:graphic>
          <a:graphicData uri="http://schemas.openxmlformats.org/drawingml/2006/table">
            <a:tbl>
              <a:tblPr/>
              <a:tblGrid>
                <a:gridCol w="1646280"/>
                <a:gridCol w="863640"/>
                <a:gridCol w="1376280"/>
                <a:gridCol w="1179720"/>
                <a:gridCol w="1330200"/>
                <a:gridCol w="1177920"/>
                <a:gridCol w="1365480"/>
              </a:tblGrid>
              <a:tr h="902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Formulario impr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We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Archivo Informát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2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nscrip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Modifi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 (algunos da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(algunos da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ancel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696960" y="1633680"/>
            <a:ext cx="381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Arial"/>
              </a:rPr>
              <a:t>MEDIOS DE PRESENTAC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313200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5520" y="420840"/>
            <a:ext cx="7081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REGISTRO UNICO TRIBUTARI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819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SPECTOS  GENER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ELEMENTOS DE LA BASE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DE D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I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GESTION DEL REGIST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799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799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730-0C6A-4989-A78E-F4F4AE0EA6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5360" indent="0" algn="ctr"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s-UY" sz="3600" spc="-1" strike="noStrike" u="sng">
                <a:solidFill>
                  <a:srgbClr val="ffcc00"/>
                </a:solidFill>
                <a:uFillTx/>
                <a:latin typeface="Tahoma"/>
              </a:rPr>
              <a:t>DEPURACIONES MASIV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ese de oficio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ruce informático anual para las empresas que no registran ningún signo de actividad en DGI ni BPS con consecuencias para el contribuyente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65304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DEPURACIONES MASIV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53040" indent="-65304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AutoNum type="arabicParenR" startAt="2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Marca de inactividad</a:t>
            </a: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5304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ruce informático anual para entidades y personas físicas en un período más corto que se utiliza por la Administración a los efectos de actuaciones masivas sin consecuencias para el contribuyente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720" y="739800"/>
            <a:ext cx="907272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DECLARACIONES DEL REGISTRO</a:t>
            </a:r>
            <a:r>
              <a:rPr b="0" lang="es-UY" sz="45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FORMA DE PRESENT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Formularios Impresos</a:t>
            </a: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acompañado de  documentación acreditativa de algunos dat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Vía Web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cuando la información comunicada no requiere  documentación acreditativa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9840" y="844560"/>
            <a:ext cx="8877240" cy="1225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DECLARACIONES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DATOS QUE REQUIEREN DOCUMENTACION ACREDITATIVA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Referidos a su constitución y estatut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omicilio fisc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Personas físicas o jurídicas vinculad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096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ASPECTOS GENERALE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ARACTERISTICAS ORGANIZATIV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Base de datos única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: asegurando la unicidad de los registr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Ingreso de la información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en tiempo real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r funcionarios especializados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en el tema en todas las oficinas del paí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ASPECTOS GENERALE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4720" y="2811600"/>
          <a:ext cx="9072720" cy="3001680"/>
        </p:xfrm>
        <a:graphic>
          <a:graphicData uri="http://schemas.openxmlformats.org/drawingml/2006/table">
            <a:tbl>
              <a:tblPr/>
              <a:tblGrid>
                <a:gridCol w="1814760"/>
                <a:gridCol w="1814400"/>
                <a:gridCol w="1814400"/>
                <a:gridCol w="1814760"/>
                <a:gridCol w="181440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Registr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lausur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Ac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nac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184.09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642.4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302.70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19.49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ersonas Fís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3.476.67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70.398</a:t>
                      </a:r>
                      <a:r>
                        <a:rPr b="1" lang="en-US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696.51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609.76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4.660.76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812.80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999.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729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257480" y="1793880"/>
            <a:ext cx="2697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UNIVER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980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UNIVERS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OBLIGADOS TRIBUTARIO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son las personas físicas, jurídicas y demás entidades pluripersonales que por las normas están obligados a inscribirse en el Registro Único Tributari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POTENCIALES OBLIGADO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todas aquellas personas físicas que en algún momento pueden verse alcanzadas por la normativa tributaria y comenzar a cumplir con obligaciones de dicho carácter. Se trata de las personas físicas cuya inscripción se realiza a partir de la información proporcionada por entidades colaboradora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981000"/>
            <a:ext cx="9072720" cy="95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NUMERO DE IDENTIFICACION FISCAL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216180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NUMERO DE RU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Número de identificación único, invariable y no reutiliza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RUC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otorgado por la Dirección General Impositiv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CI 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número otorgado a las  personas físicas con cédula de identidad expedida por la Dirección Nacional de identificación Civi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NIE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número otorgado secuencialmente por la DGI a cada persona física extranjera (Número de identificación extranjero). Su estructura y forma de validación es la de la CI  siendo el primer dígito el 9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78876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(I) RUT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NUMERO DE IDENTIFICACION FISCAL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27080" y="2239920"/>
          <a:ext cx="8086680" cy="4984920"/>
        </p:xfrm>
        <a:graphic>
          <a:graphicData uri="http://schemas.openxmlformats.org/drawingml/2006/table">
            <a:tbl>
              <a:tblPr/>
              <a:tblGrid>
                <a:gridCol w="4044960"/>
                <a:gridCol w="4041720"/>
              </a:tblGrid>
              <a:tr h="113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C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(REGISTRO ÚNICO CONTRIBUYENT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ERSONAS FISICAS (sin activida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CI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(CEDULA DE IDENTIDA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NIE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(NUMERO DE IDENTIFICAC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XTRANJ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F (con actividad empresarial o profesion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</a:t>
                      </a: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T= RU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F (con actividad empresarial o profesional cancelada en estado definitiv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50328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7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T= CI O NI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NUMERO DE RUC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7920" y="1933560"/>
            <a:ext cx="8977320" cy="495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Gener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822240" y="2706840"/>
            <a:ext cx="13255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X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629080" y="2685960"/>
            <a:ext cx="11221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YYYYY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309920" y="2719440"/>
            <a:ext cx="11430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273720" y="2664000"/>
            <a:ext cx="13845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T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096920" y="2986200"/>
            <a:ext cx="2376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109520" y="5805360"/>
            <a:ext cx="1460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063960"/>
            <a:ext cx="23760" cy="182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11560" y="4857480"/>
            <a:ext cx="1349280" cy="11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400640" y="549756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2606760" y="5543640"/>
            <a:ext cx="153036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Cód. Dp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4537080" y="4695840"/>
            <a:ext cx="13716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375240" y="3062160"/>
            <a:ext cx="60480" cy="129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4330800"/>
            <a:ext cx="298800" cy="12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6811920" y="4915080"/>
            <a:ext cx="17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4068720"/>
            <a:ext cx="178272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Contie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digito verificad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651720" y="4879800"/>
            <a:ext cx="278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NUMERO DE RUC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Gener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Donde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xx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rango 01 a 21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YYYYYYYY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:  secuencial de 8 dígitos ≠ 0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TT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contiene dígito verificador a partir de una regl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18:54:00Z</dcterms:created>
  <dc:creator>Gonzalo Lopez</dc:creator>
  <dc:description/>
  <dc:language>en-US</dc:language>
  <cp:lastModifiedBy> </cp:lastModifiedBy>
  <dcterms:modified xsi:type="dcterms:W3CDTF">2013-10-28T13:12:39Z</dcterms:modified>
  <cp:revision>53</cp:revision>
  <dc:subject/>
  <dc:title>ALCANCE</dc:title>
</cp:coreProperties>
</file>