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C7D96BE-600F-4128-9FBE-4DDA8A0D0F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EBA753-B0DB-438B-9BBC-3EA367B49091}" type="slidenum">
              <a:rPr b="0" lang="es-G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3AF62F1-CA68-46E6-9EDB-DFAA9F6E2E2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9E4C7E-70A9-4A72-8B47-D021852D9F5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5A09F3-D5C7-4C6C-9894-F32F61A3889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4896F1B-84F8-4925-9494-9A0E8784B70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9522089-9906-4057-860E-F4F3B689D33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17AD24-CC1A-47F1-ADF7-3F2420D79D5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B3F28C-71F4-4558-9D94-4E439A4A09A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44B8658-65D5-4E0C-BFF7-D815BA5198E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BD30B74-F2BD-4242-B35D-250D18A7A55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315D2E-F22A-4672-9609-4E684ABB0D0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2279E0-1841-4432-A8ED-9485BFFCFEA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9C64438-DF85-45E7-9A64-C8F5DE39F08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6280" y="371592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2176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804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628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804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4560" y="189000"/>
            <a:ext cx="817416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176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6280" y="371592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176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804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944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628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804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944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74560" y="189000"/>
            <a:ext cx="817416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2176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0000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836640"/>
            <a:ext cx="8066160" cy="71280"/>
          </a:xfrm>
          <a:prstGeom prst="pie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2700000"/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7"/>
          <p:cNvSpPr/>
          <p:nvPr/>
        </p:nvSpPr>
        <p:spPr>
          <a:xfrm>
            <a:off x="755640" y="3213000"/>
            <a:ext cx="7772400" cy="1098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0000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google.com.gt/url?sa=i&amp;source=images&amp;cd=&amp;cad=rja&amp;docid=XP3cSjZksuwFPM&amp;tbnid=gJSWYxt5OEY0yM:&amp;ved=0CAUQjRw&amp;url=http%3A%2F%2Fdiariojudio.com%2Fcomunidad-judia-mexico%2Fcomienza-hoy-el-congreso-anual-de-lideres-judios-del-keren-kayemet-leisrael%2F42543%2F&amp;ei=a8L_UbbSN4rS9QTUuYDYCA&amp;psig=AFQjCNF0-Sgbv4aUDk9wXw6kyGYMSuBHww&amp;ust=1375802336406370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image" Target="../media/image2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n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9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68360" y="1557360"/>
          <a:ext cx="7289640" cy="3063960"/>
        </p:xfrm>
        <a:graphic>
          <a:graphicData uri="http://schemas.openxmlformats.org/drawingml/2006/table">
            <a:tbl>
              <a:tblPr/>
              <a:tblGrid>
                <a:gridCol w="7289640"/>
              </a:tblGrid>
              <a:tr h="83988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SUPERINTENDENCIA DE ADMINISTRACIÓN TRIBUTARIA - SA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73080" marR="7308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376092"/>
                          </a:solidFill>
                          <a:latin typeface="Georgia"/>
                        </a:rPr>
                        <a:t>EL REGISTRO DE CONTRIBUYEN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7609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376092"/>
                          </a:solidFill>
                          <a:latin typeface="Georgia"/>
                        </a:rPr>
                        <a:t>LOCALIZACIÓN</a:t>
                      </a:r>
                      <a:br>
                        <a:rPr sz="2000"/>
                      </a:br>
                      <a:r>
                        <a:rPr b="1" lang="es-ES_tradnl" sz="2000" spc="-1" strike="noStrike">
                          <a:solidFill>
                            <a:srgbClr val="376092"/>
                          </a:solidFill>
                          <a:latin typeface="Georgi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376092"/>
                          </a:solidFill>
                          <a:latin typeface="Georgia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88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7609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73080" marR="7308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5" descr="Dibujo"/>
          <p:cNvPicPr/>
          <p:nvPr/>
        </p:nvPicPr>
        <p:blipFill>
          <a:blip r:embed="rId3"/>
          <a:srcRect l="6956" t="12589" r="12715" b="44104"/>
          <a:stretch/>
        </p:blipFill>
        <p:spPr>
          <a:xfrm>
            <a:off x="639720" y="5094360"/>
            <a:ext cx="2367000" cy="828720"/>
          </a:xfrm>
          <a:prstGeom prst="rect">
            <a:avLst/>
          </a:prstGeom>
          <a:ln w="0">
            <a:noFill/>
          </a:ln>
        </p:spPr>
      </p:pic>
      <p:pic>
        <p:nvPicPr>
          <p:cNvPr id="90" name="13 Imagen" descr="http://intrasat2/Imagenes%20CSI/Codonacion_deuda_2013.png"/>
          <p:cNvPicPr/>
          <p:nvPr/>
        </p:nvPicPr>
        <p:blipFill>
          <a:blip r:embed="rId4"/>
          <a:srcRect l="89104" t="89412" r="0" b="0"/>
          <a:stretch/>
        </p:blipFill>
        <p:spPr>
          <a:xfrm>
            <a:off x="3006720" y="5264280"/>
            <a:ext cx="2036880" cy="733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ttp://t2.gstatic.com/images?q=tbn:ANd9GcT0oBe6zMfZMK_vSwazaALg3yhXduVs3c5A8YM17JS2rfb0QDA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19840" y="3060720"/>
            <a:ext cx="3004920" cy="410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PLANES OPERATIVO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7" name="4 Diagrama" descr=""/>
          <p:cNvPicPr/>
          <p:nvPr/>
        </p:nvPicPr>
        <p:blipFill>
          <a:blip r:embed="rId2"/>
          <a:stretch/>
        </p:blipFill>
        <p:spPr>
          <a:xfrm>
            <a:off x="1359000" y="1536840"/>
            <a:ext cx="6303960" cy="386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MOTIVOS DE IDENTIFICACIÓN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9" name="4 Diagrama" descr=""/>
          <p:cNvPicPr/>
          <p:nvPr/>
        </p:nvPicPr>
        <p:blipFill>
          <a:blip r:embed="rId2"/>
          <a:stretch/>
        </p:blipFill>
        <p:spPr>
          <a:xfrm>
            <a:off x="1212840" y="974880"/>
            <a:ext cx="6224760" cy="47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PROBLEMAS COMUNE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1" name="4 Diagrama" descr=""/>
          <p:cNvPicPr/>
          <p:nvPr/>
        </p:nvPicPr>
        <p:blipFill>
          <a:blip r:embed="rId2"/>
          <a:stretch/>
        </p:blipFill>
        <p:spPr>
          <a:xfrm>
            <a:off x="225360" y="1511280"/>
            <a:ext cx="6431040" cy="3726000"/>
          </a:xfrm>
          <a:prstGeom prst="rect">
            <a:avLst/>
          </a:prstGeom>
          <a:ln w="0">
            <a:noFill/>
          </a:ln>
        </p:spPr>
      </p:pic>
      <p:pic>
        <p:nvPicPr>
          <p:cNvPr id="122" name="6 Imagen" descr="descarga (6).jpg"/>
          <p:cNvPicPr/>
          <p:nvPr/>
        </p:nvPicPr>
        <p:blipFill>
          <a:blip r:embed="rId3"/>
          <a:stretch/>
        </p:blipFill>
        <p:spPr>
          <a:xfrm>
            <a:off x="7164360" y="1268280"/>
            <a:ext cx="1657440" cy="1656000"/>
          </a:xfrm>
          <a:prstGeom prst="rect">
            <a:avLst/>
          </a:prstGeom>
          <a:ln w="0">
            <a:noFill/>
          </a:ln>
        </p:spPr>
      </p:pic>
      <p:pic>
        <p:nvPicPr>
          <p:cNvPr id="123" name="5 Imagen" descr="15419719-obligatorio-recto-o-girar-a-la-derecha-por-delante-carril-de-trafico-de-la-ruta-direccion-signo-punt.jpg"/>
          <p:cNvPicPr/>
          <p:nvPr/>
        </p:nvPicPr>
        <p:blipFill>
          <a:blip r:embed="rId4"/>
          <a:stretch/>
        </p:blipFill>
        <p:spPr>
          <a:xfrm>
            <a:off x="7308720" y="328464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99"/>
                </a:solidFill>
                <a:latin typeface="Verdana"/>
              </a:rPr>
              <a:t>INTERACCIÓN DEL RTU</a:t>
            </a:r>
            <a:endParaRPr b="1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5" name="19 Diagrama" descr=""/>
          <p:cNvPicPr/>
          <p:nvPr/>
        </p:nvPicPr>
        <p:blipFill>
          <a:blip r:embed="rId2"/>
          <a:stretch/>
        </p:blipFill>
        <p:spPr>
          <a:xfrm>
            <a:off x="353880" y="804960"/>
            <a:ext cx="8796600" cy="53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003399"/>
                </a:solidFill>
                <a:latin typeface="Verdana"/>
              </a:rPr>
              <a:t>ESTADISTICA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7" name="3 Diagrama" descr=""/>
          <p:cNvPicPr/>
          <p:nvPr/>
        </p:nvPicPr>
        <p:blipFill>
          <a:blip r:embed="rId2"/>
          <a:stretch/>
        </p:blipFill>
        <p:spPr>
          <a:xfrm>
            <a:off x="1122480" y="1566720"/>
            <a:ext cx="6716520" cy="351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76092"/>
                </a:solidFill>
                <a:latin typeface="Palatino Linotype"/>
                <a:ea typeface="ＭＳ Ｐゴシック"/>
              </a:rPr>
              <a:t>GRACIAS POR SU ATENCIÓN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rcRect l="2852" t="13549" r="6404" b="20835"/>
          <a:stretch/>
        </p:blipFill>
        <p:spPr>
          <a:xfrm>
            <a:off x="2771640" y="5013360"/>
            <a:ext cx="20415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131" name="3 Imagen" descr="tramites.jpg"/>
          <p:cNvPicPr/>
          <p:nvPr/>
        </p:nvPicPr>
        <p:blipFill>
          <a:blip r:embed="rId4"/>
          <a:stretch/>
        </p:blipFill>
        <p:spPr>
          <a:xfrm>
            <a:off x="6804000" y="3284640"/>
            <a:ext cx="2160720" cy="2138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bujo"/>
          <p:cNvPicPr/>
          <p:nvPr/>
        </p:nvPicPr>
        <p:blipFill>
          <a:blip r:embed="rId5"/>
          <a:srcRect l="6956" t="12589" r="12715" b="44104"/>
          <a:stretch/>
        </p:blipFill>
        <p:spPr>
          <a:xfrm>
            <a:off x="250920" y="4797360"/>
            <a:ext cx="2367000" cy="828720"/>
          </a:xfrm>
          <a:prstGeom prst="rect">
            <a:avLst/>
          </a:prstGeom>
          <a:ln w="0">
            <a:noFill/>
          </a:ln>
        </p:spPr>
      </p:pic>
      <p:sp>
        <p:nvSpPr>
          <p:cNvPr id="133" name="8 Rectángulo"/>
          <p:cNvSpPr/>
          <p:nvPr/>
        </p:nvSpPr>
        <p:spPr>
          <a:xfrm>
            <a:off x="6067440" y="3357720"/>
            <a:ext cx="1800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Verdana"/>
              </a:rPr>
              <a:t>BASE LEGAL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882360"/>
            <a:ext cx="8136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32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33240" indent="-45396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99"/>
                </a:solidFill>
                <a:latin typeface="Calibri"/>
              </a:rPr>
              <a:t>Artículo 120 del Código Tributario y sus reform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4 Diagrama" descr=""/>
          <p:cNvPicPr/>
          <p:nvPr/>
        </p:nvPicPr>
        <p:blipFill>
          <a:blip r:embed="rId2"/>
          <a:stretch/>
        </p:blipFill>
        <p:spPr>
          <a:xfrm>
            <a:off x="244440" y="2382840"/>
            <a:ext cx="8728200" cy="279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900000" y="213372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Verdana"/>
              </a:rPr>
              <a:t>TIPO DE PERSONE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6 Imagen" descr="images (12).jpg"/>
          <p:cNvPicPr/>
          <p:nvPr/>
        </p:nvPicPr>
        <p:blipFill>
          <a:blip r:embed="rId2"/>
          <a:srcRect l="0" t="0" r="0" b="19576"/>
          <a:stretch/>
        </p:blipFill>
        <p:spPr>
          <a:xfrm>
            <a:off x="5796000" y="4108320"/>
            <a:ext cx="3348000" cy="1913040"/>
          </a:xfrm>
          <a:prstGeom prst="rect">
            <a:avLst/>
          </a:prstGeom>
          <a:ln w="0">
            <a:noFill/>
          </a:ln>
        </p:spPr>
      </p:pic>
      <p:pic>
        <p:nvPicPr>
          <p:cNvPr id="98" name="5 Diagrama" descr=""/>
          <p:cNvPicPr/>
          <p:nvPr/>
        </p:nvPicPr>
        <p:blipFill>
          <a:blip r:embed="rId3"/>
          <a:stretch/>
        </p:blipFill>
        <p:spPr>
          <a:xfrm>
            <a:off x="182520" y="1395360"/>
            <a:ext cx="6888240" cy="276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3399"/>
                </a:solidFill>
                <a:latin typeface="Verdana"/>
              </a:rPr>
              <a:t>REGISTROS</a:t>
            </a:r>
            <a:endParaRPr b="1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0" name="5 Diagrama" descr=""/>
          <p:cNvPicPr/>
          <p:nvPr/>
        </p:nvPicPr>
        <p:blipFill>
          <a:blip r:embed="rId2"/>
          <a:stretch/>
        </p:blipFill>
        <p:spPr>
          <a:xfrm>
            <a:off x="712800" y="1427040"/>
            <a:ext cx="535320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01" name="8 Elipse"/>
          <p:cNvGrpSpPr/>
          <p:nvPr/>
        </p:nvGrpSpPr>
        <p:grpSpPr>
          <a:xfrm>
            <a:off x="6278400" y="1249200"/>
            <a:ext cx="2335320" cy="2262240"/>
            <a:chOff x="6278400" y="1249200"/>
            <a:chExt cx="2335320" cy="2262240"/>
          </a:xfrm>
        </p:grpSpPr>
        <p:pic>
          <p:nvPicPr>
            <p:cNvPr id="102" name="8 Elipse" descr=""/>
            <p:cNvPicPr/>
            <p:nvPr/>
          </p:nvPicPr>
          <p:blipFill>
            <a:blip r:embed="rId3"/>
            <a:stretch/>
          </p:blipFill>
          <p:spPr>
            <a:xfrm>
              <a:off x="6278400" y="1249200"/>
              <a:ext cx="233532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637320" y="1595520"/>
              <a:ext cx="1630440" cy="15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84040"/>
            <a:ext cx="846288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REQUISITOS Inscripción/Actualización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5" name="4 Diagrama" descr=""/>
          <p:cNvPicPr/>
          <p:nvPr/>
        </p:nvPicPr>
        <p:blipFill>
          <a:blip r:embed="rId2"/>
          <a:stretch/>
        </p:blipFill>
        <p:spPr>
          <a:xfrm>
            <a:off x="590400" y="1511280"/>
            <a:ext cx="8102880" cy="412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560" y="188640"/>
            <a:ext cx="817416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Verdana"/>
              </a:rPr>
              <a:t>REQUISITOS Inscripción/Actualización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7" name="4 Diagrama" descr=""/>
          <p:cNvPicPr/>
          <p:nvPr/>
        </p:nvPicPr>
        <p:blipFill>
          <a:blip r:embed="rId2"/>
          <a:stretch/>
        </p:blipFill>
        <p:spPr>
          <a:xfrm>
            <a:off x="554040" y="1620720"/>
            <a:ext cx="7888320" cy="371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ENTIDADES NO LUCRATIVA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9" name="4 Diagrama" descr=""/>
          <p:cNvPicPr/>
          <p:nvPr/>
        </p:nvPicPr>
        <p:blipFill>
          <a:blip r:embed="rId2"/>
          <a:stretch/>
        </p:blipFill>
        <p:spPr>
          <a:xfrm>
            <a:off x="249120" y="1407960"/>
            <a:ext cx="7419960" cy="341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BASE LEGAL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79912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003399"/>
                </a:solidFill>
                <a:latin typeface="Calibri"/>
              </a:rPr>
              <a:t>Decreto 4-2012 vigencia 25 de febrero de 201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4 Diagrama" descr=""/>
          <p:cNvPicPr/>
          <p:nvPr/>
        </p:nvPicPr>
        <p:blipFill>
          <a:blip r:embed="rId2"/>
          <a:stretch/>
        </p:blipFill>
        <p:spPr>
          <a:xfrm>
            <a:off x="1133640" y="828720"/>
            <a:ext cx="7407000" cy="530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http://www.racingimport.com/images/imglocalizacion.jpg"/>
          <p:cNvPicPr/>
          <p:nvPr/>
        </p:nvPicPr>
        <p:blipFill>
          <a:blip r:embed="rId2"/>
          <a:stretch/>
        </p:blipFill>
        <p:spPr>
          <a:xfrm>
            <a:off x="6437160" y="828720"/>
            <a:ext cx="2511720" cy="2749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VERIFICACIÓN EXTREMO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5" name="4 Diagrama" descr=""/>
          <p:cNvPicPr/>
          <p:nvPr/>
        </p:nvPicPr>
        <p:blipFill>
          <a:blip r:embed="rId3"/>
          <a:stretch/>
        </p:blipFill>
        <p:spPr>
          <a:xfrm>
            <a:off x="195120" y="901800"/>
            <a:ext cx="6553440" cy="49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5:20:02Z</dcterms:created>
  <dc:creator>Licda. Fabiola Ortíz</dc:creator>
  <dc:description/>
  <dc:language>en-US</dc:language>
  <cp:lastModifiedBy> </cp:lastModifiedBy>
  <dcterms:modified xsi:type="dcterms:W3CDTF">2013-10-28T13:00:30Z</dcterms:modified>
  <cp:revision>286</cp:revision>
  <dc:subject/>
  <dc:title>Cuenta Corriente Integra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n2">
    <vt:lpwstr/>
  </property>
</Properties>
</file>