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10080625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4624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9C71826C-3F55-4D8B-94FF-4EE985E02A20}" type="slidenum">
              <a: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5FD3228D-572D-426E-AC74-5D53E979900A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ECAFF9BA-0A9F-43BF-883E-E8708A3D5A50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B67C4574-781C-4D07-8305-923DCF17F59B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9B1ADAE2-33A2-4A78-9E5D-FF643B44196E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EABCB61B-CA2D-4E9F-9191-387D3D29B527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B45A15AB-E170-418E-9166-9884F748D502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7418BB32-0FCC-41B3-88C6-F844EA79CA55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CA285EC7-328D-461B-B5A3-77374A73E80C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2E226FE6-EC71-4417-A7D7-81098FFE0A19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604B5D98-4584-40EF-89F2-68ECCE8CEE4C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DA124C6F-AC0D-4E50-9B0B-AC1CD03ECBD0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AC8C5204-9F9C-4A8D-B8B6-9F929905B765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9035B7E7-F5B7-4947-A00A-6B0B7E439061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0E24F274-E22B-4E06-BE8C-90BBD1BE8857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7CDD7691-1F1D-48ED-922C-AB514418A77E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7394AD26-978B-4B2A-A5BD-5B0B8F75F2F5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5F634726-03B3-4102-8981-DA14AC9ECE9A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53E74CB5-B198-424C-A5F2-5289131F5F26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54C80D28-3616-4121-A098-56CB1014BE53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D0EFDF73-41D7-4732-8979-1757F8D03CE7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F54D4E38-F191-4866-AD9A-9BAF70E2F56B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C26EB62E-73AE-4446-BC54-8AA445C7AE63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74DA-04CC-4C5B-B793-FDE50EE6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AF2-3B00-4ECD-BE60-F20C9371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633D-5AA1-4E87-BA01-407B29F0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555-FB8C-48AB-8543-700132EC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B29A-150B-4A70-8A40-69743FC2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D477-C860-4C8F-8394-BF40C8A7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E74A-6367-4045-8BEA-E8F24263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8132-A0A1-4C41-A233-978B9B52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80CD-BA00-4867-BD20-030D7423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4720" y="420840"/>
            <a:ext cx="90727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6B6C-9CB4-495F-9C45-4C978199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F3B7-D794-43C8-8101-D9F102FB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7492-547F-449E-B795-4923BEFC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2367-9BB9-4761-B531-E46EA6C3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2033-31AB-4983-A069-D7822591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B145-5471-41F1-9778-E4166E67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1035-D3BA-48A4-B320-F6122532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228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3984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72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228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3984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C724-813A-4652-821A-6739ACDB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EEC-9A01-4AF8-88B5-F9A300EA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5CD-D2A8-4D43-8BCA-E1454144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9385-A6D0-4694-9381-98695ED6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420840"/>
            <a:ext cx="90727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C6A4-A5DC-4664-8246-E2A99BFB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566-C369-4EA9-B869-EEF55FEF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E063-2B19-4CF8-81B8-A0EF4C0B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192C-7E68-4DA6-B699-7DC0E55E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4829D425-576F-40DF-AF9E-ABFA4495F062}" type="datetime">
              <a:rPr b="0" lang="es-ES" sz="15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631CAA13-2D30-4300-B826-06F297DE2CE7}" type="slidenum">
              <a:rPr b="0" lang="es-E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47880"/>
            <a:ext cx="8569440" cy="2016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BCA4222E-7696-4A29-A528-CCA268E47E6D}" type="datetime">
              <a:rPr b="0" lang="es-ES" sz="15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0ED38D8E-3900-40F7-A8C1-02FAB56DA69C}" type="slidenum">
              <a:rPr b="0" lang="es-E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474840"/>
            <a:ext cx="9072720" cy="14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ELEMENTOS BASICOS DE LOS MODELOS DE GESTION DEL SISTEMA TRIBUTARI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54080" y="3376440"/>
            <a:ext cx="6172200" cy="2070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90680" y="5816520"/>
            <a:ext cx="286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ENCUENTRO SUR-SU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GUATEMALA-ANTIGUA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</a:t>
            </a: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Agosto 2013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s-UY" sz="1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1" lang="es-UY" sz="1200" spc="-1" strike="noStrike">
                <a:solidFill>
                  <a:srgbClr val="ffffff"/>
                </a:solidFill>
                <a:latin typeface="Tahoma"/>
                <a:ea typeface="Arial"/>
              </a:rPr>
              <a:t>URUGUA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218-14BD-4326-8E7E-9F44392B0D0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30040" y="1108080"/>
            <a:ext cx="969336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5AC-7A21-4B11-B9AA-10DA6CEEC7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4720" y="719280"/>
            <a:ext cx="9072720" cy="132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6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0" lang="es-UY" sz="3600" spc="-1" strike="noStrike">
                <a:solidFill>
                  <a:srgbClr val="e5ffff"/>
                </a:solidFill>
                <a:latin typeface="Tahoma"/>
              </a:rPr>
              <a:t> MINISTERIO DE ECONOMIA Y FINANZAS: UNIDADES EJECUTORA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04720" y="2184480"/>
            <a:ext cx="9072360" cy="4534200"/>
            <a:chOff x="504720" y="2184480"/>
            <a:chExt cx="9072360" cy="4534200"/>
          </a:xfrm>
        </p:grpSpPr>
        <p:cxnSp>
          <p:nvCxnSpPr>
            <p:cNvPr id="119" name="_s133154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6677280" y="2361960"/>
              <a:ext cx="907560" cy="417852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133152"/>
            <p:cNvCxnSpPr>
              <a:stCxn id="123" idx="0"/>
              <a:endCxn id="121" idx="2"/>
            </p:cNvCxnSpPr>
            <p:nvPr/>
          </p:nvCxnSpPr>
          <p:spPr>
            <a:xfrm flipV="1" rot="16200000">
              <a:off x="6259320" y="2779200"/>
              <a:ext cx="907560" cy="334368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4" name="_s133150"/>
            <p:cNvCxnSpPr>
              <a:stCxn id="125" idx="0"/>
              <a:endCxn id="121" idx="2"/>
            </p:cNvCxnSpPr>
            <p:nvPr/>
          </p:nvCxnSpPr>
          <p:spPr>
            <a:xfrm flipV="1" rot="16200000">
              <a:off x="5841360" y="3197160"/>
              <a:ext cx="907560" cy="250776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133148"/>
            <p:cNvCxnSpPr>
              <a:stCxn id="127" idx="0"/>
              <a:endCxn id="121" idx="2"/>
            </p:cNvCxnSpPr>
            <p:nvPr/>
          </p:nvCxnSpPr>
          <p:spPr>
            <a:xfrm flipV="1" rot="16200000">
              <a:off x="5423760" y="3614760"/>
              <a:ext cx="907560" cy="167292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133146"/>
            <p:cNvCxnSpPr>
              <a:stCxn id="129" idx="0"/>
              <a:endCxn id="121" idx="2"/>
            </p:cNvCxnSpPr>
            <p:nvPr/>
          </p:nvCxnSpPr>
          <p:spPr>
            <a:xfrm flipV="1" rot="16200000">
              <a:off x="5006160" y="4032360"/>
              <a:ext cx="907560" cy="83736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33144"/>
            <p:cNvCxnSpPr>
              <a:stCxn id="131" idx="0"/>
              <a:endCxn id="121" idx="2"/>
            </p:cNvCxnSpPr>
            <p:nvPr/>
          </p:nvCxnSpPr>
          <p:spPr>
            <a:xfrm flipV="1">
              <a:off x="5041800" y="3997440"/>
              <a:ext cx="1440" cy="90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33142"/>
            <p:cNvCxnSpPr>
              <a:stCxn id="133" idx="0"/>
              <a:endCxn id="121" idx="2"/>
            </p:cNvCxnSpPr>
            <p:nvPr/>
          </p:nvCxnSpPr>
          <p:spPr>
            <a:xfrm flipH="1" flipV="1" rot="5400000">
              <a:off x="4170600" y="4033440"/>
              <a:ext cx="907560" cy="83556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4" name="_s133136"/>
            <p:cNvCxnSpPr>
              <a:stCxn id="135" idx="0"/>
              <a:endCxn id="121" idx="2"/>
            </p:cNvCxnSpPr>
            <p:nvPr/>
          </p:nvCxnSpPr>
          <p:spPr>
            <a:xfrm flipH="1" flipV="1" rot="5400000">
              <a:off x="3752640" y="3615840"/>
              <a:ext cx="907560" cy="167112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133134"/>
            <p:cNvCxnSpPr>
              <a:stCxn id="137" idx="0"/>
              <a:endCxn id="121" idx="2"/>
            </p:cNvCxnSpPr>
            <p:nvPr/>
          </p:nvCxnSpPr>
          <p:spPr>
            <a:xfrm flipH="1" flipV="1" rot="5400000">
              <a:off x="3335400" y="3198240"/>
              <a:ext cx="907560" cy="250632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133133"/>
            <p:cNvCxnSpPr>
              <a:stCxn id="139" idx="0"/>
              <a:endCxn id="121" idx="2"/>
            </p:cNvCxnSpPr>
            <p:nvPr/>
          </p:nvCxnSpPr>
          <p:spPr>
            <a:xfrm flipH="1" flipV="1" rot="5400000">
              <a:off x="2916360" y="2779560"/>
              <a:ext cx="907560" cy="334368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133132"/>
            <p:cNvCxnSpPr>
              <a:stCxn id="141" idx="0"/>
              <a:endCxn id="121" idx="2"/>
            </p:cNvCxnSpPr>
            <p:nvPr/>
          </p:nvCxnSpPr>
          <p:spPr>
            <a:xfrm flipH="1" flipV="1" rot="5400000">
              <a:off x="2498760" y="2361960"/>
              <a:ext cx="907560" cy="417852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1" name="_s133128"/>
            <p:cNvSpPr/>
            <p:nvPr/>
          </p:nvSpPr>
          <p:spPr>
            <a:xfrm>
              <a:off x="4682880" y="218448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Ministerio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Economí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y Finanzas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_s133129"/>
            <p:cNvSpPr/>
            <p:nvPr/>
          </p:nvSpPr>
          <p:spPr>
            <a:xfrm>
              <a:off x="50472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l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Secretarí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Técnica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_s133130"/>
            <p:cNvSpPr/>
            <p:nvPr/>
          </p:nvSpPr>
          <p:spPr>
            <a:xfrm>
              <a:off x="134028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Contadurí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l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Nación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7" name="_s133131"/>
            <p:cNvSpPr/>
            <p:nvPr/>
          </p:nvSpPr>
          <p:spPr>
            <a:xfrm>
              <a:off x="217620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Auditoría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Intern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la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Nación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" name="_s133135"/>
            <p:cNvSpPr/>
            <p:nvPr/>
          </p:nvSpPr>
          <p:spPr>
            <a:xfrm>
              <a:off x="301176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Tesorerí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la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Nación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" name="_s133141"/>
            <p:cNvSpPr/>
            <p:nvPr/>
          </p:nvSpPr>
          <p:spPr>
            <a:xfrm>
              <a:off x="384768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Impositiva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" name="_s133143"/>
            <p:cNvSpPr/>
            <p:nvPr/>
          </p:nvSpPr>
          <p:spPr>
            <a:xfrm>
              <a:off x="468360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Nacion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Aduanas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_s133145"/>
            <p:cNvSpPr/>
            <p:nvPr/>
          </p:nvSpPr>
          <p:spPr>
            <a:xfrm>
              <a:off x="551916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Loterías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y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Quinielas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7" name="_s133147"/>
            <p:cNvSpPr/>
            <p:nvPr/>
          </p:nvSpPr>
          <p:spPr>
            <a:xfrm>
              <a:off x="635508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Nacion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Catastro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_s133149"/>
            <p:cNvSpPr/>
            <p:nvPr/>
          </p:nvSpPr>
          <p:spPr>
            <a:xfrm>
              <a:off x="719100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Casinos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_s133151"/>
            <p:cNvSpPr/>
            <p:nvPr/>
          </p:nvSpPr>
          <p:spPr>
            <a:xfrm>
              <a:off x="8026560" y="4905000"/>
              <a:ext cx="715320" cy="1813680"/>
            </a:xfrm>
            <a:custGeom>
              <a:avLst/>
              <a:gdLst>
                <a:gd name="textAreaLeft" fmla="*/ 34920 w 715320"/>
                <a:gd name="textAreaRight" fmla="*/ 680400 w 71532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750">
                  <a:moveTo>
                    <a:pt x="3600" y="0"/>
                  </a:moveTo>
                  <a:arcTo wR="3600" hR="3600" stAng="16200000" swAng="-5400000"/>
                  <a:lnTo>
                    <a:pt x="0" y="51150"/>
                  </a:lnTo>
                  <a:arcTo wR="3600" hR="3600" stAng="10800000" swAng="-5400000"/>
                  <a:lnTo>
                    <a:pt x="18000" y="547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Comercio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_s133153"/>
            <p:cNvSpPr/>
            <p:nvPr/>
          </p:nvSpPr>
          <p:spPr>
            <a:xfrm>
              <a:off x="8861760" y="4905000"/>
              <a:ext cx="715320" cy="1813680"/>
            </a:xfrm>
            <a:custGeom>
              <a:avLst/>
              <a:gdLst>
                <a:gd name="textAreaLeft" fmla="*/ 34920 w 715320"/>
                <a:gd name="textAreaRight" fmla="*/ 680400 w 71532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750">
                  <a:moveTo>
                    <a:pt x="3600" y="0"/>
                  </a:moveTo>
                  <a:arcTo wR="3600" hR="3600" stAng="16200000" swAng="-5400000"/>
                  <a:lnTo>
                    <a:pt x="0" y="51150"/>
                  </a:lnTo>
                  <a:arcTo wR="3600" hR="3600" stAng="10800000" swAng="-5400000"/>
                  <a:lnTo>
                    <a:pt x="18000" y="547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Sec.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Administra-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tiv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Grupo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Mercado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Común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6F1-9270-44A2-BE7A-924B6387F1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1023480"/>
            <a:ext cx="9072720" cy="10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 DIRECCION GENERAL IMPOSITIVA- COMETIDOS ASIGNAD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720" y="2053800"/>
            <a:ext cx="907272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>
                <a:solidFill>
                  <a:srgbClr val="ffcc00"/>
                </a:solidFill>
                <a:latin typeface="Tahoma"/>
              </a:rPr>
              <a:t>COMETIDOS SUSTANTIVO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>
                <a:solidFill>
                  <a:srgbClr val="ffcc00"/>
                </a:solidFill>
                <a:latin typeface="Tahoma"/>
              </a:rPr>
              <a:t>COMETIDOS DE APOYO A LOS SUSTANTIVO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000" spc="-1" strike="noStrike">
                <a:solidFill>
                  <a:srgbClr val="ffffff"/>
                </a:solidFill>
                <a:latin typeface="Tahoma"/>
              </a:rPr>
              <a:t>( en ambos casos con prestación dentro y fuera del ámbito de la A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065-60BF-4392-94E8-A867F7CAB7B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1" lang="es-UY" sz="4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UY" sz="4500" spc="-1" strike="noStrike">
                <a:solidFill>
                  <a:srgbClr val="e5ffff"/>
                </a:solidFill>
                <a:latin typeface="Tahoma"/>
              </a:rPr>
              <a:t>ESTRUCTURA ORGANIZATIVA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04720" y="2184480"/>
            <a:ext cx="9072360" cy="4534560"/>
            <a:chOff x="504720" y="2184480"/>
            <a:chExt cx="9072360" cy="4534560"/>
          </a:xfrm>
        </p:grpSpPr>
        <p:cxnSp>
          <p:nvCxnSpPr>
            <p:cNvPr id="148" name="_s111648"/>
            <p:cNvCxnSpPr>
              <a:stCxn id="149" idx="1"/>
              <a:endCxn id="150" idx="2"/>
            </p:cNvCxnSpPr>
            <p:nvPr/>
          </p:nvCxnSpPr>
          <p:spPr>
            <a:xfrm rot="10800000">
              <a:off x="5041440" y="3008160"/>
              <a:ext cx="163440" cy="2061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111646"/>
            <p:cNvCxnSpPr>
              <a:stCxn id="152" idx="3"/>
              <a:endCxn id="150" idx="2"/>
            </p:cNvCxnSpPr>
            <p:nvPr/>
          </p:nvCxnSpPr>
          <p:spPr>
            <a:xfrm flipV="1">
              <a:off x="4877280" y="3008160"/>
              <a:ext cx="165600" cy="2061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111644"/>
            <p:cNvCxnSpPr>
              <a:stCxn id="154" idx="1"/>
              <a:endCxn id="150" idx="2"/>
            </p:cNvCxnSpPr>
            <p:nvPr/>
          </p:nvCxnSpPr>
          <p:spPr>
            <a:xfrm rot="10800000">
              <a:off x="5041440" y="3008160"/>
              <a:ext cx="163440" cy="825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5" name="_s111642"/>
            <p:cNvCxnSpPr>
              <a:stCxn id="156" idx="3"/>
              <a:endCxn id="150" idx="2"/>
            </p:cNvCxnSpPr>
            <p:nvPr/>
          </p:nvCxnSpPr>
          <p:spPr>
            <a:xfrm flipH="1" flipV="1">
              <a:off x="5041440" y="3008160"/>
              <a:ext cx="3105000" cy="716040"/>
            </a:xfrm>
            <a:prstGeom prst="bentConnector4">
              <a:avLst>
                <a:gd name="adj1" fmla="val -3675"/>
                <a:gd name="adj2" fmla="val 788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7" name="_s111640"/>
            <p:cNvCxnSpPr>
              <a:stCxn id="158" idx="0"/>
              <a:endCxn id="150" idx="2"/>
            </p:cNvCxnSpPr>
            <p:nvPr/>
          </p:nvCxnSpPr>
          <p:spPr>
            <a:xfrm flipV="1" rot="16200000">
              <a:off x="5619960" y="2431080"/>
              <a:ext cx="2886120" cy="404172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9" name="_s111638"/>
            <p:cNvCxnSpPr>
              <a:stCxn id="160" idx="0"/>
              <a:endCxn id="150" idx="2"/>
            </p:cNvCxnSpPr>
            <p:nvPr/>
          </p:nvCxnSpPr>
          <p:spPr>
            <a:xfrm flipV="1" rot="16200000">
              <a:off x="5042160" y="3008160"/>
              <a:ext cx="2886120" cy="288756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1" name="_s111636"/>
            <p:cNvCxnSpPr>
              <a:stCxn id="162" idx="0"/>
              <a:endCxn id="150" idx="2"/>
            </p:cNvCxnSpPr>
            <p:nvPr/>
          </p:nvCxnSpPr>
          <p:spPr>
            <a:xfrm flipV="1" rot="16200000">
              <a:off x="4464720" y="3585600"/>
              <a:ext cx="2886120" cy="173268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3" name="_s111634"/>
            <p:cNvCxnSpPr>
              <a:stCxn id="164" idx="0"/>
              <a:endCxn id="150" idx="2"/>
            </p:cNvCxnSpPr>
            <p:nvPr/>
          </p:nvCxnSpPr>
          <p:spPr>
            <a:xfrm flipV="1" rot="16200000">
              <a:off x="3887280" y="4163760"/>
              <a:ext cx="2886120" cy="57636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111632"/>
            <p:cNvCxnSpPr>
              <a:stCxn id="166" idx="0"/>
              <a:endCxn id="150" idx="2"/>
            </p:cNvCxnSpPr>
            <p:nvPr/>
          </p:nvCxnSpPr>
          <p:spPr>
            <a:xfrm flipH="1" flipV="1" rot="5400000">
              <a:off x="3309480" y="4162680"/>
              <a:ext cx="2886120" cy="57888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111630"/>
            <p:cNvCxnSpPr>
              <a:stCxn id="168" idx="0"/>
              <a:endCxn id="150" idx="2"/>
            </p:cNvCxnSpPr>
            <p:nvPr/>
          </p:nvCxnSpPr>
          <p:spPr>
            <a:xfrm flipH="1" flipV="1" rot="5400000">
              <a:off x="2732400" y="3585240"/>
              <a:ext cx="2886120" cy="173376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111629"/>
            <p:cNvCxnSpPr>
              <a:stCxn id="170" idx="0"/>
              <a:endCxn id="150" idx="2"/>
            </p:cNvCxnSpPr>
            <p:nvPr/>
          </p:nvCxnSpPr>
          <p:spPr>
            <a:xfrm flipH="1" flipV="1" rot="5400000">
              <a:off x="2155320" y="3007800"/>
              <a:ext cx="2886120" cy="288864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111628"/>
            <p:cNvCxnSpPr>
              <a:stCxn id="172" idx="0"/>
              <a:endCxn id="150" idx="2"/>
            </p:cNvCxnSpPr>
            <p:nvPr/>
          </p:nvCxnSpPr>
          <p:spPr>
            <a:xfrm flipH="1" flipV="1" rot="5400000">
              <a:off x="1578600" y="2431080"/>
              <a:ext cx="2886120" cy="404172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0" name="_s111624"/>
            <p:cNvSpPr/>
            <p:nvPr/>
          </p:nvSpPr>
          <p:spPr>
            <a:xfrm>
              <a:off x="4546080" y="218448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l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2" name="_s111625"/>
            <p:cNvSpPr/>
            <p:nvPr/>
          </p:nvSpPr>
          <p:spPr>
            <a:xfrm>
              <a:off x="50472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Atención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y Asistencia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_s111626"/>
            <p:cNvSpPr/>
            <p:nvPr/>
          </p:nvSpPr>
          <p:spPr>
            <a:xfrm>
              <a:off x="165924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Recaudación y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Controles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Extensivos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8" name="_s111627"/>
            <p:cNvSpPr/>
            <p:nvPr/>
          </p:nvSpPr>
          <p:spPr>
            <a:xfrm>
              <a:off x="281412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Fiscalización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6" name="_s111631"/>
            <p:cNvSpPr/>
            <p:nvPr/>
          </p:nvSpPr>
          <p:spPr>
            <a:xfrm>
              <a:off x="396864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Administración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_s111633"/>
            <p:cNvSpPr/>
            <p:nvPr/>
          </p:nvSpPr>
          <p:spPr>
            <a:xfrm>
              <a:off x="512352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I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informática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2" name="_s111635"/>
            <p:cNvSpPr/>
            <p:nvPr/>
          </p:nvSpPr>
          <p:spPr>
            <a:xfrm>
              <a:off x="627804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Técnico Fiscal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0" name="_s111637"/>
            <p:cNvSpPr/>
            <p:nvPr/>
          </p:nvSpPr>
          <p:spPr>
            <a:xfrm>
              <a:off x="743292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Interior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8" name="_s111639"/>
            <p:cNvSpPr/>
            <p:nvPr/>
          </p:nvSpPr>
          <p:spPr>
            <a:xfrm>
              <a:off x="858744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Grandes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Contribuyentes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6" name="_s111641"/>
            <p:cNvSpPr/>
            <p:nvPr/>
          </p:nvSpPr>
          <p:spPr>
            <a:xfrm>
              <a:off x="7155720" y="3312000"/>
              <a:ext cx="99072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Auditoria Interna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4" name="_s111643"/>
            <p:cNvSpPr/>
            <p:nvPr/>
          </p:nvSpPr>
          <p:spPr>
            <a:xfrm>
              <a:off x="5204880" y="3421080"/>
              <a:ext cx="99180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Asesoría Tributaria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2" name="_s111645"/>
            <p:cNvSpPr/>
            <p:nvPr/>
          </p:nvSpPr>
          <p:spPr>
            <a:xfrm>
              <a:off x="3886200" y="46580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Asesoría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en Planificación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Organización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y Control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" name="_s111647"/>
            <p:cNvSpPr/>
            <p:nvPr/>
          </p:nvSpPr>
          <p:spPr>
            <a:xfrm>
              <a:off x="5205960" y="46580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Asesoría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Económica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FE0-64BD-4328-8BD3-1E4EE69570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4720" y="955440"/>
            <a:ext cx="907272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PRINCIPALES FUNCIONES ASIGNADAS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66"/>
                </a:solidFill>
                <a:uFillTx/>
                <a:latin typeface="Tahoma"/>
              </a:rPr>
              <a:t>DIRECCION GENERA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Aprobar el plan estratég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Asesorar al jerarca sobre las normas tributarias vig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Dictar resoluciones que determinen impues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Delegar las funciones que le autorice la le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30240"/>
            <a:ext cx="2751120" cy="98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A7D2-8335-4C98-83C6-A0C4636C847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4720" y="969480"/>
            <a:ext cx="9072720" cy="1089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PRINCIPALES FUNCIONES ASIGNADAS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>
                <a:solidFill>
                  <a:srgbClr val="ffcc66"/>
                </a:solidFill>
                <a:latin typeface="Tahoma"/>
              </a:rPr>
              <a:t>   </a:t>
            </a:r>
            <a:r>
              <a:rPr b="1" lang="es-UY" sz="2400" spc="-1" strike="noStrike" u="sng">
                <a:solidFill>
                  <a:srgbClr val="ffcc66"/>
                </a:solidFill>
                <a:uFillTx/>
                <a:latin typeface="Tahoma"/>
              </a:rPr>
              <a:t>DIVISION ATENCION Y ASIST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Atender y asistir a los contribuyentes y responsables de los tributos administrados, inscribirlos en el Registro Único Tributario, recibir sus declaraciones y expedir los certificados y constancias que deriven de su cumpl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>
                <a:solidFill>
                  <a:srgbClr val="ffcc66"/>
                </a:solidFill>
                <a:latin typeface="Tahoma"/>
              </a:rPr>
              <a:t>   </a:t>
            </a:r>
            <a:r>
              <a:rPr b="1" lang="es-UY" sz="2400" spc="-1" strike="noStrike" u="sng">
                <a:solidFill>
                  <a:srgbClr val="ffcc66"/>
                </a:solidFill>
                <a:uFillTx/>
                <a:latin typeface="Tahoma"/>
              </a:rPr>
              <a:t>DIVISION RECAUDACION Y CONTROLES EXTENS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Gestionar la recaudación de los tributos administrados, sanciones e intereses que correspondan tanto en vía voluntaria como coactiv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Velar por el efectivo recaudo y cobro de los tributos y demás gravámenes de competencia de la DGI ejerciendo el control sobre los servicios de cobranza contratados con terc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Suscribir acuerdos y facilidades de pago. Velar por su seguimiento y custodi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7CB-3BA3-41B0-A544-3C4009EF65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720" y="977400"/>
            <a:ext cx="9072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1" lang="es-UY" sz="4500" spc="-1" strike="noStrike">
                <a:solidFill>
                  <a:srgbClr val="e5ffff"/>
                </a:solidFill>
                <a:latin typeface="Tahoma"/>
              </a:rPr>
              <a:t> PRINCIPALES FUNCIONES ASIGNADAS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6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 u="sng">
                <a:solidFill>
                  <a:srgbClr val="ffcc66"/>
                </a:solidFill>
                <a:uFillTx/>
                <a:latin typeface="Tahoma"/>
              </a:rPr>
              <a:t>DIVISION FISCALIZAC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17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Dirigir, planear, coordinar, supervisar, controlar, ejecutar y evaluar las actividades relacionadas con la gestión técnica de los procesos de fiscalización  de los tributos administr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 u="sng">
                <a:solidFill>
                  <a:srgbClr val="ffcc66"/>
                </a:solidFill>
                <a:uFillTx/>
                <a:latin typeface="Tahoma"/>
              </a:rPr>
              <a:t>DIVISION ADMINISTRAC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Dirigir, planear, coordinar supervisar desarrollar y evaluar las actividades de la administración y capacitación de personal , de los servicios administrativos , de los recursos financieros y de los bienes patrimoniales de la entidad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5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7A69-E8A3-4922-BD08-940D426DB55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4720" y="999720"/>
            <a:ext cx="910584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1" lang="es-UY" sz="4500" spc="-1" strike="noStrike">
                <a:solidFill>
                  <a:srgbClr val="e5ffff"/>
                </a:solidFill>
                <a:latin typeface="Tahoma"/>
              </a:rPr>
              <a:t> PRINCIPALES FUNCIONES ASIGNADAS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5320" indent="-355320">
              <a:spcBef>
                <a:spcPts val="975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900" spc="-1" strike="noStrike" u="sng">
                <a:solidFill>
                  <a:srgbClr val="ffcc66"/>
                </a:solidFill>
                <a:uFillTx/>
                <a:latin typeface="Tahoma"/>
              </a:rPr>
              <a:t>DIVISION INFORMATICA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769680" indent="0"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D</a:t>
            </a:r>
            <a:r>
              <a:rPr b="0" lang="es-UY" sz="2800" spc="-1" strike="noStrike">
                <a:solidFill>
                  <a:srgbClr val="e5ffff"/>
                </a:solidFill>
                <a:latin typeface="Tahoma"/>
              </a:rPr>
              <a:t>irigir, planear coordinar supervisar, ejecutar y evaluar las actividades relacionadas con la gestión, seguridad y mantenimiento de los sistemas informáticos y de la infraestructura tecnol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320" indent="-355320">
              <a:spcBef>
                <a:spcPts val="975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900" spc="-1" strike="noStrike" u="sng">
                <a:solidFill>
                  <a:srgbClr val="ffcc66"/>
                </a:solidFill>
                <a:uFillTx/>
                <a:latin typeface="Tahoma"/>
              </a:rPr>
              <a:t>DIVISION TECNICO FISCA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769680" indent="0"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UY" sz="2800" spc="-1" strike="noStrike">
                <a:solidFill>
                  <a:srgbClr val="e5ffff"/>
                </a:solidFill>
                <a:latin typeface="Tahoma"/>
              </a:rPr>
              <a:t>Dirigir planear controlar ejecutar y evaluar las actividades relacionadas con la gestión jurídica en especial tributaria del organis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31D0-5778-498F-8EC4-2199FC5654F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4360" y="1103040"/>
            <a:ext cx="9083880" cy="95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ffcc66"/>
                </a:solidFill>
                <a:latin typeface="Tahoma"/>
              </a:rPr>
              <a:t>(</a:t>
            </a:r>
            <a:r>
              <a:rPr b="1" lang="es-UY" sz="4000" spc="-1" strike="noStrike">
                <a:solidFill>
                  <a:srgbClr val="ffcc66"/>
                </a:solidFill>
                <a:latin typeface="Tahoma"/>
              </a:rPr>
              <a:t>II)</a:t>
            </a:r>
            <a:r>
              <a:rPr b="1" lang="es-UY" sz="4000" spc="-1" strike="noStrike">
                <a:solidFill>
                  <a:srgbClr val="e5ffff"/>
                </a:solidFill>
                <a:latin typeface="Tahoma"/>
              </a:rPr>
              <a:t> PRINCIPALES FUNCIONES ASIGNADA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1360" indent="-35136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 u="sng">
                <a:solidFill>
                  <a:srgbClr val="ffcc66"/>
                </a:solidFill>
                <a:uFillTx/>
                <a:latin typeface="Tahoma"/>
              </a:rPr>
              <a:t>DIVISION INTERIO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6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Organizar dirigir coordinar y ejecutar las funciones propias de las dependencias conforme a los programas, manuales, normas e instrucciones emanadas de las distintas áreas funcion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 u="sng">
                <a:solidFill>
                  <a:srgbClr val="ffcc66"/>
                </a:solidFill>
                <a:uFillTx/>
                <a:latin typeface="Tahoma"/>
              </a:rPr>
              <a:t>DIVISION GRANDES CONTRIBUYENT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61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D</a:t>
            </a: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irigir planear coordinar controlar ejecutar y evaluar las actividades relacionadas con la recaudación de tributos y sanciones, devolución de impuestos, gestión de los mismos y la investigación y fiscalización de los tributos que recaen sobre los grandes contribuyentes 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ADE7-A1F0-42CE-A337-A322C0662E5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4720" y="474840"/>
            <a:ext cx="9072720" cy="14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1" lang="es-UY" sz="4900" spc="-1" strike="noStrike">
                <a:solidFill>
                  <a:srgbClr val="e5ffff"/>
                </a:solidFill>
                <a:latin typeface="Tahoma"/>
              </a:rPr>
              <a:t> MODELO ORGANIZATIV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La normativa define a la DGI  como una organización de</a:t>
            </a:r>
            <a:r>
              <a:rPr b="0" lang="es-UY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UY" sz="3200" spc="-1" strike="noStrike" u="sng">
                <a:solidFill>
                  <a:srgbClr val="ffcc66"/>
                </a:solidFill>
                <a:uFillTx/>
                <a:latin typeface="Tahoma"/>
              </a:rPr>
              <a:t>tipo func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En la determinación de su estructura aparecen además criterios de segmentación por</a:t>
            </a:r>
            <a:r>
              <a:rPr b="0" lang="es-UY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UY" sz="3200" spc="-1" strike="noStrike" u="sng">
                <a:solidFill>
                  <a:srgbClr val="ffcc66"/>
                </a:solidFill>
                <a:uFillTx/>
                <a:latin typeface="Tahoma"/>
              </a:rPr>
              <a:t>grupo de contribuyentes y territo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D60-4CC3-4A28-8553-355F58A1E54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720" y="474840"/>
            <a:ext cx="9072720" cy="14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ALCANCE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 u="sng">
                <a:solidFill>
                  <a:srgbClr val="ffcc66"/>
                </a:solidFill>
                <a:uFillTx/>
                <a:latin typeface="Tahoma"/>
              </a:rPr>
              <a:t>PARTE I</a:t>
            </a:r>
            <a:r>
              <a:rPr b="0" lang="es-UY" sz="2400" spc="-1" strike="noStrike">
                <a:solidFill>
                  <a:srgbClr val="ffcc66"/>
                </a:solidFill>
                <a:latin typeface="Tahoma"/>
              </a:rPr>
              <a:t>:</a:t>
            </a:r>
            <a:r>
              <a:rPr b="0" lang="es-UY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SISTEMA TRIBUTARIO URUGUAY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Aft>
                <a:spcPts val="1426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 u="sng">
                <a:solidFill>
                  <a:srgbClr val="ffcc66"/>
                </a:solidFill>
                <a:uFillTx/>
                <a:latin typeface="Tahoma"/>
              </a:rPr>
              <a:t>PARTE II:</a:t>
            </a:r>
            <a:r>
              <a:rPr b="1" lang="es-UY" sz="2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ORGANIZACION Y FUNCIONES DE LA ADMINSITRACION TRIBUTARIA CENT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 u="sng">
                <a:solidFill>
                  <a:srgbClr val="ffcc66"/>
                </a:solidFill>
                <a:uFillTx/>
                <a:latin typeface="Tahoma"/>
              </a:rPr>
              <a:t>PARTE III:</a:t>
            </a:r>
            <a:r>
              <a:rPr b="0" lang="es-UY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ALGUNAS CARACTERISTICAS EN LA GESTION DE LA ADMINISTRACIÓN TRIBUTA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E7F-6E17-4E6A-B1B7-7529887DB15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885960"/>
            <a:ext cx="907272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MODELO ORGANIZATIV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43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800" indent="-343800">
              <a:lnSpc>
                <a:spcPct val="90000"/>
              </a:lnSpc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66"/>
                </a:solidFill>
                <a:uFillTx/>
                <a:latin typeface="Tahoma"/>
              </a:rPr>
              <a:t>SEGMENTACION FUNCIONAL:</a:t>
            </a:r>
            <a:r>
              <a:rPr b="1" lang="es-UY" sz="3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SEIS DIVISIONES)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5200" indent="-287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Atención y Asist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5200" indent="-287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Recaudación y Controles Extens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5200" indent="-287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Fiscaliz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5200" indent="-287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Administ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5200" indent="-287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Informát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5200" indent="-287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Técnic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5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8CB-9618-4728-B237-7F28B3F9C80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2760" y="946080"/>
            <a:ext cx="9072360" cy="105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1" lang="es-UY" sz="4500" spc="-1" strike="noStrike">
                <a:solidFill>
                  <a:srgbClr val="e5ffff"/>
                </a:solidFill>
                <a:latin typeface="Tahoma"/>
              </a:rPr>
              <a:t> MODELO ORGANIZATIV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66"/>
                </a:solidFill>
                <a:uFillTx/>
                <a:latin typeface="Tahoma"/>
              </a:rPr>
              <a:t>SEGMENTACION POR GRUPO DE CONTRIBUYENTES</a:t>
            </a:r>
            <a:r>
              <a:rPr b="1" lang="es-UY" sz="3500" spc="-1" strike="noStrike" u="sng">
                <a:solidFill>
                  <a:srgbClr val="000000"/>
                </a:solidFill>
                <a:uFillTx/>
                <a:latin typeface="Tahoma"/>
              </a:rPr>
              <a:t>: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División Grandes Contribuyente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690E-DB98-4832-A01C-2600328524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720" y="957240"/>
            <a:ext cx="9072720" cy="97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1" lang="es-UY" sz="4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UY" sz="4500" spc="-1" strike="noStrike">
                <a:solidFill>
                  <a:srgbClr val="e5ffff"/>
                </a:solidFill>
                <a:latin typeface="Tahoma"/>
              </a:rPr>
              <a:t>MODELO ORGANIZATIV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596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1800" spc="-1" strike="noStrike" u="sng">
                <a:solidFill>
                  <a:srgbClr val="ffcc00"/>
                </a:solidFill>
                <a:uFillTx/>
                <a:latin typeface="Tahoma"/>
              </a:rPr>
              <a:t>SEGMENTACION TERRITOR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DIVISION INTERI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819600" y="3317760"/>
            <a:ext cx="2164680" cy="3083400"/>
            <a:chOff x="3819600" y="3317760"/>
            <a:chExt cx="2164680" cy="3083400"/>
          </a:xfrm>
        </p:grpSpPr>
        <p:cxnSp>
          <p:nvCxnSpPr>
            <p:cNvPr id="201" name="_s114737"/>
            <p:cNvCxnSpPr>
              <a:stCxn id="202" idx="1"/>
              <a:endCxn id="203" idx="2"/>
            </p:cNvCxnSpPr>
            <p:nvPr/>
          </p:nvCxnSpPr>
          <p:spPr>
            <a:xfrm flipH="1" rot="10800000">
              <a:off x="3933720" y="5386320"/>
              <a:ext cx="1029960" cy="742320"/>
            </a:xfrm>
            <a:prstGeom prst="bentConnector4">
              <a:avLst>
                <a:gd name="adj1" fmla="val -11083"/>
                <a:gd name="adj2" fmla="val 6836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4" name="_s114733"/>
            <p:cNvCxnSpPr>
              <a:stCxn id="203" idx="0"/>
              <a:endCxn id="205" idx="2"/>
            </p:cNvCxnSpPr>
            <p:nvPr/>
          </p:nvCxnSpPr>
          <p:spPr>
            <a:xfrm flipV="1">
              <a:off x="4964040" y="4569480"/>
              <a:ext cx="2520" cy="24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6" name="_s114701"/>
            <p:cNvCxnSpPr/>
            <p:nvPr/>
          </p:nvCxnSpPr>
          <p:spPr>
            <a:xfrm flipH="1" flipV="1" rot="5400000">
              <a:off x="4644720" y="4054320"/>
              <a:ext cx="526680" cy="28800"/>
            </a:xfrm>
            <a:prstGeom prst="bentConnector3">
              <a:avLst>
                <a:gd name="adj1" fmla="val 201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07" name="_s114695"/>
            <p:cNvSpPr/>
            <p:nvPr/>
          </p:nvSpPr>
          <p:spPr>
            <a:xfrm>
              <a:off x="3944520" y="3317760"/>
              <a:ext cx="2039400" cy="532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8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</a:t>
              </a:r>
              <a:r>
                <a:rPr b="0" lang="es-UY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s-UY" sz="1800" spc="-1" strike="noStrike">
                  <a:solidFill>
                    <a:srgbClr val="0033cc"/>
                  </a:solidFill>
                  <a:latin typeface="Arial"/>
                  <a:ea typeface="Arial"/>
                </a:rPr>
                <a:t>Interi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_s114698"/>
            <p:cNvSpPr/>
            <p:nvPr/>
          </p:nvSpPr>
          <p:spPr>
            <a:xfrm>
              <a:off x="3942000" y="4062960"/>
              <a:ext cx="2042280" cy="506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800" spc="-1" strike="noStrike">
                  <a:solidFill>
                    <a:srgbClr val="0033cc"/>
                  </a:solidFill>
                  <a:latin typeface="Arial"/>
                  <a:ea typeface="Arial"/>
                </a:rPr>
                <a:t>Administraciones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800" spc="-1" strike="noStrike">
                  <a:solidFill>
                    <a:srgbClr val="0033cc"/>
                  </a:solidFill>
                  <a:latin typeface="Arial"/>
                  <a:ea typeface="Arial"/>
                </a:rPr>
                <a:t>Regionales</a:t>
              </a:r>
              <a:r>
                <a:rPr b="0" lang="es-UY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_s114732"/>
            <p:cNvSpPr/>
            <p:nvPr/>
          </p:nvSpPr>
          <p:spPr>
            <a:xfrm>
              <a:off x="3942000" y="4810680"/>
              <a:ext cx="204228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700" spc="-1" strike="noStrike">
                  <a:solidFill>
                    <a:srgbClr val="0033cc"/>
                  </a:solidFill>
                  <a:latin typeface="Tahoma"/>
                  <a:ea typeface="Arial"/>
                </a:rPr>
                <a:t>Unidades Operativas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700" spc="-1" strike="noStrike">
                  <a:solidFill>
                    <a:srgbClr val="0033cc"/>
                  </a:solidFill>
                  <a:latin typeface="Tahoma"/>
                  <a:ea typeface="Arial"/>
                </a:rPr>
                <a:t>(21)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_s114736"/>
            <p:cNvSpPr/>
            <p:nvPr/>
          </p:nvSpPr>
          <p:spPr>
            <a:xfrm>
              <a:off x="3934800" y="5859720"/>
              <a:ext cx="2039400" cy="541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700" spc="-1" strike="noStrike">
                  <a:solidFill>
                    <a:srgbClr val="0033cc"/>
                  </a:solidFill>
                  <a:latin typeface="Tahoma"/>
                  <a:ea typeface="Arial"/>
                </a:rPr>
                <a:t>Oficinas 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700" spc="-1" strike="noStrike">
                  <a:solidFill>
                    <a:srgbClr val="0033cc"/>
                  </a:solidFill>
                  <a:latin typeface="Tahoma"/>
                  <a:ea typeface="Arial"/>
                </a:rPr>
                <a:t>(24)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260C-742E-41AA-9CBA-FF7855BD07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4720" y="8982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66"/>
                </a:solidFill>
                <a:latin typeface="Tahoma"/>
              </a:rPr>
              <a:t>(III)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 ALGUNAS CARACTERISTICAS DE LA GESTION DEL SISTEMA TRIBUTARIO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70440" indent="-3704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PLANIFICACION ESTRATEGICA COMO INSTRUMENTO DE CONTROL DE GESTION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0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0440" indent="-3704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MECANISMOS DE COORDINACION INTERINSTITUCIONAL DE LA ADMINISTRACION TRIBUTARIA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0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0440" indent="-3704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GESTION DEL AREA INFORMATICA TRIBUTARIA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8B64-CF3A-4379-9EF5-BB728E64EB2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4720" y="966960"/>
            <a:ext cx="9072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 PLANIFICACION ESTRATEGICA COMO INSTRUMENTO DE CONTROL DE GES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300" spc="-1" strike="noStrike" u="sng">
                <a:solidFill>
                  <a:srgbClr val="ffcc00"/>
                </a:solidFill>
                <a:uFillTx/>
                <a:latin typeface="Tahoma"/>
              </a:rPr>
              <a:t>ANTECEDENTE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300" spc="-1" strike="noStrike" u="sng">
                <a:solidFill>
                  <a:srgbClr val="ffcc00"/>
                </a:solidFill>
                <a:uFillTx/>
                <a:latin typeface="Tahoma"/>
              </a:rPr>
              <a:t>REFORMA TRIBUTARIA</a:t>
            </a:r>
            <a:r>
              <a:rPr b="0" i="1" lang="es-UY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i="1" lang="es-UY" sz="2300" spc="-1" strike="noStrike">
                <a:solidFill>
                  <a:srgbClr val="e5ffff"/>
                </a:solidFill>
                <a:latin typeface="Tahoma"/>
              </a:rPr>
              <a:t>APROBADA EN EL AÑO</a:t>
            </a:r>
            <a:r>
              <a:rPr b="1" i="1" lang="es-UY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UY" sz="2400" spc="-1" strike="noStrike">
                <a:solidFill>
                  <a:srgbClr val="e5ffff"/>
                </a:solidFill>
                <a:latin typeface="Tahoma"/>
              </a:rPr>
              <a:t>2006 - LEY</a:t>
            </a:r>
            <a:r>
              <a:rPr b="1" i="1" lang="es-UY" sz="2400" spc="-1" strike="noStrike">
                <a:solidFill>
                  <a:srgbClr val="ffffff"/>
                </a:solidFill>
                <a:latin typeface="Tahoma"/>
              </a:rPr>
              <a:t> 18083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 u="sng">
                <a:solidFill>
                  <a:srgbClr val="ffcc00"/>
                </a:solidFill>
                <a:uFillTx/>
                <a:latin typeface="Tahoma"/>
              </a:rPr>
              <a:t>OBJETIVOS PERSEGUI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Promover una distribución mas equitativa de la carga tributaria por medio de una simplificación del sistema tributario, eliminando impuestos y exoneraciones especiales e incorporando el impuesto a la renta de las personas físi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Mejorar la eficiencia del sistema tribu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Generar un adecuado estimulo a la inversión produc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78F-2FFC-47CC-894B-3E49CFD0961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4720" y="1015920"/>
            <a:ext cx="9072720" cy="1098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PLANIFICACION ESTRATEGICA COMO INSTRUMENTO DE CONTROL DE GES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 u="sng">
                <a:solidFill>
                  <a:srgbClr val="ffcc00"/>
                </a:solidFill>
                <a:uFillTx/>
                <a:latin typeface="Tahoma"/>
              </a:rPr>
              <a:t>REFORMA TRIBUT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 u="sng">
                <a:solidFill>
                  <a:srgbClr val="e5ffff"/>
                </a:solidFill>
                <a:uFillTx/>
                <a:latin typeface="Tahoma"/>
              </a:rPr>
              <a:t>(</a:t>
            </a:r>
            <a:r>
              <a:rPr b="0" i="1" lang="es-UY" sz="3200" spc="-1" strike="noStrike" u="sng">
                <a:solidFill>
                  <a:srgbClr val="e5ffff"/>
                </a:solidFill>
                <a:uFillTx/>
                <a:latin typeface="Tahoma"/>
              </a:rPr>
              <a:t>PILARES QUE LA SUSTENT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NORMATIVA (LEY 1808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REESTRUCTURA DE LA DG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PROMOCION DE INVERS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5EC-C4DE-4A2D-8080-FE3E0C80D6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4720" y="1082520"/>
            <a:ext cx="910584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1" lang="es-UY" sz="3200" spc="-1" strike="noStrike">
                <a:solidFill>
                  <a:srgbClr val="ffcc00"/>
                </a:solidFill>
                <a:latin typeface="Tahoma"/>
              </a:rPr>
              <a:t>III)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  PLANIFICACION ESTRATEGICA COMO INSTRUMENTO DE CONTROL DE GES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600" spc="-1" strike="noStrike" u="sng">
                <a:solidFill>
                  <a:srgbClr val="ffcc00"/>
                </a:solidFill>
                <a:uFillTx/>
                <a:latin typeface="Tahoma"/>
              </a:rPr>
              <a:t>REESTRUCTURA DE LA DG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600" spc="-1" strike="noStrike">
                <a:solidFill>
                  <a:srgbClr val="e5ffff"/>
                </a:solidFill>
                <a:latin typeface="Tahoma"/>
              </a:rPr>
              <a:t>Redefine misión y objetivos estratégico y se consagran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000" spc="-1" strike="noStrike">
                <a:solidFill>
                  <a:srgbClr val="e5ffff"/>
                </a:solidFill>
                <a:latin typeface="Tahoma"/>
              </a:rPr>
              <a:t>PLAN ESTRATEGICO DE GESTION (quinquen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000" spc="-1" strike="noStrike">
                <a:solidFill>
                  <a:srgbClr val="e5ffff"/>
                </a:solidFill>
                <a:latin typeface="Tahoma"/>
              </a:rPr>
              <a:t>PLANES OPERATIVOS ANU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000" spc="-1" strike="noStrike">
                <a:solidFill>
                  <a:srgbClr val="e5ffff"/>
                </a:solidFill>
                <a:latin typeface="Tahoma"/>
              </a:rPr>
              <a:t>COMPROMISOS DE GESTION DGI-ME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e5ffff"/>
                </a:solidFill>
                <a:latin typeface="Tahoma"/>
              </a:rPr>
              <a:t>REGIMEN DE DESEMPEÑO DE LOS FUNCIONARI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000" spc="-1" strike="noStrike">
                <a:solidFill>
                  <a:srgbClr val="e5ffff"/>
                </a:solidFill>
                <a:latin typeface="Tahoma"/>
              </a:rPr>
              <a:t>DEDICACION EXCLUSIVA y PRIMA POR RENDIMIENTO GRUP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03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934-0891-4B91-909B-866129E1586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4720" y="1062000"/>
            <a:ext cx="9072720" cy="115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III)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 PLANIFICACION ESTRATEGICA COMO INSTRUMENTO DE CONTROL DE GES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4720" y="2573280"/>
            <a:ext cx="9072720" cy="4146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 u="sng">
                <a:solidFill>
                  <a:srgbClr val="ffcc66"/>
                </a:solidFill>
                <a:uFillTx/>
                <a:latin typeface="Tahoma"/>
              </a:rPr>
              <a:t>PLAN ESTRATEGICO DE GESTION (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QUINQUENAL)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04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3500" spc="-1" strike="noStrike">
                <a:solidFill>
                  <a:srgbClr val="ffcc66"/>
                </a:solidFill>
                <a:latin typeface="Tahoma"/>
              </a:rPr>
              <a:t>ESTABLECE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04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02440" indent="-309240">
              <a:lnSpc>
                <a:spcPct val="90000"/>
              </a:lnSpc>
              <a:spcBef>
                <a:spcPts val="774"/>
              </a:spcBef>
              <a:buClr>
                <a:srgbClr val="e5ff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Objetivos estratégico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02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02440" indent="-309240">
              <a:lnSpc>
                <a:spcPct val="90000"/>
              </a:lnSpc>
              <a:spcBef>
                <a:spcPts val="774"/>
              </a:spcBef>
              <a:buClr>
                <a:srgbClr val="e5ff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Objetivos específicos e iniciativas de gestión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02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4E2-AD91-4AB0-9E4B-CAC610942A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4720" y="1060560"/>
            <a:ext cx="9072720" cy="107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PLANIFICACION ESTRATEGICA COMO INSTRUMENTO DE CONTROL DE GES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 u="sng">
                <a:solidFill>
                  <a:srgbClr val="ffcc66"/>
                </a:solidFill>
                <a:uFillTx/>
                <a:latin typeface="Tahoma"/>
              </a:rPr>
              <a:t>PLANES OPERATIVOS ANUALES </a:t>
            </a:r>
            <a:r>
              <a:rPr b="0" i="1" lang="es-UY" sz="3500" spc="-1" strike="noStrike">
                <a:solidFill>
                  <a:srgbClr val="ffcc66"/>
                </a:solidFill>
                <a:latin typeface="Tahoma"/>
              </a:rPr>
              <a:t>(elaborados en el marco del PEG)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CONTIENE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774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Actividades asociadas a proyectos de alta prioridad para la Dirección General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774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Actividades ligadas a procesos específicos de mejora operativa continua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11F-949C-4899-A13F-B8D50AAC8C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4720" y="1000080"/>
            <a:ext cx="90727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66"/>
                </a:solidFill>
                <a:latin typeface="Tahoma"/>
              </a:rPr>
              <a:t>(</a:t>
            </a:r>
            <a:r>
              <a:rPr b="0" lang="es-UY" sz="3200" spc="-1" strike="noStrike">
                <a:solidFill>
                  <a:srgbClr val="ffcc66"/>
                </a:solidFill>
                <a:latin typeface="Tahoma"/>
              </a:rPr>
              <a:t>III)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 PLANIFICACION ESTRATEGICA COMO INSTRUMENTO DE CONTROL DE GES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</a:rPr>
              <a:t>COMPROMISO DE GESTION (anu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ELABORA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ARTIR DEL 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LAN OPERATIVO ANU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EL SE ESTABLEC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TIVO DE RECAUDAC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TIVOS ESPECIFICOS CON METAS CUANTIFICA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BASE A ACTIVIDADES PRIORITARIAS QUE ABARCAN A TODAS LAS DIVISIONES DE LA ADMINISTRAC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F06B-2AC8-4D6A-B72E-3F1BD370C6D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720" y="474840"/>
            <a:ext cx="9072720" cy="14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SISTEMA TRIBUTARI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6480" indent="-36648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POTESTAD TRIBUTARIA</a:t>
            </a:r>
            <a:r>
              <a:rPr b="0" lang="es-UY" sz="35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i="1" lang="es-UY" sz="3500" spc="-1" strike="noStrike">
                <a:solidFill>
                  <a:srgbClr val="e5ffff"/>
                </a:solidFill>
                <a:latin typeface="Tahoma"/>
              </a:rPr>
              <a:t>distribuida entre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000" spc="-1" strike="noStrike">
                <a:solidFill>
                  <a:srgbClr val="e5ffff"/>
                </a:solidFill>
                <a:latin typeface="Tahoma"/>
              </a:rPr>
              <a:t>Estado Nacional 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000" spc="-1" strike="noStrike">
                <a:solidFill>
                  <a:srgbClr val="e5ffff"/>
                </a:solidFill>
                <a:latin typeface="Tahoma"/>
              </a:rPr>
              <a:t>Gobiernos Departamenta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AMBITO DE APLICACIO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000" spc="-1" strike="noStrike">
                <a:solidFill>
                  <a:srgbClr val="e5ffff"/>
                </a:solidFill>
                <a:latin typeface="Tahoma"/>
                <a:ea typeface="Tahoma"/>
              </a:rPr>
              <a:t>Nacion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000" spc="-1" strike="noStrike">
                <a:solidFill>
                  <a:srgbClr val="e5ffff"/>
                </a:solidFill>
                <a:latin typeface="Tahoma"/>
                <a:ea typeface="Tahoma"/>
              </a:rPr>
              <a:t>Departament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CDA-8D15-41E4-9EED-3B85573BC74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4720" y="1101600"/>
            <a:ext cx="907272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600" spc="-1" strike="noStrike">
                <a:solidFill>
                  <a:srgbClr val="ffcc66"/>
                </a:solidFill>
                <a:latin typeface="Tahoma"/>
              </a:rPr>
              <a:t>(</a:t>
            </a:r>
            <a:r>
              <a:rPr b="1" lang="es-UY" sz="3200" spc="-1" strike="noStrike">
                <a:solidFill>
                  <a:srgbClr val="ffcc66"/>
                </a:solidFill>
                <a:latin typeface="Tahoma"/>
              </a:rPr>
              <a:t>III)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 PLANIFICACION ESTRATEGICA COMO INSTRUMENTO DE CONTROL DE GES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4720" y="2179800"/>
            <a:ext cx="9072720" cy="53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cc66"/>
                </a:solidFill>
                <a:latin typeface="Tahoma"/>
              </a:rPr>
              <a:t>REGIMEN DE DESEMPEÑO DE LOS FUNCIONARI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200" spc="-1" strike="noStrike" u="sng">
                <a:solidFill>
                  <a:srgbClr val="ffffff"/>
                </a:solidFill>
                <a:uFillTx/>
                <a:latin typeface="Tahoma"/>
              </a:rPr>
              <a:t>DEDICACION EXCLUSIVA y PRIMA POR RENDIMIENTO GRUPA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spcBef>
                <a:spcPts val="499"/>
              </a:spcBef>
              <a:buNone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PRIMA POR RENDIMIENTO GRUPAL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4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ABARCA A TODOS LOS FUNCIONARIO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4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SUJETA AL CUMPLIMIENTO DE LAS METAS ESTABLECIDAS EN FORMA ANUAL (SOBRE EL POA)POR LA DGI Y AVALADAS POR EL MEF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4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SUJETO A UN CONTROL DE SEGUIMIENTO MENSUAL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32F5-526F-410F-A10E-18193072DC9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4720" y="912600"/>
            <a:ext cx="9072720" cy="101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800" spc="-1" strike="noStrike">
                <a:solidFill>
                  <a:srgbClr val="ffcc66"/>
                </a:solidFill>
                <a:latin typeface="Tahoma"/>
              </a:rPr>
              <a:t>(III)</a:t>
            </a:r>
            <a:r>
              <a:rPr b="1" lang="es-UY" sz="2800" spc="-1" strike="noStrike">
                <a:solidFill>
                  <a:srgbClr val="e5ffff"/>
                </a:solidFill>
                <a:latin typeface="Tahoma"/>
              </a:rPr>
              <a:t> ADMINITRACION TRIBUTARIA CENTRAL:</a:t>
            </a:r>
            <a:br>
              <a:rPr sz="2800"/>
            </a:br>
            <a:r>
              <a:rPr b="1" lang="es-UY" sz="2800" spc="-1" strike="noStrike">
                <a:solidFill>
                  <a:srgbClr val="e5ffff"/>
                </a:solidFill>
                <a:latin typeface="Tahoma"/>
              </a:rPr>
              <a:t>MECANISMOS DE COORDINACION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4400" spc="-1" strike="noStrike">
                <a:solidFill>
                  <a:srgbClr val="ffcc66"/>
                </a:solidFill>
                <a:latin typeface="Tahoma"/>
              </a:rPr>
              <a:t>INTEGRADA POR TRES ORGANISMO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90000"/>
              </a:lnSpc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DGI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90000"/>
              </a:lnSpc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DNA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90000"/>
              </a:lnSpc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BPS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B34B-4043-48F0-BFE5-AC21A81E1E2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360" y="1025280"/>
            <a:ext cx="9129960" cy="106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800" spc="-1" strike="noStrike">
                <a:solidFill>
                  <a:srgbClr val="ffcc66"/>
                </a:solidFill>
                <a:latin typeface="Tahoma"/>
              </a:rPr>
              <a:t>(III)</a:t>
            </a:r>
            <a:r>
              <a:rPr b="1" lang="es-UY" sz="2800" spc="-1" strike="noStrike">
                <a:solidFill>
                  <a:srgbClr val="e5ffff"/>
                </a:solidFill>
                <a:latin typeface="Tahoma"/>
              </a:rPr>
              <a:t> ADMINITRACION TRIBUTARIA CENTRAL:</a:t>
            </a:r>
            <a:br>
              <a:rPr sz="2800"/>
            </a:br>
            <a:r>
              <a:rPr b="1" lang="es-UY" sz="2800" spc="-1" strike="noStrike">
                <a:solidFill>
                  <a:srgbClr val="e5ffff"/>
                </a:solidFill>
                <a:latin typeface="Tahoma"/>
              </a:rPr>
              <a:t>MECANISMOS DE COORDINACION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2000"/>
          </a:bodyPr>
          <a:p>
            <a:pPr marL="3477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66"/>
                </a:solidFill>
                <a:uFillTx/>
                <a:latin typeface="Tahoma"/>
              </a:rPr>
              <a:t>COORDINACION ENTRE DGI Y BP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77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1- </a:t>
            </a: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La ley 18083 del 27/12/2006 que  crea al IRPF  nombra a la </a:t>
            </a:r>
            <a:r>
              <a:rPr b="1" lang="es-UY" sz="3100" spc="-1" strike="noStrike" u="sng">
                <a:solidFill>
                  <a:srgbClr val="e5ffff"/>
                </a:solidFill>
                <a:uFillTx/>
                <a:latin typeface="Tahoma"/>
              </a:rPr>
              <a:t>DGI sujeto activo y al BPS  entidad</a:t>
            </a:r>
            <a:r>
              <a:rPr b="1" lang="es-UY" sz="31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s-UY" sz="3100" spc="-1" strike="noStrike" u="sng">
                <a:solidFill>
                  <a:srgbClr val="e5ffff"/>
                </a:solidFill>
                <a:uFillTx/>
                <a:latin typeface="Tahoma"/>
              </a:rPr>
              <a:t>colaborada</a:t>
            </a: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 en la gestión de retenciones efectuadas a sus afiliados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77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Con la misma información que se calculan las contribuciones a la seguridad social, el BPS determina las retenciones correspondientes al IRPF y las informa a DGI colaborando además en la cobranza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77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Esto permite el control de que existen iguales bases imponibles para ambos tributos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B4D-2E09-46D4-BDF5-DFF13CD6A23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720" y="958680"/>
            <a:ext cx="9072720" cy="973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66"/>
                </a:solidFill>
                <a:latin typeface="Tahoma"/>
              </a:rPr>
              <a:t>(</a:t>
            </a:r>
            <a:r>
              <a:rPr b="0" lang="es-UY" sz="3200" spc="-1" strike="noStrike">
                <a:solidFill>
                  <a:srgbClr val="ffcc66"/>
                </a:solidFill>
                <a:latin typeface="Tahoma"/>
              </a:rPr>
              <a:t>III)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 ADMINISTRACION TRIBUTARIA-MECANISMOS DE COORDINAC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66"/>
                </a:solidFill>
                <a:uFillTx/>
                <a:latin typeface="Tahoma"/>
              </a:rPr>
              <a:t>COORDINACION ENTRE DGI Y BP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2- 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VENTANILLA UNICA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Permite que los contribuyentes comunes realicen su inscripción y  actualización de datos registrales  de forma simultanea ante ambos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52D-D551-4DCB-B6B5-DB5C4C7E77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4720" y="853920"/>
            <a:ext cx="9072720" cy="1122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600" spc="-1" strike="noStrike">
                <a:solidFill>
                  <a:srgbClr val="e5ffff"/>
                </a:solidFill>
                <a:latin typeface="Tahoma"/>
              </a:rPr>
              <a:t>ADMINISTRACION TRIBUTARIA-MECANISMOS DE COORDINACIO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3664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66"/>
                </a:solidFill>
                <a:uFillTx/>
                <a:latin typeface="Tahoma"/>
              </a:rPr>
              <a:t>COORDINACION ENTRE DGI Y DNA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La  DGI accede a la información de comercio exterior (importación y exportación de bienes) a través del sistema LUCIA y opera en el mismo para la liquidación de impuestos, de beneficios a la exportación y exoneraciones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16668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31B-AB14-4557-94DB-AD8AE554942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4720" y="808200"/>
            <a:ext cx="9072720" cy="1123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66"/>
                </a:solidFill>
                <a:latin typeface="Tahoma"/>
              </a:rPr>
              <a:t>(III)</a:t>
            </a:r>
            <a:r>
              <a:rPr b="1" lang="es-UY" sz="4500" spc="-1" strike="noStrike">
                <a:solidFill>
                  <a:srgbClr val="e5ffff"/>
                </a:solidFill>
                <a:latin typeface="Tahoma"/>
              </a:rPr>
              <a:t> GESTION DEL AREA INFORMATICA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100" spc="-1" strike="noStrike">
                <a:solidFill>
                  <a:srgbClr val="e5ffff"/>
                </a:solidFill>
                <a:latin typeface="Tahoma"/>
              </a:rPr>
              <a:t>Las funciones del área de sistemas de información, si bien se consideran de apoyo a los cometidos sustantivos de la Administración, han sido consideradas estratégicas y por lo tanto asignadas dentro de la estructura organizativa a una unidad especializada de primer nivel (División Informática) dependiente de la Dirección General.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950F-9489-415A-B865-69717DD0366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4720" y="923400"/>
            <a:ext cx="9072720" cy="1373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66"/>
                </a:solidFill>
                <a:latin typeface="Tahoma"/>
              </a:rPr>
              <a:t>(III)</a:t>
            </a:r>
            <a:r>
              <a:rPr b="1" lang="es-UY" sz="4500" spc="-1" strike="noStrike">
                <a:solidFill>
                  <a:srgbClr val="e5ffff"/>
                </a:solidFill>
                <a:latin typeface="Tahoma"/>
              </a:rPr>
              <a:t> GESTION DEL AREA INFORMATICA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PRINCIPALES FUNCIONE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s-ES" sz="3500" spc="-1" strike="noStrike">
                <a:solidFill>
                  <a:srgbClr val="e5ffff"/>
                </a:solidFill>
                <a:latin typeface="Tahoma"/>
              </a:rPr>
              <a:t>Planificar, dirigir, ejecutar y controlar el desarrollo, la documentación, la implantación y el mantenimiento de los sistemas informáticos definidos por las áreas de planificación y usuarios involucrados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29C-F422-4364-BDC3-124A467EC8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4720" y="936360"/>
            <a:ext cx="9072720" cy="995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 GESTION DEL AREA INFORMÁTIC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4720" y="1841040"/>
            <a:ext cx="9072720" cy="4878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Políticas de Seguridad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773280" y="2357280"/>
            <a:ext cx="8126280" cy="44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e5ffff"/>
              </a:buClr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Uso de estándares  (LDAP, Active Directory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5ffff"/>
              </a:buClr>
              <a:buSzPct val="115000"/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Seguridad basada Roles /usuarios RBAC (Role Based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Access Control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5ffff"/>
              </a:buClr>
              <a:buSzPct val="115000"/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Mecanismos de AAA (Autenticación, Autorización y               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Auditoria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5ffff"/>
              </a:buClr>
              <a:buSzPct val="115000"/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Independencia de las aplicaciones con respecto al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Esquema de  Seguridad DGI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5ffff"/>
              </a:buClr>
              <a:buSzPct val="115000"/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Integración de Aplicaciones  al Menú de Servicios En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Línea para contribuyentes  (Front-End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5ffff"/>
              </a:buClr>
              <a:buSzPct val="115000"/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Integración de Aplicaciones al Menú de Funcionarios de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DGI (Back-End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B93-E639-427A-8A42-3D9E97F4B3E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s-E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MUCHAS GRACIAS POR SU ATENCIO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9F5A-14CC-4533-9B9F-3F49A6181EC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720" y="941040"/>
            <a:ext cx="9072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66"/>
                </a:solidFill>
                <a:latin typeface="Tahoma"/>
              </a:rPr>
              <a:t>(I)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 CARACTERISTICAS GENERALES DEL SISTEMA TRIBUTARIO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6160" y="2212560"/>
            <a:ext cx="907236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1360" indent="0" algn="ctr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 u="sng">
                <a:solidFill>
                  <a:srgbClr val="ffcc00"/>
                </a:solidFill>
                <a:uFillTx/>
                <a:latin typeface="Tahoma"/>
              </a:rPr>
              <a:t>TRIBUTOS NA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136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400" spc="-1" strike="noStrike">
                <a:solidFill>
                  <a:srgbClr val="e5ffff"/>
                </a:solidFill>
                <a:latin typeface="Tahoma"/>
              </a:rPr>
              <a:t>ADMINISTRADOS Y RECAUDADOS POR EL GOBIERNO CENTRAL DE LA SIGUIENTE MANE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1360" indent="0"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 u="sng">
                <a:solidFill>
                  <a:srgbClr val="ffcc00"/>
                </a:solidFill>
                <a:uFillTx/>
                <a:latin typeface="Tahoma"/>
              </a:rPr>
              <a:t>IMPUESTOS INTERNOS-</a:t>
            </a:r>
            <a:r>
              <a:rPr b="0" lang="es-UY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Dirección General Impositiva (Unidad desconcentrada del Ministerio de Economía y Finanza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 u="sng">
                <a:solidFill>
                  <a:srgbClr val="ffcc00"/>
                </a:solidFill>
                <a:uFillTx/>
                <a:latin typeface="Tahoma"/>
              </a:rPr>
              <a:t>CONTRIBUCIONES PATRONALES Y OBRERAS SOBRE SALARIOS</a:t>
            </a:r>
            <a:r>
              <a:rPr b="0" lang="es-UY" sz="2400" spc="-1" strike="noStrike">
                <a:solidFill>
                  <a:srgbClr val="ffffff"/>
                </a:solidFill>
                <a:latin typeface="Tahoma"/>
              </a:rPr>
              <a:t> :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Banco de Previsión Social (Organismo autónomo administrado por un directorio multisectorial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 u="sng">
                <a:solidFill>
                  <a:srgbClr val="ffcc00"/>
                </a:solidFill>
                <a:uFillTx/>
                <a:latin typeface="Tahoma"/>
              </a:rPr>
              <a:t>TRIBUTOS RELATIVOS AL COMERCIO EXTERIOR</a:t>
            </a:r>
            <a:r>
              <a:rPr b="0" lang="es-UY" sz="24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es-UY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Dirección Nacional de Aduanas (Unidad desconcentrada del Ministerio de Economía y Finanz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C69-8422-47F0-BCC8-6BA667CF144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720" y="955440"/>
            <a:ext cx="90727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6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1" lang="es-UY" sz="3600" spc="-1" strike="noStrike">
                <a:solidFill>
                  <a:srgbClr val="e5ffff"/>
                </a:solidFill>
                <a:latin typeface="Tahoma"/>
              </a:rPr>
              <a:t> PRINCIPALES IMPUESTOS QUE ADMINISTRA LA DG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IMPUESTOS QUE GRAVAN AL CONSUM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IMPUESTOS QUE GRAVAN A LA REN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IMPUESTOS QUE GRAVAN A LA PROPIE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IMPUESTOS DE CONTRO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CF3-61FE-40A8-ADB2-99C1641FA7A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720" y="1104840"/>
            <a:ext cx="9072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600" spc="-1" strike="noStrike">
                <a:solidFill>
                  <a:srgbClr val="ffcc66"/>
                </a:solidFill>
                <a:latin typeface="Tahoma"/>
              </a:rPr>
              <a:t>(I)</a:t>
            </a:r>
            <a:r>
              <a:rPr b="1" lang="es-UY" sz="3600" spc="-1" strike="noStrike">
                <a:solidFill>
                  <a:srgbClr val="e5ffff"/>
                </a:solidFill>
                <a:latin typeface="Tahoma"/>
              </a:rPr>
              <a:t> PRINCIPALES IMPUESTOS QUE ADMINISTRA LA DG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53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IMPUESTOS AL CONSUMO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69680" indent="-296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600" spc="-1" strike="noStrike">
                <a:solidFill>
                  <a:srgbClr val="ffcc00"/>
                </a:solidFill>
                <a:latin typeface="Tahoma"/>
              </a:rPr>
              <a:t>GENERAL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9680" indent="-296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600" spc="-1" strike="noStrike" u="sng">
                <a:solidFill>
                  <a:srgbClr val="e5ffff"/>
                </a:solidFill>
                <a:uFillTx/>
                <a:latin typeface="Tahoma"/>
              </a:rPr>
              <a:t>IV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84400" indent="-236880">
              <a:lnSpc>
                <a:spcPct val="90000"/>
              </a:lnSpc>
              <a:spcAft>
                <a:spcPts val="1426"/>
              </a:spcAft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INTERNO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2" marL="1184400" indent="-236880">
              <a:lnSpc>
                <a:spcPct val="90000"/>
              </a:lnSpc>
              <a:spcAft>
                <a:spcPts val="1426"/>
              </a:spcAft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IMPORTACION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2" marL="1184400" indent="-236880">
              <a:lnSpc>
                <a:spcPct val="90000"/>
              </a:lnSpc>
              <a:spcAft>
                <a:spcPts val="1426"/>
              </a:spcAft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IVA MINIMO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69680" indent="-296640">
              <a:lnSpc>
                <a:spcPct val="90000"/>
              </a:lnSpc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ESPECIFICO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69680" indent="-296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600" spc="-1" strike="noStrike" u="sng">
                <a:solidFill>
                  <a:srgbClr val="e5ffff"/>
                </a:solidFill>
                <a:uFillTx/>
                <a:latin typeface="Tahoma"/>
              </a:rPr>
              <a:t>IMESSI </a:t>
            </a:r>
            <a:r>
              <a:rPr b="0" lang="es-UY" sz="2600" spc="-1" strike="noStrike">
                <a:solidFill>
                  <a:srgbClr val="e5ffff"/>
                </a:solidFill>
                <a:latin typeface="Tahoma"/>
              </a:rPr>
              <a:t>(impuesto específico interno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E825-16AE-49D8-8E4E-A2E8A8B3B9D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863640"/>
            <a:ext cx="907272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600" spc="-1" strike="noStrike">
                <a:solidFill>
                  <a:srgbClr val="ffcc66"/>
                </a:solidFill>
                <a:latin typeface="Tahoma"/>
              </a:rPr>
              <a:t>          </a:t>
            </a:r>
            <a:r>
              <a:rPr b="0" lang="es-UY" sz="3600" spc="-1" strike="noStrike">
                <a:solidFill>
                  <a:srgbClr val="ffcc66"/>
                </a:solidFill>
                <a:latin typeface="Tahoma"/>
              </a:rPr>
              <a:t>(I)</a:t>
            </a:r>
            <a:r>
              <a:rPr b="0" lang="es-UY" sz="3600" spc="-1" strike="noStrike">
                <a:solidFill>
                  <a:srgbClr val="e5ffff"/>
                </a:solidFill>
                <a:latin typeface="Tahoma"/>
              </a:rPr>
              <a:t> PRINCIPALES IMPUESTOS QUE ADMINISTRA LA DG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40" y="1749600"/>
            <a:ext cx="9069120" cy="48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600" spc="-1" strike="noStrike" u="sng">
                <a:solidFill>
                  <a:srgbClr val="ffcc00"/>
                </a:solidFill>
                <a:uFillTx/>
                <a:latin typeface="Tahoma"/>
              </a:rPr>
              <a:t>IMPUESTOS A LA REN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500" spc="-1" strike="noStrike" u="sng">
                <a:solidFill>
                  <a:srgbClr val="e5ffff"/>
                </a:solidFill>
                <a:uFillTx/>
                <a:latin typeface="Tahoma"/>
              </a:rPr>
              <a:t>IRAE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 (Impuesto a las Rentas de las Actividades Económica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500" spc="-1" strike="noStrike" u="sng">
                <a:solidFill>
                  <a:srgbClr val="e5ffff"/>
                </a:solidFill>
                <a:uFillTx/>
                <a:latin typeface="Tahoma"/>
              </a:rPr>
              <a:t>IMEBA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 (Impuesto a la Enajenación de Bienes agropecuari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500" spc="-1" strike="noStrike" u="sng">
                <a:solidFill>
                  <a:srgbClr val="e5ffff"/>
                </a:solidFill>
                <a:uFillTx/>
                <a:latin typeface="Tahoma"/>
              </a:rPr>
              <a:t>IRPF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 (Impuesto a las Rentas de las Personas Físic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80000"/>
              </a:lnSpc>
              <a:spcAft>
                <a:spcPts val="1412"/>
              </a:spcAft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800" spc="-1" strike="noStrike">
                <a:solidFill>
                  <a:srgbClr val="e5ffff"/>
                </a:solidFill>
                <a:latin typeface="Tahoma"/>
              </a:rPr>
              <a:t>IRPF Categoría 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80000"/>
              </a:lnSpc>
              <a:spcAft>
                <a:spcPts val="1412"/>
              </a:spcAft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800" spc="-1" strike="noStrike">
                <a:solidFill>
                  <a:srgbClr val="e5ffff"/>
                </a:solidFill>
                <a:latin typeface="Tahoma"/>
              </a:rPr>
              <a:t>IRPF Categoría 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Aft>
                <a:spcPts val="1412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500" spc="-1" strike="noStrike" u="sng">
                <a:solidFill>
                  <a:srgbClr val="e5ffff"/>
                </a:solidFill>
                <a:uFillTx/>
                <a:latin typeface="Tahoma"/>
              </a:rPr>
              <a:t>IASS</a:t>
            </a:r>
            <a:r>
              <a:rPr b="0" lang="es-UY" sz="2500" spc="-1" strike="noStrike">
                <a:solidFill>
                  <a:srgbClr val="e5ffff"/>
                </a:solidFill>
                <a:latin typeface="Tahoma"/>
              </a:rPr>
              <a:t> (Impuesto de Asistencia a la Seguridad Social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Aft>
                <a:spcPts val="1412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500" spc="-1" strike="noStrike" u="sng">
                <a:solidFill>
                  <a:srgbClr val="e5ffff"/>
                </a:solidFill>
                <a:uFillTx/>
                <a:latin typeface="Tahoma"/>
                <a:ea typeface="Tahoma"/>
              </a:rPr>
              <a:t>IRNR</a:t>
            </a:r>
            <a:r>
              <a:rPr b="0" lang="es-UY" sz="2500" spc="-1" strike="noStrike" u="sng">
                <a:solidFill>
                  <a:srgbClr val="e5ffff"/>
                </a:solidFill>
                <a:uFillTx/>
                <a:latin typeface="Tahoma"/>
                <a:ea typeface="Tahoma"/>
              </a:rPr>
              <a:t> </a:t>
            </a:r>
            <a:r>
              <a:rPr b="0" lang="es-UY" sz="2500" spc="-1" strike="noStrike">
                <a:solidFill>
                  <a:srgbClr val="e5ffff"/>
                </a:solidFill>
                <a:latin typeface="Tahoma"/>
                <a:ea typeface="Tahoma"/>
              </a:rPr>
              <a:t>(Impuesto a las Rentas de los No Resident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-4680"/>
            <a:ext cx="2401920" cy="102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F077-5040-41F6-B156-B3B8A7C29B8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999720"/>
            <a:ext cx="907272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600" spc="-1" strike="noStrike">
                <a:solidFill>
                  <a:srgbClr val="ffcc66"/>
                </a:solidFill>
                <a:latin typeface="Tahoma"/>
              </a:rPr>
              <a:t>(I) </a:t>
            </a:r>
            <a:r>
              <a:rPr b="1" lang="es-UY" sz="3600" spc="-1" strike="noStrike">
                <a:solidFill>
                  <a:srgbClr val="e5ffff"/>
                </a:solidFill>
                <a:latin typeface="Tahoma"/>
              </a:rPr>
              <a:t>PRINCIPALES IMPUESTOS QUE ADMINISTRA LA DG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IMPUESTOS A LA PROPIEDAD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cc00"/>
                </a:solidFill>
                <a:latin typeface="Tahoma"/>
              </a:rPr>
              <a:t>IMPUESTO AL PATRIMONI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Persona Físic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Persona Jurídic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spcBef>
                <a:spcPts val="550"/>
              </a:spcBef>
              <a:buNone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cc00"/>
                </a:solidFill>
                <a:latin typeface="Tahoma"/>
              </a:rPr>
              <a:t>IMPUESTOS DE CONTRO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Impuesto a las transmisiones patrimonial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ICOSA (Impuesto al  control de las Sociedades Anónimas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FIS (Fondo de Inspección Sanitaria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AD9-6D48-48D6-9FBD-F9A6FFEC830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839520"/>
            <a:ext cx="907272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6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0" lang="es-UY" sz="3600" spc="-1" strike="noStrike">
                <a:solidFill>
                  <a:srgbClr val="e5ffff"/>
                </a:solidFill>
                <a:latin typeface="Tahoma"/>
              </a:rPr>
              <a:t>  ORGANIZACION Y FUNCIONES DE LA ADMINISTRACION TRIBUTARIA CENTRA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648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AMBITO NACIONA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UY" sz="3500" spc="-1" strike="noStrike">
                <a:solidFill>
                  <a:srgbClr val="e5ffff"/>
                </a:solidFill>
                <a:latin typeface="Tahoma"/>
              </a:rPr>
              <a:t>INTEGRADA POR TRES ORGANISMOS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000" spc="-1" strike="noStrike">
                <a:solidFill>
                  <a:srgbClr val="e5ffff"/>
                </a:solidFill>
                <a:latin typeface="Tahoma"/>
              </a:rPr>
              <a:t>DG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000" spc="-1" strike="noStrike">
                <a:solidFill>
                  <a:srgbClr val="e5ffff"/>
                </a:solidFill>
                <a:latin typeface="Tahoma"/>
              </a:rPr>
              <a:t>D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000" spc="-1" strike="noStrike">
                <a:solidFill>
                  <a:srgbClr val="e5ffff"/>
                </a:solidFill>
                <a:latin typeface="Tahoma"/>
              </a:rPr>
              <a:t>BP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1800" spc="-1" strike="noStrike">
                <a:solidFill>
                  <a:srgbClr val="e5ffff"/>
                </a:solidFill>
                <a:latin typeface="Tahoma"/>
              </a:rPr>
              <a:t>Los dos primeros dependen del poder central y el tercero es un organismo autóno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8290-FC56-483B-8EBC-ADD47B15522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18:54:00Z</dcterms:created>
  <dc:creator>Gonzalo Lopez</dc:creator>
  <dc:description/>
  <dc:language>en-US</dc:language>
  <cp:lastModifiedBy> </cp:lastModifiedBy>
  <dcterms:modified xsi:type="dcterms:W3CDTF">2013-10-28T11:08:05Z</dcterms:modified>
  <cp:revision>60</cp:revision>
  <dc:subject/>
  <dc:title>ALCANCE</dc:title>
</cp:coreProperties>
</file>