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Ciento y noventa, Ocho punto cinco, quince, cinco mil quinientos y sesenta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3120" cy="15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imag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image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"/>
          <p:cNvSpPr/>
          <p:nvPr/>
        </p:nvSpPr>
        <p:spPr>
          <a:xfrm>
            <a:off x="2743200" y="2448000"/>
            <a:ext cx="5648400" cy="1536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  <a:ea typeface="Arial"/>
              </a:rPr>
              <a:t>Educación Fiscal em la Receita Fed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Antigua, Guatemala, Agost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.png"/>
          <p:cNvPicPr/>
          <p:nvPr/>
        </p:nvPicPr>
        <p:blipFill>
          <a:blip r:embed="rId2"/>
          <a:stretch/>
        </p:blipFill>
        <p:spPr>
          <a:xfrm>
            <a:off x="3352680" y="127080"/>
            <a:ext cx="5791320" cy="8208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791D85-2F39-4030-A3A8-55C446FF143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BA4FE0-E0F1-41D9-8F17-1A5A977E5E1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352440" y="1539720"/>
            <a:ext cx="5133960" cy="5842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Nucleo de Apoyo Contabil y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/>
          <p:cNvSpPr/>
          <p:nvPr/>
        </p:nvSpPr>
        <p:spPr>
          <a:xfrm>
            <a:off x="352440" y="907920"/>
            <a:ext cx="7356600" cy="40644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a Receita Federal Invita: Conozca nuestra ad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52440" y="3083040"/>
            <a:ext cx="4219560" cy="431640"/>
          </a:xfrm>
          <a:prstGeom prst="pie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Proyecto Autoaten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52440" y="2400480"/>
            <a:ext cx="5386320" cy="406080"/>
          </a:xfrm>
          <a:prstGeom prst="pie">
            <a:avLst/>
          </a:prstGeom>
          <a:solidFill>
            <a:srgbClr val="141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buClr>
                <a:srgbClr val="00000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Fóruns de discusión con la socie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657600" y="3790800"/>
            <a:ext cx="4857840" cy="248472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2012 la Receita Federal realizó, em todo Brasil, 12.765 actividades de educación fiscal8. Entre las actividades destacan conferencias y seminarios para el,publico externo, en busca de ofrecer orientación y asistencia a los contribuyentes en el cumplimiento de sus obligaciones tribut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43360" y="200160"/>
            <a:ext cx="57830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Algunos proyectos de Receita Fede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pasted-image.jpg"/>
          <p:cNvPicPr/>
          <p:nvPr/>
        </p:nvPicPr>
        <p:blipFill>
          <a:blip r:embed="rId1"/>
          <a:stretch/>
        </p:blipFill>
        <p:spPr>
          <a:xfrm>
            <a:off x="352440" y="3637080"/>
            <a:ext cx="221292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084560" y="136440"/>
            <a:ext cx="50958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Algunas 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"/>
          <p:cNvGrpSpPr/>
          <p:nvPr/>
        </p:nvGrpSpPr>
        <p:grpSpPr>
          <a:xfrm>
            <a:off x="6480000" y="6480000"/>
            <a:ext cx="2697840" cy="378720"/>
            <a:chOff x="6480000" y="6480000"/>
            <a:chExt cx="2697840" cy="378720"/>
          </a:xfrm>
        </p:grpSpPr>
        <p:sp>
          <p:nvSpPr>
            <p:cNvPr id="290" name="AutoShape 3"/>
            <p:cNvSpPr/>
            <p:nvPr/>
          </p:nvSpPr>
          <p:spPr>
            <a:xfrm>
              <a:off x="6480000" y="6480000"/>
              <a:ext cx="2697840" cy="37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4"/>
            <p:cNvSpPr/>
            <p:nvPr/>
          </p:nvSpPr>
          <p:spPr>
            <a:xfrm>
              <a:off x="6480000" y="6480000"/>
              <a:ext cx="2697840" cy="303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a dos Contos – Ouro Preto/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5" descr="image.jpg"/>
          <p:cNvPicPr/>
          <p:nvPr/>
        </p:nvPicPr>
        <p:blipFill>
          <a:blip r:embed="rId1"/>
          <a:stretch/>
        </p:blipFill>
        <p:spPr>
          <a:xfrm>
            <a:off x="307800" y="1082520"/>
            <a:ext cx="2391120" cy="1617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image.png"/>
          <p:cNvPicPr/>
          <p:nvPr/>
        </p:nvPicPr>
        <p:blipFill>
          <a:blip r:embed="rId2"/>
          <a:stretch/>
        </p:blipFill>
        <p:spPr>
          <a:xfrm>
            <a:off x="3419640" y="1079640"/>
            <a:ext cx="2339640" cy="1619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-small.jpg"/>
          <p:cNvPicPr/>
          <p:nvPr/>
        </p:nvPicPr>
        <p:blipFill>
          <a:blip r:embed="rId3"/>
          <a:stretch/>
        </p:blipFill>
        <p:spPr>
          <a:xfrm>
            <a:off x="179280" y="3060720"/>
            <a:ext cx="2519640" cy="1982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mage.png"/>
          <p:cNvPicPr/>
          <p:nvPr/>
        </p:nvPicPr>
        <p:blipFill>
          <a:blip r:embed="rId4"/>
          <a:stretch/>
        </p:blipFill>
        <p:spPr>
          <a:xfrm>
            <a:off x="6119640" y="3200400"/>
            <a:ext cx="2859120" cy="2019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age.jpg"/>
          <p:cNvPicPr/>
          <p:nvPr/>
        </p:nvPicPr>
        <p:blipFill>
          <a:blip r:embed="rId5"/>
          <a:stretch/>
        </p:blipFill>
        <p:spPr>
          <a:xfrm>
            <a:off x="3240000" y="306072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image.png"/>
          <p:cNvPicPr/>
          <p:nvPr/>
        </p:nvPicPr>
        <p:blipFill>
          <a:blip r:embed="rId6"/>
          <a:stretch/>
        </p:blipFill>
        <p:spPr>
          <a:xfrm>
            <a:off x="5940360" y="1079640"/>
            <a:ext cx="2898720" cy="16192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C7B972-AAD1-4141-BC9B-DA30841370E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55B260-5E19-4F8D-BE44-F817B085B33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309600" y="1946160"/>
            <a:ext cx="8630280" cy="3355200"/>
            <a:chOff x="309600" y="1946160"/>
            <a:chExt cx="8630280" cy="3355200"/>
          </a:xfrm>
        </p:grpSpPr>
        <p:sp>
          <p:nvSpPr>
            <p:cNvPr id="301" name="AutoShape 3"/>
            <p:cNvSpPr/>
            <p:nvPr/>
          </p:nvSpPr>
          <p:spPr>
            <a:xfrm>
              <a:off x="309600" y="1946160"/>
              <a:ext cx="8630280" cy="3355200"/>
            </a:xfrm>
            <a:prstGeom prst="pie">
              <a:avLst/>
            </a:prstGeom>
            <a:solidFill>
              <a:srgbClr val="00a37a"/>
            </a:solidFill>
            <a:ln w="12600">
              <a:solidFill>
                <a:srgbClr val="141414"/>
              </a:solidFill>
              <a:round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309600" y="1946160"/>
              <a:ext cx="8630280" cy="286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 Henrique Lindemberg Baltaz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Coordenador-Geral de Atendimento e Educação Fiscal Substit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.l.baltazar@receita.fazenda.gov.b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62400" y="392040"/>
            <a:ext cx="4581720" cy="5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cias por la aten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"/>
          <p:cNvGrpSpPr/>
          <p:nvPr/>
        </p:nvGrpSpPr>
        <p:grpSpPr>
          <a:xfrm>
            <a:off x="-17640" y="-12600"/>
            <a:ext cx="9169920" cy="6867360"/>
            <a:chOff x="-17640" y="-12600"/>
            <a:chExt cx="9169920" cy="6867360"/>
          </a:xfrm>
        </p:grpSpPr>
        <p:sp>
          <p:nvSpPr>
            <p:cNvPr id="305" name="AutoShape 2"/>
            <p:cNvSpPr/>
            <p:nvPr/>
          </p:nvSpPr>
          <p:spPr>
            <a:xfrm>
              <a:off x="-17640" y="-12600"/>
              <a:ext cx="9158760" cy="1913760"/>
            </a:xfrm>
            <a:prstGeom prst="pie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3"/>
            <p:cNvSpPr/>
            <p:nvPr/>
          </p:nvSpPr>
          <p:spPr>
            <a:xfrm>
              <a:off x="3419640" y="-12600"/>
              <a:ext cx="5721120" cy="167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 rot="10800000">
              <a:off x="-6480" y="5524200"/>
              <a:ext cx="9158760" cy="133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5" descr="image.png"/>
            <p:cNvPicPr/>
            <p:nvPr/>
          </p:nvPicPr>
          <p:blipFill>
            <a:blip r:embed="rId1"/>
            <a:stretch/>
          </p:blipFill>
          <p:spPr>
            <a:xfrm>
              <a:off x="1604520" y="1837800"/>
              <a:ext cx="1472760" cy="154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6"/>
            <p:cNvGrpSpPr/>
            <p:nvPr/>
          </p:nvGrpSpPr>
          <p:grpSpPr>
            <a:xfrm>
              <a:off x="1455120" y="3585240"/>
              <a:ext cx="1860840" cy="632520"/>
              <a:chOff x="1455120" y="3585240"/>
              <a:chExt cx="1860840" cy="632520"/>
            </a:xfrm>
          </p:grpSpPr>
          <p:pic>
            <p:nvPicPr>
              <p:cNvPr id="310" name="Picture 7" descr="image.png"/>
              <p:cNvPicPr/>
              <p:nvPr/>
            </p:nvPicPr>
            <p:blipFill>
              <a:blip r:embed="rId2"/>
              <a:srcRect l="-5472" t="0" r="0" b="-37782"/>
              <a:stretch/>
            </p:blipFill>
            <p:spPr>
              <a:xfrm>
                <a:off x="1455120" y="3585240"/>
                <a:ext cx="735120" cy="6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8" descr="image.png"/>
              <p:cNvPicPr/>
              <p:nvPr/>
            </p:nvPicPr>
            <p:blipFill>
              <a:blip r:embed="rId3"/>
              <a:stretch/>
            </p:blipFill>
            <p:spPr>
              <a:xfrm>
                <a:off x="2164320" y="3585240"/>
                <a:ext cx="115164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Group 9"/>
            <p:cNvGrpSpPr/>
            <p:nvPr/>
          </p:nvGrpSpPr>
          <p:grpSpPr>
            <a:xfrm>
              <a:off x="4230720" y="2674080"/>
              <a:ext cx="3776760" cy="970920"/>
              <a:chOff x="4230720" y="2674080"/>
              <a:chExt cx="3776760" cy="970920"/>
            </a:xfrm>
          </p:grpSpPr>
          <p:sp>
            <p:nvSpPr>
              <p:cNvPr id="313" name="AutoShape 10"/>
              <p:cNvSpPr/>
              <p:nvPr/>
            </p:nvSpPr>
            <p:spPr>
              <a:xfrm>
                <a:off x="4230720" y="3543840"/>
                <a:ext cx="89280" cy="10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17520"/>
                    <a:tab algn="l" pos="635040"/>
                    <a:tab algn="l" pos="965160"/>
                    <a:tab algn="l" pos="1282680"/>
                    <a:tab algn="l" pos="1600200"/>
                    <a:tab algn="l" pos="1930320"/>
                    <a:tab algn="l" pos="2247840"/>
                    <a:tab algn="l" pos="2565360"/>
                    <a:tab algn="l" pos="2895480"/>
                    <a:tab algn="l" pos="3213000"/>
                    <a:tab algn="l" pos="3530520"/>
                    <a:tab algn="l" pos="3860640"/>
                    <a:tab algn="l" pos="4178160"/>
                    <a:tab algn="l" pos="4495680"/>
                    <a:tab algn="l" pos="4826160"/>
                    <a:tab algn="l" pos="5143680"/>
                    <a:tab algn="l" pos="5460840"/>
                    <a:tab algn="l" pos="5791320"/>
                    <a:tab algn="l" pos="6108840"/>
                    <a:tab algn="l" pos="6426360"/>
                    <a:tab algn="l" pos="6634080"/>
                    <a:tab algn="l" pos="6950160"/>
                    <a:tab algn="l" pos="7265880"/>
                    <a:tab algn="l" pos="7581960"/>
                    <a:tab algn="l" pos="7897680"/>
                    <a:tab algn="l" pos="8213760"/>
                    <a:tab algn="l" pos="8529480"/>
                    <a:tab algn="l" pos="8845560"/>
                    <a:tab algn="l" pos="9161640"/>
                    <a:tab algn="l" pos="9477360"/>
                    <a:tab algn="l" pos="9793440"/>
                    <a:tab algn="l" pos="10109160"/>
                    <a:tab algn="l" pos="10425240"/>
                    <a:tab algn="l" pos="10740960"/>
                  </a:tabLst>
                </a:pPr>
                <a:r>
                  <a:rPr b="0" lang="es-ES" sz="400" spc="-1" strike="noStrike">
                    <a:solidFill>
                      <a:srgbClr val="000000"/>
                    </a:solidFill>
                    <a:latin typeface="Helvetica Light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Picture 11" descr="image.png"/>
              <p:cNvPicPr/>
              <p:nvPr/>
            </p:nvPicPr>
            <p:blipFill>
              <a:blip r:embed="rId4"/>
              <a:stretch/>
            </p:blipFill>
            <p:spPr>
              <a:xfrm>
                <a:off x="4320000" y="2674080"/>
                <a:ext cx="1170360" cy="8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2" descr="image.png"/>
              <p:cNvPicPr/>
              <p:nvPr/>
            </p:nvPicPr>
            <p:blipFill>
              <a:blip r:embed="rId5"/>
              <a:stretch/>
            </p:blipFill>
            <p:spPr>
              <a:xfrm>
                <a:off x="5450040" y="2865240"/>
                <a:ext cx="2557440" cy="47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6" name="AutoShape 13"/>
          <p:cNvSpPr/>
          <p:nvPr/>
        </p:nvSpPr>
        <p:spPr>
          <a:xfrm>
            <a:off x="7224840" y="6978600"/>
            <a:ext cx="2338200" cy="444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FB4810-4124-48AC-B494-059D302BD682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4294080" y="852480"/>
            <a:ext cx="4572000" cy="5153040"/>
          </a:xfrm>
          <a:prstGeom prst="pie">
            <a:avLst/>
          </a:prstGeom>
          <a:gradFill rotWithShape="0">
            <a:gsLst>
              <a:gs pos="0">
                <a:srgbClr val="e6fff3"/>
              </a:gs>
              <a:gs pos="100000">
                <a:srgbClr val="a2ff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90 millones de habit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PIB (2012) - US$ 2 trill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Arrecadação tributária (2012) - US$ 500 bill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8,5 millones de km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7,5 mil km de fronteras maríti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5,7 mil km de fronteras terres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26 Estados y 1 Distrit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5.560 Municíp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Estad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303120" y="722160"/>
            <a:ext cx="3902760" cy="5631840"/>
            <a:chOff x="303120" y="722160"/>
            <a:chExt cx="3902760" cy="5631840"/>
          </a:xfrm>
        </p:grpSpPr>
        <p:pic>
          <p:nvPicPr>
            <p:cNvPr id="163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03120" y="722160"/>
              <a:ext cx="3902760" cy="56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4"/>
            <p:cNvSpPr/>
            <p:nvPr/>
          </p:nvSpPr>
          <p:spPr>
            <a:xfrm>
              <a:off x="2291760" y="5137200"/>
              <a:ext cx="1761480" cy="10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5"/>
          <p:cNvSpPr/>
          <p:nvPr/>
        </p:nvSpPr>
        <p:spPr>
          <a:xfrm>
            <a:off x="6207120" y="255600"/>
            <a:ext cx="1670040" cy="87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16000"/>
              </a:lnSpc>
              <a:spcBef>
                <a:spcPts val="6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2929a3"/>
                </a:solidFill>
                <a:latin typeface="Arial"/>
              </a:rPr>
              <a:t>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.png"/>
          <p:cNvPicPr/>
          <p:nvPr/>
        </p:nvPicPr>
        <p:blipFill>
          <a:blip r:embed="rId2"/>
          <a:stretch/>
        </p:blipFill>
        <p:spPr>
          <a:xfrm>
            <a:off x="7966080" y="255600"/>
            <a:ext cx="900000" cy="539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11A5B3-3B53-44F2-AE66-BF68C358E4F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4468680" y="1260360"/>
            <a:ext cx="4559400" cy="455940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Dirección General – 5 Subsecretarias y 20 coordinaciones-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7 Delegacias de Juzg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03 Delegacia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6 Alfând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55 Inspe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362 Agência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7000 se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5,35 millones de empresas 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5,2 milhões de contribuyentes del imposto sobre la renta de las personas fís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4616280" y="433440"/>
            <a:ext cx="4264200" cy="46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2929a3"/>
                </a:solidFill>
                <a:latin typeface="Arial"/>
              </a:rPr>
              <a:t>Receita Federal em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image.png"/>
          <p:cNvPicPr/>
          <p:nvPr/>
        </p:nvPicPr>
        <p:blipFill>
          <a:blip r:embed="rId1"/>
          <a:stretch/>
        </p:blipFill>
        <p:spPr>
          <a:xfrm>
            <a:off x="404640" y="1260360"/>
            <a:ext cx="4021200" cy="45594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F51CD9-5769-4472-8205-AF201198299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asted-image.png"/>
          <p:cNvPicPr/>
          <p:nvPr/>
        </p:nvPicPr>
        <p:blipFill>
          <a:blip r:embed="rId2"/>
          <a:stretch/>
        </p:blipFill>
        <p:spPr>
          <a:xfrm>
            <a:off x="704880" y="192240"/>
            <a:ext cx="82692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"/>
          <p:cNvSpPr/>
          <p:nvPr/>
        </p:nvSpPr>
        <p:spPr>
          <a:xfrm>
            <a:off x="612720" y="135000"/>
            <a:ext cx="7918560" cy="53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Organograma de la Receita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"/>
          <p:cNvSpPr/>
          <p:nvPr/>
        </p:nvSpPr>
        <p:spPr>
          <a:xfrm>
            <a:off x="4419720" y="243828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4869000" y="1895400"/>
            <a:ext cx="17280" cy="290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733920" y="990720"/>
            <a:ext cx="2209680" cy="906480"/>
          </a:xfrm>
          <a:prstGeom prst="pie">
            <a:avLst/>
          </a:prstGeom>
          <a:solidFill>
            <a:srgbClr val="3333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194000" y="954000"/>
            <a:ext cx="1287720" cy="97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2971800" y="2139840"/>
            <a:ext cx="1456560" cy="524520"/>
            <a:chOff x="2971800" y="2139840"/>
            <a:chExt cx="1456560" cy="524520"/>
          </a:xfrm>
        </p:grpSpPr>
        <p:sp>
          <p:nvSpPr>
            <p:cNvPr id="179" name="AutoShape 7"/>
            <p:cNvSpPr/>
            <p:nvPr/>
          </p:nvSpPr>
          <p:spPr>
            <a:xfrm>
              <a:off x="297180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3238920" y="2227680"/>
              <a:ext cx="92484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bin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9"/>
          <p:cNvSpPr/>
          <p:nvPr/>
        </p:nvSpPr>
        <p:spPr>
          <a:xfrm flipH="1">
            <a:off x="1820880" y="2009880"/>
            <a:ext cx="6492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1066680" y="2139840"/>
            <a:ext cx="1456560" cy="524520"/>
            <a:chOff x="1066680" y="2139840"/>
            <a:chExt cx="1456560" cy="524520"/>
          </a:xfrm>
        </p:grpSpPr>
        <p:sp>
          <p:nvSpPr>
            <p:cNvPr id="183" name="AutoShape 11"/>
            <p:cNvSpPr/>
            <p:nvPr/>
          </p:nvSpPr>
          <p:spPr>
            <a:xfrm>
              <a:off x="106668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1471680" y="2227680"/>
              <a:ext cx="64620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3"/>
          <p:cNvGrpSpPr/>
          <p:nvPr/>
        </p:nvGrpSpPr>
        <p:grpSpPr>
          <a:xfrm>
            <a:off x="7532640" y="2139840"/>
            <a:ext cx="1456560" cy="829440"/>
            <a:chOff x="7532640" y="2139840"/>
            <a:chExt cx="1456560" cy="829440"/>
          </a:xfrm>
        </p:grpSpPr>
        <p:sp>
          <p:nvSpPr>
            <p:cNvPr id="186" name="AutoShape 14"/>
            <p:cNvSpPr/>
            <p:nvPr/>
          </p:nvSpPr>
          <p:spPr>
            <a:xfrm>
              <a:off x="7532640" y="213984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>
              <a:off x="7722000" y="2302200"/>
              <a:ext cx="1065600" cy="50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retá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dj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5334120" y="2139840"/>
            <a:ext cx="1456200" cy="524520"/>
            <a:chOff x="5334120" y="2139840"/>
            <a:chExt cx="1456200" cy="524520"/>
          </a:xfrm>
        </p:grpSpPr>
        <p:sp>
          <p:nvSpPr>
            <p:cNvPr id="189" name="AutoShape 17"/>
            <p:cNvSpPr/>
            <p:nvPr/>
          </p:nvSpPr>
          <p:spPr>
            <a:xfrm>
              <a:off x="5334120" y="213984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8"/>
            <p:cNvSpPr/>
            <p:nvPr/>
          </p:nvSpPr>
          <p:spPr>
            <a:xfrm>
              <a:off x="5713200" y="2227680"/>
              <a:ext cx="697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a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9"/>
          <p:cNvSpPr/>
          <p:nvPr/>
        </p:nvSpPr>
        <p:spPr>
          <a:xfrm>
            <a:off x="4408560" y="304812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2960640" y="2749680"/>
            <a:ext cx="1456560" cy="524520"/>
            <a:chOff x="2960640" y="2749680"/>
            <a:chExt cx="1456560" cy="524520"/>
          </a:xfrm>
        </p:grpSpPr>
        <p:sp>
          <p:nvSpPr>
            <p:cNvPr id="193" name="AutoShape 21"/>
            <p:cNvSpPr/>
            <p:nvPr/>
          </p:nvSpPr>
          <p:spPr>
            <a:xfrm>
              <a:off x="2960640" y="2749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2"/>
            <p:cNvSpPr/>
            <p:nvPr/>
          </p:nvSpPr>
          <p:spPr>
            <a:xfrm>
              <a:off x="3175920" y="2837520"/>
              <a:ext cx="1025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vid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3"/>
          <p:cNvGrpSpPr/>
          <p:nvPr/>
        </p:nvGrpSpPr>
        <p:grpSpPr>
          <a:xfrm>
            <a:off x="5322960" y="2749680"/>
            <a:ext cx="1456200" cy="524520"/>
            <a:chOff x="5322960" y="2749680"/>
            <a:chExt cx="1456200" cy="524520"/>
          </a:xfrm>
        </p:grpSpPr>
        <p:sp>
          <p:nvSpPr>
            <p:cNvPr id="196" name="AutoShape 24"/>
            <p:cNvSpPr/>
            <p:nvPr/>
          </p:nvSpPr>
          <p:spPr>
            <a:xfrm>
              <a:off x="5322960" y="2749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5"/>
            <p:cNvSpPr/>
            <p:nvPr/>
          </p:nvSpPr>
          <p:spPr>
            <a:xfrm>
              <a:off x="5727600" y="2837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26"/>
          <p:cNvSpPr/>
          <p:nvPr/>
        </p:nvSpPr>
        <p:spPr>
          <a:xfrm>
            <a:off x="4408560" y="3651120"/>
            <a:ext cx="914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2960640" y="3352680"/>
            <a:ext cx="1456560" cy="524520"/>
            <a:chOff x="2960640" y="3352680"/>
            <a:chExt cx="1456560" cy="524520"/>
          </a:xfrm>
        </p:grpSpPr>
        <p:sp>
          <p:nvSpPr>
            <p:cNvPr id="200" name="AutoShape 28"/>
            <p:cNvSpPr/>
            <p:nvPr/>
          </p:nvSpPr>
          <p:spPr>
            <a:xfrm>
              <a:off x="2960640" y="3352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9"/>
            <p:cNvSpPr/>
            <p:nvPr/>
          </p:nvSpPr>
          <p:spPr>
            <a:xfrm>
              <a:off x="3365640" y="3440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e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0"/>
          <p:cNvGrpSpPr/>
          <p:nvPr/>
        </p:nvGrpSpPr>
        <p:grpSpPr>
          <a:xfrm>
            <a:off x="5322960" y="3352680"/>
            <a:ext cx="1456200" cy="524520"/>
            <a:chOff x="5322960" y="3352680"/>
            <a:chExt cx="1456200" cy="524520"/>
          </a:xfrm>
        </p:grpSpPr>
        <p:sp>
          <p:nvSpPr>
            <p:cNvPr id="203" name="AutoShape 31"/>
            <p:cNvSpPr/>
            <p:nvPr/>
          </p:nvSpPr>
          <p:spPr>
            <a:xfrm>
              <a:off x="5322960" y="3352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2"/>
            <p:cNvSpPr/>
            <p:nvPr/>
          </p:nvSpPr>
          <p:spPr>
            <a:xfrm>
              <a:off x="5753520" y="3440520"/>
              <a:ext cx="5943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c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33"/>
          <p:cNvSpPr/>
          <p:nvPr/>
        </p:nvSpPr>
        <p:spPr>
          <a:xfrm>
            <a:off x="4408560" y="4260960"/>
            <a:ext cx="914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4"/>
          <p:cNvGrpSpPr/>
          <p:nvPr/>
        </p:nvGrpSpPr>
        <p:grpSpPr>
          <a:xfrm>
            <a:off x="2960640" y="3962520"/>
            <a:ext cx="1456560" cy="524520"/>
            <a:chOff x="2960640" y="3962520"/>
            <a:chExt cx="1456560" cy="524520"/>
          </a:xfrm>
        </p:grpSpPr>
        <p:sp>
          <p:nvSpPr>
            <p:cNvPr id="207" name="AutoShape 35"/>
            <p:cNvSpPr/>
            <p:nvPr/>
          </p:nvSpPr>
          <p:spPr>
            <a:xfrm>
              <a:off x="2960640" y="39625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6"/>
            <p:cNvSpPr/>
            <p:nvPr/>
          </p:nvSpPr>
          <p:spPr>
            <a:xfrm>
              <a:off x="3380040" y="4050360"/>
              <a:ext cx="620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7"/>
          <p:cNvGrpSpPr/>
          <p:nvPr/>
        </p:nvGrpSpPr>
        <p:grpSpPr>
          <a:xfrm>
            <a:off x="5322960" y="3962520"/>
            <a:ext cx="1456200" cy="524520"/>
            <a:chOff x="5322960" y="3962520"/>
            <a:chExt cx="1456200" cy="524520"/>
          </a:xfrm>
        </p:grpSpPr>
        <p:sp>
          <p:nvSpPr>
            <p:cNvPr id="210" name="AutoShape 38"/>
            <p:cNvSpPr/>
            <p:nvPr/>
          </p:nvSpPr>
          <p:spPr>
            <a:xfrm>
              <a:off x="5322960" y="396252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9"/>
            <p:cNvSpPr/>
            <p:nvPr/>
          </p:nvSpPr>
          <p:spPr>
            <a:xfrm>
              <a:off x="5437800" y="4050360"/>
              <a:ext cx="12261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RF (10 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914400" y="4800600"/>
            <a:ext cx="1456560" cy="829440"/>
            <a:chOff x="914400" y="4800600"/>
            <a:chExt cx="1456560" cy="829440"/>
          </a:xfrm>
        </p:grpSpPr>
        <p:sp>
          <p:nvSpPr>
            <p:cNvPr id="213" name="AutoShape 41"/>
            <p:cNvSpPr/>
            <p:nvPr/>
          </p:nvSpPr>
          <p:spPr>
            <a:xfrm>
              <a:off x="9144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2"/>
            <p:cNvSpPr/>
            <p:nvPr/>
          </p:nvSpPr>
          <p:spPr>
            <a:xfrm>
              <a:off x="1230120" y="5040000"/>
              <a:ext cx="82440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2503440" y="4800600"/>
            <a:ext cx="1456560" cy="829440"/>
            <a:chOff x="2503440" y="4800600"/>
            <a:chExt cx="1456560" cy="829440"/>
          </a:xfrm>
        </p:grpSpPr>
        <p:sp>
          <p:nvSpPr>
            <p:cNvPr id="216" name="AutoShape 44"/>
            <p:cNvSpPr/>
            <p:nvPr/>
          </p:nvSpPr>
          <p:spPr>
            <a:xfrm>
              <a:off x="250344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5"/>
            <p:cNvSpPr/>
            <p:nvPr/>
          </p:nvSpPr>
          <p:spPr>
            <a:xfrm>
              <a:off x="285660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T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6"/>
          <p:cNvGrpSpPr/>
          <p:nvPr/>
        </p:nvGrpSpPr>
        <p:grpSpPr>
          <a:xfrm>
            <a:off x="4114800" y="4800600"/>
            <a:ext cx="1456560" cy="829440"/>
            <a:chOff x="4114800" y="4800600"/>
            <a:chExt cx="1456560" cy="829440"/>
          </a:xfrm>
        </p:grpSpPr>
        <p:sp>
          <p:nvSpPr>
            <p:cNvPr id="219" name="AutoShape 47"/>
            <p:cNvSpPr/>
            <p:nvPr/>
          </p:nvSpPr>
          <p:spPr>
            <a:xfrm>
              <a:off x="41148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8"/>
            <p:cNvSpPr/>
            <p:nvPr/>
          </p:nvSpPr>
          <p:spPr>
            <a:xfrm>
              <a:off x="4493880" y="5040000"/>
              <a:ext cx="69804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F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5715000" y="4800600"/>
            <a:ext cx="1456560" cy="829440"/>
            <a:chOff x="5715000" y="4800600"/>
            <a:chExt cx="1456560" cy="829440"/>
          </a:xfrm>
        </p:grpSpPr>
        <p:sp>
          <p:nvSpPr>
            <p:cNvPr id="222" name="AutoShape 50"/>
            <p:cNvSpPr/>
            <p:nvPr/>
          </p:nvSpPr>
          <p:spPr>
            <a:xfrm>
              <a:off x="57150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1"/>
            <p:cNvSpPr/>
            <p:nvPr/>
          </p:nvSpPr>
          <p:spPr>
            <a:xfrm>
              <a:off x="606816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2"/>
          <p:cNvGrpSpPr/>
          <p:nvPr/>
        </p:nvGrpSpPr>
        <p:grpSpPr>
          <a:xfrm>
            <a:off x="7315200" y="4800600"/>
            <a:ext cx="1456560" cy="829440"/>
            <a:chOff x="7315200" y="4800600"/>
            <a:chExt cx="1456560" cy="829440"/>
          </a:xfrm>
        </p:grpSpPr>
        <p:sp>
          <p:nvSpPr>
            <p:cNvPr id="225" name="AutoShape 53"/>
            <p:cNvSpPr/>
            <p:nvPr/>
          </p:nvSpPr>
          <p:spPr>
            <a:xfrm>
              <a:off x="73152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4"/>
            <p:cNvSpPr/>
            <p:nvPr/>
          </p:nvSpPr>
          <p:spPr>
            <a:xfrm>
              <a:off x="7619400" y="5040000"/>
              <a:ext cx="8359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C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55"/>
          <p:cNvSpPr/>
          <p:nvPr/>
        </p:nvSpPr>
        <p:spPr>
          <a:xfrm flipH="1">
            <a:off x="1668600" y="4648320"/>
            <a:ext cx="6416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 flipV="1">
            <a:off x="168264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7"/>
          <p:cNvSpPr/>
          <p:nvPr/>
        </p:nvSpPr>
        <p:spPr>
          <a:xfrm flipV="1">
            <a:off x="64753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V="1">
            <a:off x="80755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32749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0"/>
          <p:cNvSpPr/>
          <p:nvPr/>
        </p:nvSpPr>
        <p:spPr>
          <a:xfrm flipV="1">
            <a:off x="1827360" y="199224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1"/>
          <p:cNvSpPr/>
          <p:nvPr/>
        </p:nvSpPr>
        <p:spPr>
          <a:xfrm flipV="1">
            <a:off x="8296200" y="20001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2"/>
          <p:cNvSpPr/>
          <p:nvPr/>
        </p:nvSpPr>
        <p:spPr>
          <a:xfrm>
            <a:off x="609480" y="5676840"/>
            <a:ext cx="2057400" cy="838440"/>
          </a:xfrm>
          <a:prstGeom prst="pi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3"/>
          <p:cNvSpPr/>
          <p:nvPr/>
        </p:nvSpPr>
        <p:spPr>
          <a:xfrm flipV="1">
            <a:off x="5891040" y="5490720"/>
            <a:ext cx="1800" cy="244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4"/>
          <p:cNvGrpSpPr/>
          <p:nvPr/>
        </p:nvGrpSpPr>
        <p:grpSpPr>
          <a:xfrm>
            <a:off x="914400" y="5791320"/>
            <a:ext cx="1456560" cy="524520"/>
            <a:chOff x="914400" y="5791320"/>
            <a:chExt cx="1456560" cy="524520"/>
          </a:xfrm>
        </p:grpSpPr>
        <p:sp>
          <p:nvSpPr>
            <p:cNvPr id="237" name="AutoShape 65"/>
            <p:cNvSpPr/>
            <p:nvPr/>
          </p:nvSpPr>
          <p:spPr>
            <a:xfrm>
              <a:off x="914400" y="57913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66"/>
            <p:cNvSpPr/>
            <p:nvPr/>
          </p:nvSpPr>
          <p:spPr>
            <a:xfrm>
              <a:off x="1319400" y="587916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a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67"/>
          <p:cNvSpPr/>
          <p:nvPr/>
        </p:nvSpPr>
        <p:spPr>
          <a:xfrm>
            <a:off x="2743200" y="5676840"/>
            <a:ext cx="6324480" cy="914400"/>
          </a:xfrm>
          <a:prstGeom prst="leftArrow">
            <a:avLst>
              <a:gd name="adj1" fmla="val 50000"/>
              <a:gd name="adj2" fmla="val 17291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8"/>
          <p:cNvSpPr/>
          <p:nvPr/>
        </p:nvSpPr>
        <p:spPr>
          <a:xfrm>
            <a:off x="3533760" y="5962680"/>
            <a:ext cx="5376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Coordinación-General de Atendimiento 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V="1">
            <a:off x="1674720" y="56307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0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C83571-B3E7-4041-9358-F6EA61E06DC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0" y="91440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331920" y="1434960"/>
            <a:ext cx="3621240" cy="3540960"/>
            <a:chOff x="331920" y="1434960"/>
            <a:chExt cx="3621240" cy="3540960"/>
          </a:xfrm>
        </p:grpSpPr>
        <p:pic>
          <p:nvPicPr>
            <p:cNvPr id="245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31920" y="1434960"/>
              <a:ext cx="3340080" cy="35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AutoShape 4"/>
            <p:cNvSpPr/>
            <p:nvPr/>
          </p:nvSpPr>
          <p:spPr>
            <a:xfrm>
              <a:off x="3018960" y="1981800"/>
              <a:ext cx="934200" cy="9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3198960" y="2476440"/>
              <a:ext cx="0" cy="37080"/>
            </a:xfrm>
            <a:prstGeom prst="line">
              <a:avLst/>
            </a:prstGeom>
            <a:ln w="12600">
              <a:solidFill>
                <a:srgbClr val="5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>
              <a:off x="1213920" y="1955880"/>
              <a:ext cx="66708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>
              <a:off x="2545920" y="2094120"/>
              <a:ext cx="652680" cy="57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2748960" y="28569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9"/>
            <p:cNvSpPr/>
            <p:nvPr/>
          </p:nvSpPr>
          <p:spPr>
            <a:xfrm>
              <a:off x="2647440" y="347868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"/>
            <p:cNvSpPr/>
            <p:nvPr/>
          </p:nvSpPr>
          <p:spPr>
            <a:xfrm>
              <a:off x="2302200" y="37695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2020680" y="397404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"/>
            <p:cNvSpPr/>
            <p:nvPr/>
          </p:nvSpPr>
          <p:spPr>
            <a:xfrm>
              <a:off x="1829160" y="4457520"/>
              <a:ext cx="4467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3"/>
            <p:cNvSpPr/>
            <p:nvPr/>
          </p:nvSpPr>
          <p:spPr>
            <a:xfrm>
              <a:off x="1727640" y="2972160"/>
              <a:ext cx="66420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3071160" y="3769560"/>
              <a:ext cx="330480" cy="33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15"/>
          <p:cNvSpPr/>
          <p:nvPr/>
        </p:nvSpPr>
        <p:spPr>
          <a:xfrm>
            <a:off x="4334040" y="1638360"/>
            <a:ext cx="4132080" cy="1104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" sz="22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perintendenci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visión de Interacción con el Ciudadano - Div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084480" y="4349880"/>
            <a:ext cx="5678640" cy="1130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nidades Lo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Representante Local de 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486400" y="912960"/>
            <a:ext cx="32767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2533680" y="0"/>
            <a:ext cx="9180360" cy="143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Educación Fiscal en las Unidades Ope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0D411D-88A8-4B92-9FD3-9B3944FFF03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4EE31F-87C1-4F28-81F0-7C5985213DA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2192400" y="517680"/>
            <a:ext cx="77724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2929a3"/>
                </a:solidFill>
                <a:latin typeface="Arial"/>
                <a:ea typeface="Arial"/>
              </a:rPr>
              <a:t>Papel da Educação Fiscal na R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pasted-image.jpg"/>
          <p:cNvPicPr/>
          <p:nvPr/>
        </p:nvPicPr>
        <p:blipFill>
          <a:blip r:embed="rId1"/>
          <a:stretch/>
        </p:blipFill>
        <p:spPr>
          <a:xfrm>
            <a:off x="0" y="0"/>
            <a:ext cx="2670120" cy="19861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"/>
          <p:cNvSpPr/>
          <p:nvPr/>
        </p:nvSpPr>
        <p:spPr>
          <a:xfrm>
            <a:off x="687240" y="2298600"/>
            <a:ext cx="7999560" cy="91440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rmonizar la relación de la Administración Tributaria con el Contrib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1636560" y="3800520"/>
            <a:ext cx="7299360" cy="19684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egitimación de la tribut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sistencia (Orientación y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5A6BF8-058B-4D82-AA6E-1BBBEA5C279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image.png"/>
          <p:cNvPicPr/>
          <p:nvPr/>
        </p:nvPicPr>
        <p:blipFill>
          <a:blip r:embed="rId1"/>
          <a:stretch/>
        </p:blipFill>
        <p:spPr>
          <a:xfrm>
            <a:off x="252360" y="2357280"/>
            <a:ext cx="4257720" cy="381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image.png"/>
          <p:cNvPicPr/>
          <p:nvPr/>
        </p:nvPicPr>
        <p:blipFill>
          <a:blip r:embed="rId2"/>
          <a:stretch/>
        </p:blipFill>
        <p:spPr>
          <a:xfrm>
            <a:off x="4570560" y="1638360"/>
            <a:ext cx="4346280" cy="36273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4"/>
          <p:cNvSpPr/>
          <p:nvPr/>
        </p:nvSpPr>
        <p:spPr>
          <a:xfrm>
            <a:off x="2381400" y="304920"/>
            <a:ext cx="6456240" cy="76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La complejidad del sistema tributario y el acceso a orient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pasted-image.jpg"/>
          <p:cNvPicPr/>
          <p:nvPr/>
        </p:nvPicPr>
        <p:blipFill>
          <a:blip r:embed="rId3"/>
          <a:stretch/>
        </p:blipFill>
        <p:spPr>
          <a:xfrm>
            <a:off x="0" y="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94760" y="2163240"/>
            <a:ext cx="8751960" cy="421020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</a:rPr>
              <a:t>                        </a:t>
            </a: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Portaria RFB nº 896/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sciplina las actividades de EF en la Receita Feder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 u="sng">
                <a:solidFill>
                  <a:srgbClr val="f5f5f5"/>
                </a:solidFill>
                <a:uFillTx/>
                <a:latin typeface="Times New Roman"/>
              </a:rPr>
              <a:t>Finalidade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: aumentar el cumplimiento voluntario de las obligaciones fiscales y aduaneras, promover la aceptación social de la tributación y el desarrollo de la moral fisc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rigido a: estudiantes y ciudadanos en general, especialmente los universitarios, sino que también se aplica a los funcionarios públicos, los contadores y intervenientes aduaner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3135240" y="685800"/>
            <a:ext cx="5668920" cy="888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rectrices de la Educación Fiscal en la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ED252-A3B6-4084-BC1A-09FC49CCD5F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asted-image.jpg"/>
          <p:cNvPicPr/>
          <p:nvPr/>
        </p:nvPicPr>
        <p:blipFill>
          <a:blip r:embed="rId1"/>
          <a:stretch/>
        </p:blipFill>
        <p:spPr>
          <a:xfrm>
            <a:off x="330120" y="466560"/>
            <a:ext cx="2411640" cy="13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0800" y="112680"/>
            <a:ext cx="39690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Algunas Directri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0000" y="1149480"/>
            <a:ext cx="8961480" cy="516888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Aclarar la sociedad y desarrollar su conciencia crítica con respecto a sus derechos y deberes con un enfoque en la función económico-social del control fiscal y social del gasto público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Promover la orientación tributaria y aduaner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Llevar a los ciudadanos los conocimentos acerca del funcionamiento de la Receita Federal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Mejorar la comunicación corporativa con el fin de mejorar la transparencia de la administración tributar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Contribuir al desarrollo del servidor de RFB, en busca de la realización de los valores de respeto a los ciudadanos, la integridad, la lealtad a la institución, la legalidad, la profesionalidad y transparenc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Dar a conocer la posibilidad de asignación de la parte deducible del impuestos diversos fon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A686A6-AB82-4297-9CBB-83DF356DC9F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asted-image.jpg"/>
          <p:cNvPicPr/>
          <p:nvPr/>
        </p:nvPicPr>
        <p:blipFill>
          <a:blip r:embed="rId1"/>
          <a:stretch/>
        </p:blipFill>
        <p:spPr>
          <a:xfrm>
            <a:off x="495360" y="112680"/>
            <a:ext cx="137628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10-18T09:28:48Z</dcterms:modified>
  <cp:revision>1</cp:revision>
  <dc:subject/>
  <dc:title>Diapositiva 1</dc:title>
</cp:coreProperties>
</file>