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C2B0-ACAD-401D-8579-FFD08312BC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7024-D62B-41E7-AA19-E80E27758E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75BE-1D55-4401-A218-3D82980D79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3E6E-06C7-4C6E-B04C-DFB336C2F2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8C8B-DFB9-4651-8006-9EB2D190EAF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0922-CF9C-413E-A95C-2CABE65A40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ADA5-4F27-4989-A558-A85F2B7FD37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030-941B-4C3C-8F22-4CDFD6A2FC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12C6-7A5B-424D-BC71-FD84A58140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D298-F27E-47FF-9438-8B840543F2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EDEF-5905-458C-A8C4-047EF56B22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A7A7-B5B4-43C6-BB8E-7B74650660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EDFE-3A48-4386-B783-7656157632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66A5-0566-4618-8551-892659EE56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242F-9A16-43FF-A526-9F18624063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463F-753D-47B7-ADFC-288C26E3F0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79C3-674E-44D2-83F1-19356ED38D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0D52-D41E-4F66-873B-C2DA9F7780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2E2D-C6C0-42E7-8DA9-D8A5D6236F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A455-3480-41FC-9FD7-53FCC50CDA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9C85-65B5-436D-B589-E41E465F9C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DB9F-EB23-4741-AA7B-D6D8C36B75B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AD2B-8C05-4060-92E0-FC25DAEEC2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FB78-B047-4D50-A7CC-DB10FE41A6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impressionante..dimensões cósmicas de tempo e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4F1B-0D20-43D5-8566-B523F703C8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F420-C987-4320-B702-DD5DE805097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6DB2-2533-492B-8C95-9F157A3F76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F364-6538-4535-A8B3-633D784F25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5B70-D54D-4ED1-84F5-5FBEA06A4D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BCC0-470E-4D84-9785-753197F319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2A6A-5CAB-49E0-83F9-A80BCCAE5D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5289-E8BF-4B67-B159-27E12CC5CB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2C47-EE22-4CAB-8437-470165CED8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2EF9-0D36-46D3-B194-7484B7E3354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A563-C664-467D-AD2F-354265993B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dor : agente de trans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F3C4-C4CA-4AC5-9815-65AEC9E62A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71EB-063A-4C94-90FA-C9D2477870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dor : agente de trans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8A0C-309B-4CB2-996F-111A12CE1C5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D73C-A9A3-4390-9094-BFE967C11A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impressionante..dimensões cósmicas de tempo e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D64B-C82E-49A4-82CC-FCB5DE85E7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69E2-C9E8-4741-BADD-6229102AA4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B9A9-F0F2-40A6-A3DE-5A9F44F5B7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46A6-B8C8-4A56-9BF7-D96DC7DEB8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g1.globo.com/rs/rio-grande-do-sul/rbs-noticias/videos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g1.globo.com/rs/rio-grande-do-sul/rbs-noticias/videos/t/passo-fundo/v/termina-no-fim-de-abril-o-prazo-para-declaracao-do-imposto-de-renda/2513896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erparacrescer.folhadaregiao.com.br/2011_10_01_archiv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operacaovirtual.blogspot.com/" TargetMode="External"/><Relationship Id="rId2" Type="http://schemas.openxmlformats.org/officeDocument/2006/relationships/hyperlink" Target="http://coworking-farialima.com.br/2011/04/coworking-colaboracao-nao-e-apenas-reducao-de-custo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"/>
          <p:cNvSpPr/>
          <p:nvPr/>
        </p:nvSpPr>
        <p:spPr>
          <a:xfrm>
            <a:off x="4191120" y="266688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ucleos de Apoyo Contable y Fisca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(NAF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505320" y="4495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cación Tributária y Ciudadania en la valorización del futuro Contad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3376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289548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2209680" y="12193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6781680" y="1066680"/>
            <a:ext cx="1352520" cy="1752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9907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ucleos de Práctica Jurídica – en Brasil (SAJ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04920" y="40384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Formación practica del abogad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ociedad Civil Organiz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ucceso del SAJU – más de 60 años in algunos casos!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ituación hoy: Obrigatoriedad legal; diferentes formas de organizac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7929720" cy="436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e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EU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ax Cli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Brasileñ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A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ario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ociedad Civil Organ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poyo de instituiciones: RFB, CFC/CRC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209680" y="304920"/>
            <a:ext cx="5867280" cy="1600200"/>
            <a:chOff x="2209680" y="304920"/>
            <a:chExt cx="5867280" cy="1600200"/>
          </a:xfrm>
        </p:grpSpPr>
        <p:grpSp>
          <p:nvGrpSpPr>
            <p:cNvPr id="103" name="Group 4"/>
            <p:cNvGrpSpPr/>
            <p:nvPr/>
          </p:nvGrpSpPr>
          <p:grpSpPr>
            <a:xfrm>
              <a:off x="2209680" y="304920"/>
              <a:ext cx="5867280" cy="1600200"/>
              <a:chOff x="2209680" y="304920"/>
              <a:chExt cx="5867280" cy="1600200"/>
            </a:xfrm>
          </p:grpSpPr>
          <p:sp>
            <p:nvSpPr>
              <p:cNvPr id="104" name="Text Box 5"/>
              <p:cNvSpPr/>
              <p:nvPr/>
            </p:nvSpPr>
            <p:spPr>
              <a:xfrm>
                <a:off x="2285640" y="381240"/>
                <a:ext cx="38102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Talleres de práctica jurídica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6"/>
              <p:cNvSpPr/>
              <p:nvPr/>
            </p:nvSpPr>
            <p:spPr>
              <a:xfrm>
                <a:off x="2209680" y="129564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2209680" y="30492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8"/>
              <p:cNvSpPr/>
              <p:nvPr/>
            </p:nvSpPr>
            <p:spPr>
              <a:xfrm>
                <a:off x="6705360" y="381240"/>
                <a:ext cx="152280" cy="14475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7440 h 1447560"/>
                  <a:gd name="textAreaBottom" fmla="*/ 14101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9"/>
              <p:cNvSpPr/>
              <p:nvPr/>
            </p:nvSpPr>
            <p:spPr>
              <a:xfrm>
                <a:off x="7010280" y="914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= NA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Text Box 10"/>
            <p:cNvSpPr/>
            <p:nvPr/>
          </p:nvSpPr>
          <p:spPr>
            <a:xfrm>
              <a:off x="2362320" y="129564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ow Income Tax Payer Clinic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11"/>
          <p:cNvSpPr/>
          <p:nvPr/>
        </p:nvSpPr>
        <p:spPr>
          <a:xfrm>
            <a:off x="762120" y="380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JU </a:t>
            </a:r>
            <a:r>
              <a:rPr b="1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621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LITC </a:t>
            </a:r>
            <a:r>
              <a:rPr b="1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9810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pectos Teó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és el objetivo de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oyo a los menos favorecid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oyar las personas com basos ingresos (PF o PJ) o el público interno de las universidades em questiones contables, financeras o tributári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ntro de difusión del conocimiento fiscal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uar como centro de aprendizaje de los alumnos a través de discusiones, preparación de palestras, grupos de estudios, entreinamentos, etc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el referencial  de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és totalmente similar al modelo de l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lleres de Práctica Jurídica (SAJUs)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a universita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raestructura mínima fornecida por la universidad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volvimiento de los alumno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éditos complementares, disciplina opcional/obrigatória, voluntariado, etc.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frent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1)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ndimiento/orientación del contribuabl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(2)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de estudios de alumnos y professor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m lo último, atuación también a través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lestra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tividades voluntárias, etc. (obs: tópicos libr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uentros regular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 la Administración Tributaria (AT) para entrenar y acompañar el desarrojo de los alumnos y apoyar los orientadore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</a:t>
            </a:r>
            <a:r>
              <a:rPr b="1" lang="pt-B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um posto de atendimento da RFB. (Da mesma forma que os SAJU não substituem os atendimentos prestados por el poder judiciário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um substituto para os escritórios de contabilidade ou para assessoria prestada pelos contabilistas a várias matérias. (Da mesma forma que os SAJU não substituem os escritórios de advocaci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um convênio oficial entre a RFB e a IES. (Da mesma forma que o SAJU não é um convênio entre a IES e a OAB, p.ex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La iniciativa existe en otros pais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situaciones similares en algunos paises, pero la experiencia de los NAF és única y inovadora, porque tiene los elementos de ciudadania y de gestión del conocimiento fiscal para los univers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el proyecto tiene una flexibilidad que lo permite ser apoyada por más de un órgão de las administraciones tributarias o por cualquier entidad civ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Só as faculdades de contábeis possuem NAFs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quanto às escolas técnic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restriciones, todavia el proyeto fue idealizado para valorizar el futuro profissional contador o el despachante adua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son la “Ponte de Oro entre la Receita Federal y el Contribuyent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 12.249 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fin” del “técnico contable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el público-alv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umno és el favorecido principal. El tiene la oportunidade de vivir una formación diferenciada a través del conocimiento del Fisco, de lo trabajo voluntario, de la aprendizaje en los grupos de estudio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úblico em la comunidad varia. También varia la forma de interación com la comun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 loc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x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es 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pas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x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at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isitas a uma comunidad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sa ultima tem se mostrado mais efetiva no inicio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también un publico “cativo” dentro de las universidades: diretorios acadêmicos, servidores com basos ingresos, pex. limpeza, vigilancia etc.)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NAF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spectos Prá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Pl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38080" y="1828800"/>
            <a:ext cx="76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Contexto e surgimento da idé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Teóric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Prátic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desarollar nuevos nucle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a única estrategia. Mismo porque los NAF son una iniciativa de la sociedad civil organizada y tiene por su base la autonomia universitar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via, notamos que dos abordajes fueran cruciales para el rápido desarollo de la idéia desde el primer NAF en Porto Alegre, em 04 abr 1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iorizamos el contacto con faculdades menore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as tienen mayor interés em lo diferencial que la proposta puede ofertar a los alumnos. Tienen mayor agilidad em la implementación de projetos y en su modificación. (Ex: Faculdade São Judas Tadeu, que há creado una disciplina opcion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puntamos desde el inicio nuestra posición de apoyadore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ctuamos a través de palestras em las faculdades y em las unidades de la AT; Incentivamos la visitacion de los alumnos a las nossas unidades de la AT (“Conociendo el León por Dentro”); Los “Termos de Cooperación” son sin formalidades (por veces no hay termo escrito al empezar!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algun convenio modelo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Como proceder por el primer contacto com la Univers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o solo modelo de convenio o de procedimiento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se és la simplicidade de la abordaje y la autonomia universitária, pero hacemos una cerimonia de abertura o aula inaugural, norm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s primeiros contatos são bastante informal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com algunas visitas a universidad para cambio de ideas y exposición del proye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atizamos la importancia para la formación del futuro contad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altamos los varios aspectos positivos para la universidad, la AT, la comunidad y para los alumnos en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bramos que la universidad és libre para crear ideas y novidades en el proyecto; ella tiene un papel activo (Ex: proyecto de minipalestras de los alumno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mantener los nucleos activ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i también no hay una única estrateg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sugerencias 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Mantener el contacto.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char professores e alum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Mantener uma rotina de palestras e visitas a 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rear una red de coordenaores de cursos e miembros de la A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traer otros participantes: Fisco Estadual, Associación de Contadores, Tallejeres de Contabilidad, Empresas de auditoria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antas personas hay que tenerse para apoyar el projecto? ¿Cuál es el impacto en el trabajo de la Un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la unidade de la AT posee un/a servidor/a que sirve de conexión com la univer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alestras spueden ser produzidas por los colegas de especializados. Los temas abordados incluien: (a) sitio de la AT, (b) Cadastros (c) MEI, (d) Impuesto sobre las Rendas (e) Processo Admin. Tribu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impacto horas-hombre és peque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impacto en el corto prazo?  ¿Cómo medir el resultado de la iniciativ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AF no és uma iniciativa de corto prazo. No és la solución para problemas de atendimiento, mismo porque la At no le gerencia verticalmente. El és más similar a un proyecto en réd (para la difusion del conocimiento contable/fisc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mos tener cuidado con el uso precoce d eindicadores. Acompanhar, todavia, los alumnos, profesore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lvidarse!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mos en um proceso historico, construiendo  una revolución em la enseñanza contable e fisca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uedo divulgar o serviço nos CAC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impedimento, en principio. Todavia no lo hemos hecho para dar a los NAF más tiempo para organizarense mej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373392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problemas com las Associaciónes de Contadores? </a:t>
            </a:r>
            <a:br>
              <a:rPr sz="44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porque la division és clara: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ción o atendimiento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simple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estudio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más complejo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371600" y="762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isita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209680" y="914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52280" y="5562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83808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90512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rupos de estudio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959D-C525-4C6C-8A75-74EA7389286C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Dedica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362320" cy="1962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2395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3048120" y="3581280"/>
            <a:ext cx="300492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B878-86BC-49BC-A213-1323E5727A80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42223" t="32223" r="9445" b="31560"/>
          <a:stretch/>
        </p:blipFill>
        <p:spPr>
          <a:xfrm>
            <a:off x="533520" y="533520"/>
            <a:ext cx="5715000" cy="2676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0" y="3429000"/>
            <a:ext cx="5410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 Narrow"/>
              </a:rPr>
              <a:t>Fonte: Jornal do Comércio 2/mai/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895480" y="4800600"/>
            <a:ext cx="556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rmina no fim de abril o prazo para declaração do imposto de renda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RBS Notíci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4952880"/>
            <a:ext cx="868320" cy="5828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3124080" y="5867280"/>
            <a:ext cx="54104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ccccff"/>
                </a:solidFill>
                <a:uFillTx/>
                <a:latin typeface="Arial Narrow"/>
                <a:hlinkClick r:id="rId4"/>
              </a:rPr>
              <a:t>Vídeo: Globo – G1  11 abril 20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0B2B-60DD-4ED0-AAA4-F4CB1BB09A23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480" y="182160"/>
            <a:ext cx="87202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Facebook: Núcleos de Apoio Contábil e Fis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800600" cy="4240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09480" y="6324480"/>
            <a:ext cx="769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uente: 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erparacrescer.folhadaregiao.com.br/2011_10_01_archive.html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. Acceso en el 30.10.12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371600" y="304920"/>
            <a:ext cx="6705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Inovación - Complexid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409760" y="628560"/>
            <a:ext cx="6324480" cy="5743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2209680" y="41911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pin-offs (ideas generadas.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endimiento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yuda al FUNCRI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icia em jui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aboración com las “EmpresasJr.” e los “SAJU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xilio a ar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ción en otros proytos de la AT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“Conheça nossa aduana”, “Cidadania em cartaz”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rincipales problemas hasta ho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esafios están asociados a la novidad de la inici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universidades tienen realidades distinctas, públicos distin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í a necessidade de não apresentar uma fórmula pro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ocracia nas universidades (may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ario para las palestras aos alunos – à la noche, p.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idad del contacto Univ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l de comunicación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stión del Conocomoento em red!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2FC-CB92-4BE3-BD2E-7819BE8B6E0E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lgunos números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26 NAF op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dicación de los alumnos y profes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 de trabajo con el EURO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is de 300 pessoas envol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tros apoyadores (CFC, SEFAZ, et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mplo espacio en las midias y reds so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CCs – Cecília Bauer,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uego: III ENAF RS (Encuentro de los NAF de 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remios: AMBEV – NAF Caduceu Jr – Santa 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8426-BDC1-44E8-85A4-D8313A353367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NAF – 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ros estados ... Otros paise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NAF Nacional ...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nsificación de los treina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mpliación de la creación academica com el AT: más TCCs, más palest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6960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lguns homens vêem as coisas como são e perguntam: “Por quê?”. </a:t>
            </a:r>
            <a:br>
              <a:rPr sz="3200"/>
            </a:b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Eu sonho com as coisas que 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nunca existiram e pergunto: 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“Por que nã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95280" y="5486040"/>
            <a:ext cx="6096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514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1722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ante, no hay camiño.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o se hace al camiñ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5640" y="4642920"/>
            <a:ext cx="6095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Antonio Mach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rigado!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uchas Gracia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.peres@receita.fazenda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bperes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orzas y Fraquez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ntador hoy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786120" y="2786040"/>
            <a:ext cx="1254240" cy="2095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6629400" y="1600200"/>
            <a:ext cx="2133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F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P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V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BRAC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C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Tri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7200" y="2209680"/>
            <a:ext cx="2057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ionis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638680" y="3505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90920" y="35053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14600" y="5715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89548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ASB, FASB, IFRS, 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4419720" y="52578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23623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53341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038480" y="4952880"/>
            <a:ext cx="990720" cy="83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aixaDeTexto 15"/>
          <p:cNvSpPr/>
          <p:nvPr/>
        </p:nvSpPr>
        <p:spPr>
          <a:xfrm>
            <a:off x="2819520" y="11430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lobalización, Sustentabilidad, 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3929040" y="2071800"/>
            <a:ext cx="99072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eta para cima 18"/>
          <p:cNvSpPr/>
          <p:nvPr/>
        </p:nvSpPr>
        <p:spPr>
          <a:xfrm>
            <a:off x="4357800" y="2357280"/>
            <a:ext cx="214200" cy="357480"/>
          </a:xfrm>
          <a:prstGeom prst="upArrow">
            <a:avLst>
              <a:gd name="adj1" fmla="val 50000"/>
              <a:gd name="adj2" fmla="val 500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Pequeño contribuable hoy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254240" cy="2095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629400" y="1600200"/>
            <a:ext cx="251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nc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lic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omber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Tributar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57200" y="2209680"/>
            <a:ext cx="2057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ionis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638680" y="3505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590920" y="35053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514600" y="5715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23623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53341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aixaDeTexto 15"/>
          <p:cNvSpPr/>
          <p:nvPr/>
        </p:nvSpPr>
        <p:spPr>
          <a:xfrm>
            <a:off x="3048120" y="13716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lobalización, Sustentabilidad, 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962520" y="2209680"/>
            <a:ext cx="990360" cy="83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eta para cima 18"/>
          <p:cNvSpPr/>
          <p:nvPr/>
        </p:nvSpPr>
        <p:spPr>
          <a:xfrm>
            <a:off x="4343400" y="2514600"/>
            <a:ext cx="214200" cy="35712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6324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Fuente: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ooperacaovirtual.blogspot.com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 y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coworking-farialima.com.br/2011/04/coworking-colaboracao-nao-e-apenas-reducao-de-custo/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. Acesso: 30.10.12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819520" y="304920"/>
            <a:ext cx="396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3000240" y="2382840"/>
            <a:ext cx="31435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000240" y="2382840"/>
            <a:ext cx="31435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209680" y="3886200"/>
            <a:ext cx="3062520" cy="229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85800" y="1219320"/>
            <a:ext cx="3581280" cy="23828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8"/>
          <p:cNvGrpSpPr/>
          <p:nvPr/>
        </p:nvGrpSpPr>
        <p:grpSpPr>
          <a:xfrm>
            <a:off x="5791320" y="1600200"/>
            <a:ext cx="2743200" cy="2075040"/>
            <a:chOff x="5791320" y="1600200"/>
            <a:chExt cx="2743200" cy="2075040"/>
          </a:xfrm>
        </p:grpSpPr>
        <p:sp>
          <p:nvSpPr>
            <p:cNvPr id="87" name="Text Box 9"/>
            <p:cNvSpPr/>
            <p:nvPr/>
          </p:nvSpPr>
          <p:spPr>
            <a:xfrm>
              <a:off x="5791320" y="3398760"/>
              <a:ext cx="274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Fuente: lucianaduarte.org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10" descr=""/>
            <p:cNvPicPr/>
            <p:nvPr/>
          </p:nvPicPr>
          <p:blipFill>
            <a:blip r:embed="rId5"/>
            <a:stretch/>
          </p:blipFill>
          <p:spPr>
            <a:xfrm>
              <a:off x="5822640" y="1600200"/>
              <a:ext cx="2641680" cy="174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Nuevos Paradigmas –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Receita Fed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mples Nacional y M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edes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uevo modelo de atendimento (Apps, e-CAC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stema Público de Escrituração Digital (S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-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grama Nacional de Educación Fiscal (PN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bservatorios Sociales (control del gasto pub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ucleos de Apoyo Contable y Fiscal (N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" y="5029200"/>
            <a:ext cx="8153280" cy="6094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é és?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Cómo surgi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098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981080" y="7621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Low Income Taxpayer Clinics  (I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26:36Z</dcterms:created>
  <dc:creator>Receita Federal</dc:creator>
  <dc:description/>
  <dc:language>en-US</dc:language>
  <cp:lastModifiedBy> </cp:lastModifiedBy>
  <dcterms:modified xsi:type="dcterms:W3CDTF">2013-10-18T08:59:00Z</dcterms:modified>
  <cp:revision>44</cp:revision>
  <dc:subject/>
  <dc:title>Apresentação do PowerPoint</dc:title>
</cp:coreProperties>
</file>