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27.jpeg" ContentType="image/jpeg"/>
  <Override PartName="/ppt/media/image10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F9C-70E6-4972-B5BF-7BF33E4488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7F96-8AC0-44FD-9049-00BA800EEA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AF8-4F0C-4057-B867-D451767C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C20-94A9-4CF8-B75A-B04D45A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DD4-C143-4156-9EEB-076C4CE4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527-2834-497C-AB0C-A0737B19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A6A7-243A-4F25-92A0-ADB5EAC2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C0D8-AAA8-4AC0-9F9F-0125BC8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0CB2-473E-4AC5-AE10-7EF996B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0D87-8423-40DF-8160-89D0CEA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594F-F960-4E17-A0F7-C06CB51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A4CC-CE6A-480B-9944-066D7D8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D39-0F01-4910-AB49-2FD13A7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590-F8AE-4882-A362-FC3CD8E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A480-C3C3-4BF1-95D0-C034ABF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444-AB6D-4152-ADD3-6D2F737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2964-B0AD-495A-9818-E4012517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B6F-ECFF-423F-8EE9-362C3B4E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779A-0245-4F4F-8DA4-0BBC136D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CDA7-8ACB-4A96-AA90-37A534D3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F2F8-B15F-4AB4-9D87-87733F1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267B-631E-463B-BE17-DC0F7333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BD02-5FBD-44B9-A377-FE7A016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2B06-F6F8-4CD4-8522-7B4D7A01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19B-28F3-4F78-B39E-409CBB0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6DA9-86D6-4BA5-83A5-B6321484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5E88-2D1F-49AE-A4CE-593E7F8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85B3-3471-4497-9AEF-0B76370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07E1-F3FA-467B-96B0-9152961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C8E8-FCAC-44E7-81FC-C7549220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59DD-9EAA-411B-A455-5AA1573D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D29B-5311-4AC2-892E-F3322902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B2D8-FDC6-45DC-BE19-F9A9E67D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723C-021F-453B-B5B6-6DDA951A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A225-A81A-4487-9DB2-BCC537AA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12B-1A6F-4E91-9894-ADBF7F17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8AE7-334E-4E96-AAD7-B40A086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76D58-E92C-4702-B6A1-E258082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BD44-0D55-4E62-8EE6-296DB950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B18C-46D5-44BE-AB69-2F255A70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4568-C5B5-494C-B719-AA1FFD2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D1DF-FAE5-4D53-9695-A955E6E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C5FD-54ED-4872-944A-706CCC73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7104-22B4-4B5A-8F15-1E611452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9DA0-42B1-4BF1-B1ED-84A76F40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6924-50AD-4D8B-A08A-2B6BB9B9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CBF-9C61-47D1-82F1-1CF0367D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8B860-110D-4027-B1B1-B966332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0A74-D965-4786-8830-BD31A34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98554-246C-4901-87A9-62AF0BA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6A05-23CB-4416-B9C1-5C3F784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FFE66-22AE-4903-8499-AF140178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1C88-6A88-4374-BBE6-DB544C4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547C3-764B-4064-AE10-878603CE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5F35-33F6-4DB2-88A3-6560A19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6D68-5620-4425-B94E-18A22086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0598-CDA4-42BA-81A3-D7B0C44C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09D-1712-4380-B733-386F69AC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6CAD9-922A-4222-B683-6BB3F1CC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2661-56B7-4DB4-A750-A26697C8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DFDB9-CD79-47CD-B185-3CC48576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9A11-F1D2-421C-A1AC-D4BED70F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4DB9-EB24-47BF-8125-A132679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5BCE-2F9B-4451-8317-BC71BCF3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DBEC-526C-463F-892D-B280B6A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9873-BB35-49BE-B2ED-913A120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A769-BBFE-42B6-8DE1-68A0D59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8E19-629A-42C7-B8F2-AD7AC670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E4B-7893-4025-970E-0D3A8A2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F817-C950-4D64-B85C-80C2B470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87EE-0101-4C96-A55C-5D2A2D95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F3F2-847E-466C-BEC8-85CDE014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8C78-F078-4B40-860B-6D363E43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5AF82-98B0-46CE-8B6F-F4C2612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E7DF-5DED-47F8-A40D-F9F6CAE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20DC-CADD-4D16-A944-147859C2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384C8-2BBF-4BD8-9D47-1B60EFF3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2772-71DA-4C3B-837D-444561B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E8B5-1DD2-496D-AA81-24F1165F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24A-C3FB-4058-8B67-D1C20AC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81F6-D706-4BEC-92F5-E2D6329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DDA6-3345-4556-A750-35862E7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53EF-ACFF-4B16-8953-D6A490CC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D008-29B8-4465-BADF-C58B1E5B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AD3F-7FEC-48BA-96DF-9BEF88FE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B096-B46B-474B-9661-76AFC51F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5F9E-D1DA-4258-AFFA-36ADE99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CC08C-1303-4391-80ED-0A780C25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7354-BD4E-47B7-A5FF-9CD3C876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4E9FA-9BC3-47DC-AB75-3E49E2CD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439-DF0F-40EF-84A6-857AD5C4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2E9F-D99D-498D-96C0-F3B7CF6B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DD4CF-3833-4B59-AA9C-8C02546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68042-EA6F-421B-AB3A-9E3C10F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1DA0C-B6CB-4587-8D3C-A7D0D624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DAFE-5185-42D6-9CE9-D776CC0E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78D4B-EDCD-4041-B739-8F34B034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8BA88-6268-4B16-8A55-1CD1C105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1EA-39A9-4C4C-AA98-F7DB0B6A113B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7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0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0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11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B830-CAFC-4E0A-BA61-32E57B138CE0}" type="slidenum">
              <a:rPr b="0" lang="es-C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6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B29E-85A1-49A0-A3C1-42B46BD02393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877F-C4FD-4FA2-A09C-6CD9BC3ABC7D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A5AD-5C64-4DF4-A5E5-C84F188E4E84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104-328F-430D-B478-35B43E49EEEF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10B-CBDF-4A95-AF1B-DE6C68A003C3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7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8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9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9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0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1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2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7480-3322-4EFA-A23E-9EB4495F5EC9}" type="slidenum">
              <a:rPr b="0" lang="es-C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499760" y="2214720"/>
            <a:ext cx="6529320" cy="25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464646"/>
                </a:solidFill>
                <a:latin typeface="Lucida Sans Unicode"/>
              </a:rPr>
              <a:t>Núcleos de Asistencia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3 Imagen" descr="logo-ef-crok-azul-3.gif"/>
          <p:cNvPicPr/>
          <p:nvPr/>
        </p:nvPicPr>
        <p:blipFill>
          <a:blip r:embed="rId1"/>
          <a:stretch/>
        </p:blipFill>
        <p:spPr>
          <a:xfrm>
            <a:off x="7286760" y="357120"/>
            <a:ext cx="1276200" cy="1093680"/>
          </a:xfrm>
          <a:prstGeom prst="rect">
            <a:avLst/>
          </a:prstGeom>
          <a:ln w="0">
            <a:noFill/>
          </a:ln>
        </p:spPr>
      </p:pic>
      <p:pic>
        <p:nvPicPr>
          <p:cNvPr id="379" name="7 Imagen" descr="Logo MEP.png"/>
          <p:cNvPicPr/>
          <p:nvPr/>
        </p:nvPicPr>
        <p:blipFill>
          <a:blip r:embed="rId2"/>
          <a:stretch/>
        </p:blipFill>
        <p:spPr>
          <a:xfrm>
            <a:off x="3059280" y="6000840"/>
            <a:ext cx="792000" cy="668160"/>
          </a:xfrm>
          <a:prstGeom prst="rect">
            <a:avLst/>
          </a:prstGeom>
          <a:ln w="0">
            <a:noFill/>
          </a:ln>
        </p:spPr>
      </p:pic>
      <p:sp>
        <p:nvSpPr>
          <p:cNvPr id="380" name="9 CuadroTexto"/>
          <p:cNvSpPr/>
          <p:nvPr/>
        </p:nvSpPr>
        <p:spPr>
          <a:xfrm>
            <a:off x="4786200" y="607212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Lucida Sans Unicode"/>
              </a:rPr>
              <a:t>Antigua-Guatem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10 Grupo"/>
          <p:cNvGrpSpPr/>
          <p:nvPr/>
        </p:nvGrpSpPr>
        <p:grpSpPr>
          <a:xfrm>
            <a:off x="250920" y="5929200"/>
            <a:ext cx="2665440" cy="747720"/>
            <a:chOff x="250920" y="5929200"/>
            <a:chExt cx="2665440" cy="747720"/>
          </a:xfrm>
        </p:grpSpPr>
        <p:pic>
          <p:nvPicPr>
            <p:cNvPr id="382" name="0 Imagen" descr="Logo EUROsociAL jpg.JPG"/>
            <p:cNvPicPr/>
            <p:nvPr/>
          </p:nvPicPr>
          <p:blipFill>
            <a:blip r:embed="rId3"/>
            <a:stretch/>
          </p:blipFill>
          <p:spPr>
            <a:xfrm>
              <a:off x="250920" y="5929200"/>
              <a:ext cx="8416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1 Imagen" descr="Logo Sector Fiscalidad.bmp"/>
            <p:cNvPicPr/>
            <p:nvPr/>
          </p:nvPicPr>
          <p:blipFill>
            <a:blip r:embed="rId4"/>
            <a:stretch/>
          </p:blipFill>
          <p:spPr>
            <a:xfrm>
              <a:off x="1173600" y="5929200"/>
              <a:ext cx="1742760" cy="7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10 Imagen" descr="logo final Ministerio de HAcienda-01"/>
          <p:cNvPicPr/>
          <p:nvPr/>
        </p:nvPicPr>
        <p:blipFill>
          <a:blip r:embed="rId5"/>
          <a:stretch/>
        </p:blipFill>
        <p:spPr>
          <a:xfrm>
            <a:off x="539640" y="404640"/>
            <a:ext cx="21052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28760" y="1142640"/>
            <a:ext cx="82152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dicionalmente se cuenta con los CE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tención de consultas telefónicas.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http://196.40.56.21:8080/KB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tención de consultas escrit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Tutoriales.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http://www.youtube.com/watch?v=9ggxIPWmpSk&amp;feature=youtu.b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Guías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paso a paso. </a:t>
            </a:r>
            <a:r>
              <a:rPr b="0" lang="es-ES" sz="1600" spc="-1" strike="noStrike">
                <a:solidFill>
                  <a:srgbClr val="2b4a76"/>
                </a:solidFill>
                <a:latin typeface="Garamond"/>
              </a:rPr>
              <a:t>http://www.youtube.com/watch?v=_VVO04W2r5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34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http://www.divorciosporinternet.com/images/stories/consultas-telefonicas.jpg"/>
          <p:cNvPicPr/>
          <p:nvPr/>
        </p:nvPicPr>
        <p:blipFill>
          <a:blip r:embed="rId4"/>
          <a:stretch/>
        </p:blipFill>
        <p:spPr>
          <a:xfrm>
            <a:off x="6715080" y="1571760"/>
            <a:ext cx="16812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ágina Web de la DG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tación Direc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tación Digit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N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2 Título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40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4"/>
          <a:stretch/>
        </p:blipFill>
        <p:spPr>
          <a:xfrm>
            <a:off x="5000760" y="1928880"/>
            <a:ext cx="3647880" cy="2071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5"/>
          <a:stretch/>
        </p:blipFill>
        <p:spPr>
          <a:xfrm>
            <a:off x="5143680" y="4714920"/>
            <a:ext cx="175716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6"/>
          <a:srcRect l="10528" t="5339" r="10528" b="9626"/>
          <a:stretch/>
        </p:blipFill>
        <p:spPr>
          <a:xfrm>
            <a:off x="7215120" y="4357800"/>
            <a:ext cx="1214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Dirección de Grandes Contribuyen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Direcciones Regiona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Resto de Contribuyen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47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4"/>
          <a:stretch/>
        </p:blipFill>
        <p:spPr>
          <a:xfrm>
            <a:off x="4357800" y="3571920"/>
            <a:ext cx="4203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Rotación continua del personal de asistenc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Funcionarios host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ersonal se limita únicamente a realizar el trámit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Falta de uniformidad en las respuestas a las consult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Mala atención telefó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3256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52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86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4"/>
          <a:stretch/>
        </p:blipFill>
        <p:spPr>
          <a:xfrm>
            <a:off x="2000160" y="1643040"/>
            <a:ext cx="54849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394" name="1 Título" descr=""/>
          <p:cNvPicPr/>
          <p:nvPr/>
        </p:nvPicPr>
        <p:blipFill>
          <a:blip r:embed="rId4"/>
          <a:stretch/>
        </p:blipFill>
        <p:spPr>
          <a:xfrm>
            <a:off x="500040" y="1285920"/>
            <a:ext cx="8229600" cy="981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5"/>
          <a:stretch/>
        </p:blipFill>
        <p:spPr>
          <a:xfrm>
            <a:off x="2143080" y="2571840"/>
            <a:ext cx="5000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97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1176480" y="1290600"/>
            <a:ext cx="6791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02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4"/>
          <a:stretch/>
        </p:blipFill>
        <p:spPr>
          <a:xfrm>
            <a:off x="1357200" y="1214280"/>
            <a:ext cx="65865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07" name="1 Título" descr=""/>
          <p:cNvPicPr/>
          <p:nvPr/>
        </p:nvPicPr>
        <p:blipFill>
          <a:blip r:embed="rId2"/>
          <a:stretch/>
        </p:blipFill>
        <p:spPr>
          <a:xfrm>
            <a:off x="426960" y="48096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642600" y="2060640"/>
            <a:ext cx="7929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464646"/>
                </a:solidFill>
                <a:latin typeface="Garamond"/>
              </a:rPr>
              <a:t>Dirección fun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Lineamiento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Directrices           A nivel nacion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Instruccion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464646"/>
                </a:solidFill>
                <a:latin typeface="Garamond"/>
              </a:rPr>
              <a:t>Direcciones operativa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464646"/>
                </a:solidFill>
                <a:latin typeface="Garamond"/>
              </a:rPr>
              <a:t>Administraciones tributarias            atención de contribuyen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411" name="8 Cerrar llave"/>
          <p:cNvSpPr/>
          <p:nvPr/>
        </p:nvSpPr>
        <p:spPr>
          <a:xfrm>
            <a:off x="3132000" y="2708280"/>
            <a:ext cx="144720" cy="865080"/>
          </a:xfrm>
          <a:custGeom>
            <a:avLst/>
            <a:gdLst>
              <a:gd name="textAreaLeft" fmla="*/ 0 w 144720"/>
              <a:gd name="textAreaRight" fmla="*/ 52200 w 144720"/>
              <a:gd name="textAreaTop" fmla="*/ 3600 h 865080"/>
              <a:gd name="textAreaBottom" fmla="*/ 8614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"/>
                  <a:pt x="10800" y="301"/>
                </a:cubicBezTo>
                <a:lnTo>
                  <a:pt x="10800" y="10499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1"/>
                  <a:pt x="10800" y="11101"/>
                </a:cubicBezTo>
                <a:lnTo>
                  <a:pt x="10800" y="21299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da1f28"/>
              </a:gs>
              <a:gs pos="100000">
                <a:srgbClr val="dfeff6"/>
              </a:gs>
            </a:gsLst>
            <a:lin ang="16200000"/>
          </a:gradFill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lecha derecha"/>
          <p:cNvSpPr/>
          <p:nvPr/>
        </p:nvSpPr>
        <p:spPr>
          <a:xfrm>
            <a:off x="4859280" y="4724280"/>
            <a:ext cx="433440" cy="46080"/>
          </a:xfrm>
          <a:prstGeom prst="rightArrow">
            <a:avLst>
              <a:gd name="adj1" fmla="val 50000"/>
              <a:gd name="adj2" fmla="val 49949"/>
            </a:avLst>
          </a:prstGeom>
          <a:gradFill rotWithShape="0">
            <a:gsLst>
              <a:gs pos="0">
                <a:srgbClr val="da1f28"/>
              </a:gs>
              <a:gs pos="100000">
                <a:srgbClr val="dfeff6"/>
              </a:gs>
            </a:gsLst>
            <a:lin ang="162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14" name="1 Título" descr=""/>
          <p:cNvPicPr/>
          <p:nvPr/>
        </p:nvPicPr>
        <p:blipFill>
          <a:blip r:embed="rId2"/>
          <a:stretch/>
        </p:blipFill>
        <p:spPr>
          <a:xfrm>
            <a:off x="426960" y="54936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42600" y="1785960"/>
            <a:ext cx="7929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Educación fis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Información y asistencia al contribuy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Envió de comunicados a colegios y cámar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Realización de charlas y talle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Pantallas interactiv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Administración de can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8101080" y="5661000"/>
            <a:ext cx="780840" cy="855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610920" y="2021040"/>
            <a:ext cx="482436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64646"/>
                </a:solidFill>
                <a:latin typeface="Garamond"/>
              </a:rPr>
              <a:t>Ventanilla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Tramites del R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Recepción de solicitudes de peti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Atención de consul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estados de cuen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programas de ayu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material divulga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Constancias y certificaci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1 Título" descr=""/>
          <p:cNvPicPr/>
          <p:nvPr/>
        </p:nvPicPr>
        <p:blipFill>
          <a:blip r:embed="rId2"/>
          <a:stretch/>
        </p:blipFill>
        <p:spPr>
          <a:xfrm>
            <a:off x="426960" y="48096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8"/>
          <p:cNvSpPr/>
          <p:nvPr/>
        </p:nvSpPr>
        <p:spPr>
          <a:xfrm>
            <a:off x="214200" y="6429240"/>
            <a:ext cx="23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7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800840" y="189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C:\Users\Ana Lorena Avalos\Downloads\Plataforma de servicio San José.jpg"/>
          <p:cNvPicPr/>
          <p:nvPr/>
        </p:nvPicPr>
        <p:blipFill>
          <a:blip r:embed="rId4"/>
          <a:stretch/>
        </p:blipFill>
        <p:spPr>
          <a:xfrm>
            <a:off x="5911920" y="1940040"/>
            <a:ext cx="2560680" cy="1920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C:\Users\Ana Lorena Avalos\Downloads\Area de servicios Zona Norte.JPG"/>
          <p:cNvPicPr/>
          <p:nvPr/>
        </p:nvPicPr>
        <p:blipFill>
          <a:blip r:embed="rId5"/>
          <a:stretch/>
        </p:blipFill>
        <p:spPr>
          <a:xfrm>
            <a:off x="5911920" y="4049640"/>
            <a:ext cx="2558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6840" y="1480680"/>
            <a:ext cx="447516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Quioscos tributa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Inscripción electróni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Presentación electrónica de declaraci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Pago electrónico de declaraci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Consulta del Sistema de Información Tributaria (SI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2 Título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28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C:\Users\Ana Lorena Avalos\Downloads\Quiosco Puntarenas.jpg"/>
          <p:cNvPicPr/>
          <p:nvPr/>
        </p:nvPicPr>
        <p:blipFill>
          <a:blip r:embed="rId4"/>
          <a:stretch/>
        </p:blipFill>
        <p:spPr>
          <a:xfrm>
            <a:off x="5724360" y="1916280"/>
            <a:ext cx="2592720" cy="194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Users\Ana Lorena Avalos\Downloads\Quiosco Zona Norte.jpg"/>
          <p:cNvPicPr/>
          <p:nvPr/>
        </p:nvPicPr>
        <p:blipFill>
          <a:blip r:embed="rId5"/>
          <a:stretch/>
        </p:blipFill>
        <p:spPr>
          <a:xfrm>
            <a:off x="5724360" y="4000680"/>
            <a:ext cx="26146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6:27:40Z</dcterms:created>
  <dc:creator>molinavca</dc:creator>
  <dc:description/>
  <dc:language>en-US</dc:language>
  <cp:lastModifiedBy> </cp:lastModifiedBy>
  <dcterms:modified xsi:type="dcterms:W3CDTF">2013-10-18T08:04:52Z</dcterms:modified>
  <cp:revision>238</cp:revision>
  <dc:subject/>
  <dc:title>Diapositiva 1</dc:title>
</cp:coreProperties>
</file>